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.jpeg" ContentType="image/jpeg"/>
  <Override PartName="/ppt/media/image3.wmf" ContentType="image/x-wmf"/>
  <Override PartName="/ppt/media/image1.jpeg" ContentType="image/jpeg"/>
  <Override PartName="/ppt/media/image4.gif" ContentType="image/gif"/>
  <Override PartName="/ppt/media/chimes.wav" ContentType="audio/x-wav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5.gif" ContentType="image/gif"/>
  <Override PartName="/ppt/media/image9.png" ContentType="image/png"/>
  <Override PartName="/ppt/media/image7.gif" ContentType="image/gif"/>
  <Override PartName="/ppt/media/image8.gif" ContentType="image/gi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557-6539-4EE1-9803-F8DCF0B5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D0B-176E-456D-982B-D9E621C6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E21-5A5D-468E-9F46-46ED5801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1FF-11E0-4419-8DD5-04C5091D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3CB-7202-4BE4-BCB9-4BAAABCD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2D9-2781-4F79-9BD6-B9F8DD0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E67-4FA1-41C9-BE76-1FE12317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2DEB-9A98-4374-A9D3-9ED6C433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9FA-26D0-44A1-B0B8-0E1BC18E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80F6-6C5D-40DC-9826-FB312BC4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7DD0-12CA-4425-A883-1A098AA6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39A-F95F-4CB5-BC33-D255EAD3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5149-13A8-4905-8248-96B61A3561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wmf"/><Relationship Id="rId10" Type="http://schemas.openxmlformats.org/officeDocument/2006/relationships/slide" Target="slide1.xml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孩子数星星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 rot="470400">
            <a:off x="1752480" y="762120"/>
            <a:ext cx="198144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652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繁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652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652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652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星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652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Text Box 4"/>
          <p:cNvSpPr/>
          <p:nvPr/>
        </p:nvSpPr>
        <p:spPr>
          <a:xfrm rot="21540000">
            <a:off x="2808000" y="5560920"/>
            <a:ext cx="601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花边"/>
          <p:cNvPicPr/>
          <p:nvPr/>
        </p:nvPicPr>
        <p:blipFill>
          <a:blip r:embed="rId2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200472819533462"/>
          <p:cNvPicPr/>
          <p:nvPr/>
        </p:nvPicPr>
        <p:blipFill>
          <a:blip r:embed="rId3"/>
          <a:stretch/>
        </p:blipFill>
        <p:spPr>
          <a:xfrm>
            <a:off x="0" y="612612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457200" y="6858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第二节找出描写观看星天的宁静环境的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533520" y="22860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什么星光微小，作者却觉得“光明无处不在”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533520" y="396252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因为当时作者很年轻，充满幻想，充满朝气！所以，他在微小的星光中，觉得光明无处不在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472819572579"/>
          <p:cNvPicPr/>
          <p:nvPr/>
        </p:nvPicPr>
        <p:blipFill>
          <a:blip r:embed="rId2"/>
          <a:stretch/>
        </p:blipFill>
        <p:spPr>
          <a:xfrm>
            <a:off x="179280" y="6093000"/>
            <a:ext cx="8964720" cy="647640"/>
          </a:xfrm>
          <a:prstGeom prst="rect">
            <a:avLst/>
          </a:prstGeom>
          <a:ln w="0">
            <a:noFill/>
          </a:ln>
        </p:spPr>
      </p:pic>
      <p:sp>
        <p:nvSpPr>
          <p:cNvPr id="112" name="WordArt 3"/>
          <p:cNvSpPr txBox="1"/>
          <p:nvPr/>
        </p:nvSpPr>
        <p:spPr>
          <a:xfrm>
            <a:off x="2362320" y="380880"/>
            <a:ext cx="4876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重点研读   品味赏析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57200" y="1447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出最能表明“我把它们认得很熟　　　了”的句子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666880" y="2590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七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80880"/>
            <a:ext cx="830592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否将“每晚和繁星相对”换成“每晚观看繁星”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悬”能否改成“挂”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533520" y="14479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不能，“相对”强调的是互相看，可见我和星星的熟悉，而“观看”只是指一方对着另一方，不能突出与星星的熟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4038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不能．“悬着”更加生动形象的写出了星星在天空的情态，表现了星星之多，和星星的距离近，若改成“挂”（或其他词语）显得没有生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200472819572579"/>
          <p:cNvPicPr/>
          <p:nvPr/>
        </p:nvPicPr>
        <p:blipFill>
          <a:blip r:embed="rId2"/>
          <a:stretch/>
        </p:blipFill>
        <p:spPr>
          <a:xfrm>
            <a:off x="179280" y="6093000"/>
            <a:ext cx="8964720" cy="647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04920" y="11430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章多处运用修辞手法，请举出　　例子，并分析其作用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04920" y="220968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例：比喻。如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渐渐地我的眼睛模糊了，我好象看见无数萤火虫在我的周围飞舞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将“我的眼睛模糊时所见的无数星星摇摇欲坠的情态，比作无数萤火虫在我的周围飞舞十分生动形象，富有情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200472819572579"/>
          <p:cNvPicPr/>
          <p:nvPr/>
        </p:nvPicPr>
        <p:blipFill>
          <a:blip r:embed="rId2"/>
          <a:stretch/>
        </p:blipFill>
        <p:spPr>
          <a:xfrm>
            <a:off x="0" y="2895480"/>
            <a:ext cx="8964720" cy="228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0" y="91440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拟人：“我望着……小声说话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这样写，将“我”与大自然融为一体，命笔含情，追求意境，使人如临其境，如闻其声，如萌其情，产生无穷的遐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3200400"/>
            <a:ext cx="8839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排比：“海上的夜……”这句话依次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触觉，听觉和幻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角度描写海上之夜令“我”产生的种种美感。它们由表及里，由浅入深，一气呵成，充分渲染了海上之夜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柔美、静谧和奇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使读者受到强烈的感染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00472819572579"/>
          <p:cNvPicPr/>
          <p:nvPr/>
        </p:nvPicPr>
        <p:blipFill>
          <a:blip r:embed="rId2"/>
          <a:stretch/>
        </p:blipFill>
        <p:spPr>
          <a:xfrm>
            <a:off x="179280" y="6093000"/>
            <a:ext cx="8964720" cy="647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80880" y="152388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觉得自己是一个小孩子，为什么用“觉得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因为自己已经不是小孩子，只是感觉上回到了童年，所以用“觉得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915840" y="380880"/>
            <a:ext cx="685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生齐读第四段思考下列问题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533520" y="1143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那个巨人在跑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04920" y="1905120"/>
            <a:ext cx="8381880" cy="32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１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字，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２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字，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３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那个巨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指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４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会觉得那个巨人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还在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472819572579"/>
          <p:cNvPicPr/>
          <p:nvPr/>
        </p:nvPicPr>
        <p:blipFill>
          <a:blip r:embed="rId2"/>
          <a:stretch/>
        </p:blipFill>
        <p:spPr>
          <a:xfrm>
            <a:off x="0" y="457200"/>
            <a:ext cx="8964720" cy="6476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76320" y="1295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【１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“看”字，呼唤读者，感情上与读者直接交流，更能引人注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0" y="2819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【２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“呢”字，表示动作正在继续，显得更加生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280" y="40384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【３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那个巨人指巨人星座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45720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【４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（１）那个星座的形状象巨人在跑（２）船在海上航行，上下晃动，上文提到过“船在动，星也在动”所以会觉得那个巨人星座也在跑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</a:rPr>
              <a:t>比较你看繁星的感受与巴金的感受有什么不同？为什么有这样的不同？你从中得到什么启示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WordArt 3" descr="weave"/>
          <p:cNvPicPr/>
          <p:nvPr/>
        </p:nvPicPr>
        <p:blipFill>
          <a:blip r:embed="rId2"/>
          <a:stretch/>
        </p:blipFill>
        <p:spPr>
          <a:xfrm>
            <a:off x="596880" y="212760"/>
            <a:ext cx="38894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Arial"/>
              </a:rPr>
              <a:t>课堂达标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辨字组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cc00cc"/>
                </a:solidFill>
                <a:latin typeface="Arial"/>
              </a:rPr>
              <a:t>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读课文第三段，回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80880" y="3657600"/>
            <a:ext cx="876312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根据文意，解释“半昧”的“昧”：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感到星星“摇摇欲坠”是因为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最能表现“我把他们认得很熟了”的句子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母亲的怀里”是一个比喻，比喻的是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者感到“那个巨人在跑”，是因为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3"/>
          <p:cNvSpPr/>
          <p:nvPr/>
        </p:nvSpPr>
        <p:spPr>
          <a:xfrm>
            <a:off x="1042920" y="0"/>
            <a:ext cx="0" cy="6858000"/>
          </a:xfrm>
          <a:prstGeom prst="line">
            <a:avLst/>
          </a:prstGeom>
          <a:ln w="7632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4"/>
          <p:cNvGraphicFramePr/>
          <p:nvPr/>
        </p:nvGraphicFramePr>
        <p:xfrm>
          <a:off x="4514760" y="4000680"/>
          <a:ext cx="114480" cy="17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14760" y="4000680"/>
                    <a:ext cx="11448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5"/>
          <p:cNvGraphicFramePr/>
          <p:nvPr/>
        </p:nvGraphicFramePr>
        <p:xfrm>
          <a:off x="4514760" y="4000680"/>
          <a:ext cx="114480" cy="177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14760" y="4000680"/>
                    <a:ext cx="11448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6"/>
          <p:cNvGraphicFramePr/>
          <p:nvPr/>
        </p:nvGraphicFramePr>
        <p:xfrm>
          <a:off x="4514760" y="4000680"/>
          <a:ext cx="114480" cy="177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14760" y="4000680"/>
                    <a:ext cx="11448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4514760" y="4000680"/>
          <a:ext cx="114480" cy="17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14760" y="4000680"/>
                    <a:ext cx="114480" cy="17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200481823114362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187280" y="5950080"/>
            <a:ext cx="7010640" cy="514080"/>
          </a:xfrm>
          <a:prstGeom prst="rect">
            <a:avLst/>
          </a:prstGeom>
          <a:ln w="0">
            <a:noFill/>
          </a:ln>
        </p:spPr>
      </p:pic>
      <p:sp>
        <p:nvSpPr>
          <p:cNvPr id="55" name="WordArt 9"/>
          <p:cNvSpPr txBox="1"/>
          <p:nvPr/>
        </p:nvSpPr>
        <p:spPr>
          <a:xfrm>
            <a:off x="1219320" y="30492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走近作者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990720" y="1600200"/>
            <a:ext cx="78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文作者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巴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原名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李尧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芾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现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说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散文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代表作有：长篇小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《爱情三部曲》《雾》《雨》《电》，《激流三部曲》《家》《春》《秋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2"/>
          <p:cNvSpPr txBox="1"/>
          <p:nvPr/>
        </p:nvSpPr>
        <p:spPr>
          <a:xfrm rot="21540000">
            <a:off x="1294920" y="1599840"/>
            <a:ext cx="6477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3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华文行楷"/>
              </a:rPr>
              <a:t>生活中不是缺少美，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华文行楷"/>
              </a:rPr>
              <a:t>而是缺少发现！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135080" y="4840200"/>
            <a:ext cx="7018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WordArt 4" descr=""/>
          <p:cNvPicPr/>
          <p:nvPr/>
        </p:nvPicPr>
        <p:blipFill>
          <a:blip r:embed="rId7"/>
          <a:stretch/>
        </p:blipFill>
        <p:spPr>
          <a:xfrm>
            <a:off x="2060640" y="3693960"/>
            <a:ext cx="565128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135160" y="45720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</a:rPr>
              <a:t>给下列加横线的字注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00472819572579"/>
          <p:cNvPicPr/>
          <p:nvPr/>
        </p:nvPicPr>
        <p:blipFill>
          <a:blip r:embed="rId2"/>
          <a:stretch/>
        </p:blipFill>
        <p:spPr>
          <a:xfrm>
            <a:off x="179280" y="6093000"/>
            <a:ext cx="8964720" cy="647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80880" y="1981080"/>
            <a:ext cx="7772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舱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    面    摇摇欲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坠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霎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眼　半明半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219320" y="20574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cā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934320" y="1981080"/>
            <a:ext cx="144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zh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371600" y="327672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sh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781680" y="320040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mè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77760" y="609480"/>
            <a:ext cx="906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初读课文，思考下列问题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04920" y="16002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本文是按什么顺序写的？从哪些地方可以看出来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609480" y="4191120"/>
            <a:ext cx="3429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时间顺序：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57200" y="541008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前　　三年前　　如今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1" descr="biaoge"/>
          <p:cNvPicPr/>
          <p:nvPr/>
        </p:nvPicPr>
        <p:blipFill>
          <a:blip r:embed="rId2"/>
          <a:stretch/>
        </p:blipFill>
        <p:spPr>
          <a:xfrm>
            <a:off x="755640" y="2133720"/>
            <a:ext cx="7848720" cy="3446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115640" y="620280"/>
            <a:ext cx="705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再读课文，说出作者三次看繁星的时间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地点，找出三次看星的情景和感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0"/>
          <p:cNvSpPr/>
          <p:nvPr/>
        </p:nvSpPr>
        <p:spPr>
          <a:xfrm>
            <a:off x="971640" y="299736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从前      家乡       密密麻麻的繁星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2"/>
          <p:cNvSpPr/>
          <p:nvPr/>
        </p:nvSpPr>
        <p:spPr>
          <a:xfrm>
            <a:off x="5292720" y="2997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仿佛回到了母亲的怀里似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3"/>
          <p:cNvSpPr/>
          <p:nvPr/>
        </p:nvSpPr>
        <p:spPr>
          <a:xfrm>
            <a:off x="755640" y="3789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三年前   南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4"/>
          <p:cNvSpPr/>
          <p:nvPr/>
        </p:nvSpPr>
        <p:spPr>
          <a:xfrm>
            <a:off x="2666880" y="38862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5"/>
          <p:cNvSpPr/>
          <p:nvPr/>
        </p:nvSpPr>
        <p:spPr>
          <a:xfrm>
            <a:off x="2484360" y="3573360"/>
            <a:ext cx="2590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静寂的夜，一片菜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星群密布的蓝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6"/>
          <p:cNvSpPr/>
          <p:nvPr/>
        </p:nvSpPr>
        <p:spPr>
          <a:xfrm>
            <a:off x="525780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它们常常在和我谈话一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7"/>
          <p:cNvSpPr/>
          <p:nvPr/>
        </p:nvSpPr>
        <p:spPr>
          <a:xfrm>
            <a:off x="900000" y="47973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如今       海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9"/>
          <p:cNvSpPr/>
          <p:nvPr/>
        </p:nvSpPr>
        <p:spPr>
          <a:xfrm>
            <a:off x="2556000" y="4653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深蓝色的天空里悬着无数半明半昧的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0"/>
          <p:cNvSpPr/>
          <p:nvPr/>
        </p:nvSpPr>
        <p:spPr>
          <a:xfrm>
            <a:off x="5219640" y="4724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睡在母亲的怀里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2692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四）、深入研究三次写观星感受句子的含义和所表达的情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从前——望着星天，我就会忘记一切……回到了母亲怀里似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达了作者望星天产生的甜蜜、温馨之感和依恋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好象它们就是我的朋友，它们常常在和我谈话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达了作者与星星亲密、投机的伙伴之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Arial"/>
              </a:rPr>
              <a:t>我望着那许多认识的星……我仿佛听见它们在小声说话。……现在睡在母亲的怀里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出了海上看星的无比舒心、安详和陶醉的感受，以及与星星的知心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9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ifbj061"/>
          <p:cNvPicPr/>
          <p:nvPr/>
        </p:nvPicPr>
        <p:blipFill>
          <a:blip r:embed="rId2"/>
          <a:stretch/>
        </p:blipFill>
        <p:spPr>
          <a:xfrm>
            <a:off x="0" y="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200472819569130"/>
          <p:cNvPicPr/>
          <p:nvPr/>
        </p:nvPicPr>
        <p:blipFill>
          <a:blip r:embed="rId3"/>
          <a:stretch/>
        </p:blipFill>
        <p:spPr>
          <a:xfrm>
            <a:off x="152280" y="6496200"/>
            <a:ext cx="8991720" cy="361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304920" y="60948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从文中画出作者三次看繁星的时间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感受，完成下面的表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2362320"/>
          <a:ext cx="8053560" cy="2773080"/>
        </p:xfrm>
        <a:graphic>
          <a:graphicData uri="http://schemas.openxmlformats.org/drawingml/2006/table">
            <a:tbl>
              <a:tblPr/>
              <a:tblGrid>
                <a:gridCol w="1271520"/>
                <a:gridCol w="1166760"/>
                <a:gridCol w="1524240"/>
                <a:gridCol w="1904760"/>
                <a:gridCol w="21862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　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　受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侧重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37"/>
          <p:cNvSpPr/>
          <p:nvPr/>
        </p:nvSpPr>
        <p:spPr>
          <a:xfrm>
            <a:off x="17524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　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8"/>
          <p:cNvSpPr/>
          <p:nvPr/>
        </p:nvSpPr>
        <p:spPr>
          <a:xfrm>
            <a:off x="1676520" y="3809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年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1676520" y="4419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一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2971800" y="3124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庭  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1"/>
          <p:cNvSpPr/>
          <p:nvPr/>
        </p:nvSpPr>
        <p:spPr>
          <a:xfrm>
            <a:off x="297180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菜  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2"/>
          <p:cNvSpPr/>
          <p:nvPr/>
        </p:nvSpPr>
        <p:spPr>
          <a:xfrm>
            <a:off x="3048120" y="4572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海  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3"/>
          <p:cNvSpPr/>
          <p:nvPr/>
        </p:nvSpPr>
        <p:spPr>
          <a:xfrm>
            <a:off x="4419720" y="31240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甜蜜　温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4"/>
          <p:cNvSpPr/>
          <p:nvPr/>
        </p:nvSpPr>
        <p:spPr>
          <a:xfrm>
            <a:off x="434340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亲密　投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441972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惬意　信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6"/>
          <p:cNvSpPr/>
          <p:nvPr/>
        </p:nvSpPr>
        <p:spPr>
          <a:xfrm>
            <a:off x="6705720" y="3124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依恋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670572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伙伴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2743200" y="57913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6781680" y="4572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知心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gifbj061"/>
          <p:cNvPicPr/>
          <p:nvPr/>
        </p:nvPicPr>
        <p:blipFill>
          <a:blip r:embed="rId2"/>
          <a:stretch/>
        </p:blipFill>
        <p:spPr>
          <a:xfrm>
            <a:off x="0" y="0"/>
            <a:ext cx="2514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200472819569130"/>
          <p:cNvPicPr/>
          <p:nvPr/>
        </p:nvPicPr>
        <p:blipFill>
          <a:blip r:embed="rId3"/>
          <a:stretch/>
        </p:blipFill>
        <p:spPr>
          <a:xfrm>
            <a:off x="152280" y="6496200"/>
            <a:ext cx="8991720" cy="361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228600" y="152388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次看星星，集中看出作者什么样的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33526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表达了作者对繁星的热爱，对光明的追求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花边"/>
          <p:cNvPicPr/>
          <p:nvPr/>
        </p:nvPicPr>
        <p:blipFill>
          <a:blip r:embed="rId2"/>
          <a:stretch/>
        </p:blipFill>
        <p:spPr>
          <a:xfrm>
            <a:off x="22320" y="0"/>
            <a:ext cx="9121680" cy="60012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609480" y="838080"/>
            <a:ext cx="47246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行楷"/>
              </a:rPr>
              <a:t>精读探究　领会感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0" y="167652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第一节，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80880" y="2438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首句“我爱月夜，但我也爱星天”一句有何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04920" y="373392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表露作者对大自然的热爱之情，也为下句写我爱繁星做铺垫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6T06:17:20Z</dcterms:modified>
  <cp:revision>0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