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12B-3978-4B67-B2A1-198ECBE2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029-C64C-451E-A17C-0D324ED6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AB5-C18A-42D3-9DFA-6845A384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09B-F32C-435E-B51F-3C894ADE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938-4494-4F4A-AE92-ED0207B1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B14-AF5B-4B5F-897C-45388196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041-3391-4D62-8EBE-095D4E51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063-D878-4E19-900F-18FA4563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76F-52E0-40A8-BA2E-E1B8D6E7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34C-352D-4943-A217-4184C3FD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B83-F2DE-46A7-B982-3D5C8A13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BC6-F5A9-447B-AD39-3E1A59E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B45E-0B5B-4C36-884E-74C37FBBC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23884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238880" cy="464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2560" y="2209680"/>
            <a:ext cx="789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豌豆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52480" y="106668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还有两颗懒洋洋地说，他们滚到哪儿，就在哪儿睡一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342900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最小的一颗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19320" y="144792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他想了想，说：“我可不想飞到太阳里去，也不想跑得很远很远，当然，也不能光想着睡觉哇。我要是能为大家做点儿事，就高兴了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颗豌豆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心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大的一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要到很远很远的地方去，谁也追不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二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要到太阳里去，那才神气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还有两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懒洋洋地说，滚到哪儿，就在哪儿睡一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小的一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豌豆想了想说：“我要是能给人家做件好事，我就高兴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探究感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7280" y="1700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颗小豌豆的心愿与其他几颗豌豆有什么不同？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383292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c80a00"/>
                </a:solidFill>
                <a:latin typeface="Arial"/>
                <a:ea typeface="黑体"/>
              </a:rPr>
              <a:t>四颗较大的豌豆都是为自己着想，而小豌豆一心想为大家做点儿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1871640" cy="11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600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小房子打开后五颗豌豆怎么样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971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楷体_GB2312"/>
              </a:rPr>
              <a:t>小姑娘的病那样重，怎么好起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窗台上的一条缝隙里，有点儿泥巴，上面还有些青苔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9" dur="1" fill="hold"/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是怎样的一个小姑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Arial"/>
              </a:rPr>
              <a:t>病得很厉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Arial"/>
              </a:rPr>
              <a:t>她在床上躺了一年多了，连坐也坐不起来。脸瘦瘦的，黄黄的。全身一点力气也没有。妈妈以为她快要死了。多可怜的小姑娘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7760" y="2637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676520"/>
          <a:ext cx="8785440" cy="4098960"/>
        </p:xfrm>
        <a:graphic>
          <a:graphicData uri="http://schemas.openxmlformats.org/drawingml/2006/table">
            <a:tbl>
              <a:tblPr/>
              <a:tblGrid>
                <a:gridCol w="3888000"/>
                <a:gridCol w="489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652f"/>
                          </a:solidFill>
                          <a:latin typeface="Arial"/>
                        </a:rPr>
                        <a:t>小豌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652f"/>
                          </a:solidFill>
                          <a:latin typeface="Arial"/>
                        </a:rPr>
                        <a:t>小姑娘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出新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往上爬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猛劲儿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花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豌豆是如何治好小姑娘的病的？再次默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2~1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，完成表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2514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心里很高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6507000"/>
            <a:ext cx="5715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55480" y="32767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床移到窗边，看得更清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962520"/>
            <a:ext cx="4113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脸色好多了，能自己坐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个钟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6477120"/>
            <a:ext cx="3581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3520" y="51865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站了起来，身体好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想一想，说一说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00cc00"/>
                </a:solidFill>
                <a:latin typeface="Arial"/>
              </a:rPr>
              <a:t>如果你是小姑娘，你想对小豌豆说些什么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05280" y="1447560"/>
            <a:ext cx="94489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想为大家做点事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豌豆：长出叶子   猛劲儿长   开花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姑娘：叫起来       坐起来      站起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非常高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1337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3240" y="198108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做好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520" y="1447920"/>
            <a:ext cx="667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颗小豌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16765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6765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76200" y="1905120"/>
            <a:ext cx="667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助人为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54200" y="0"/>
            <a:ext cx="7489800" cy="681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2160" y="23796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80a00"/>
                </a:solidFill>
                <a:latin typeface="Arial"/>
              </a:rPr>
              <a:t>豌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一说，悟一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你喜欢这颗小豌豆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你喜欢小姑娘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想象一下其他的四颗小豌豆又会发生什么故事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90920" y="24382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  <a:ea typeface="楷体_GB2312"/>
              </a:rPr>
              <a:t>一颗小豌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默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，标出自然段，划出二类生字词，并多读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想一想，课文讲了一颗小豌豆什么样的故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1600" y="2057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057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0574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2057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wā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1295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f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1295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shò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2952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y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6483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4648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4648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6576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pē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37339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l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ch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60400" y="1620720"/>
            <a:ext cx="2506680" cy="2200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727600" y="4051440"/>
            <a:ext cx="2654280" cy="2328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841400" y="4054320"/>
            <a:ext cx="2578320" cy="226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575320" y="1697040"/>
            <a:ext cx="2502000" cy="219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52480" y="198108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绿莹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42670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滴溜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343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笑吟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20574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懒洋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763640" cy="1341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843280" y="260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楷体_GB2312"/>
              </a:rPr>
              <a:t>词语花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40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黑体"/>
              </a:rPr>
              <a:t>课文讲了一颗小豌豆什么样的故事，请你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25909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课文讲述了一颗小豌豆帮助一个得了病重的小姑娘身体得到康复，实现了它做好事的心愿，这样的一个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一说五颗豌豆各有什么样的心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最赞同哪颗豌豆的观点？为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838080"/>
            <a:ext cx="7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80880" y="838080"/>
            <a:ext cx="9754920" cy="2129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由朗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-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然段，说一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颗豌豆各有什么心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最赞同哪颗豌豆的观点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00200" y="11430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楷体_GB2312"/>
              </a:rPr>
              <a:t>最大的一颗说，他要跑到很远很远的地方去，谁也追不上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4290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第二颗说，他要飞到太阳里去，那才神气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05T22:28:46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