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0CD-3711-416D-9011-8620863A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D78-2A4F-4926-B443-2642F69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54B-58B9-4B0D-8CA1-070450E6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7FC-3F56-46CD-8EA6-3A414E46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32F-AD21-4E92-8138-E6526DA6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763-145B-42CB-ADB0-FD1AE2B3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AC0-C1DE-441E-96E8-04347AE1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999-FBE7-49C3-AB27-BA98DF5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11D-8F17-4EB8-8AD6-2048BD54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B61-AA04-4740-A663-CF651AD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D52-BEF7-4E9E-9C48-D9DDF925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1F3-0916-40D1-A573-BBC0CBB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62CD-D462-4AEA-9AEF-4E54E8D720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6553080" cy="5051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5280" y="3049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沧海日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28920" y="1824120"/>
            <a:ext cx="42861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04920"/>
            <a:ext cx="8915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主预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熟读课文，了解课文主要写了什么，用几句话概括一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了课文，说说沧海日出“美”在哪里，“壮观”在哪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中有几处使用了修辞方法的句子，试试看，在书上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从第四自然段开始到“一下子就布满了耀眼的金光”这部分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533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读了课文，说说沧海日出“美”在哪里，“壮观”在哪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wei</cp:lastModifiedBy>
  <dcterms:modified xsi:type="dcterms:W3CDTF">2011-12-26T04:46:5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