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E63-D7F9-4B32-B223-3764996B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BD6-417F-4E0C-A141-AB27377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778-C9D5-4A9C-875C-299F9AE7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E68-3AA7-46BB-BD37-DD1BC3F8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5D5-62F5-44E3-BA48-571DAE8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175-2ABC-4186-9323-94254983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6E6-9054-48CE-BEC3-6A938A01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F79-2A59-40C7-BEE5-5FD0D257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6D3-945E-4677-B349-1AD08074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4B0D-634F-447F-A5EA-7ED59D24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8D4-B5CB-4ED9-B08F-4348C6F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1CD0-488E-4ED0-AB6E-40AA577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68F0-7D7A-40D8-8A9A-EBF533F81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4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486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549360"/>
            <a:ext cx="806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333399"/>
                </a:solidFill>
                <a:latin typeface="Arial"/>
                <a:ea typeface="方正姚体简体"/>
              </a:rPr>
              <a:t>迟到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0"/>
            <a:ext cx="60674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（北师大版）五年级语文上册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65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435640" y="1700280"/>
            <a:ext cx="370836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父亲的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是风雪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温暖的怀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765680" cy="5975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4842000"/>
            <a:ext cx="748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父亲的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是宽厚的肩膀，承载了我的一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5905440" cy="43117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828720" y="4005360"/>
            <a:ext cx="525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父亲的爱是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父亲的爱是在我犯错时真心的提醒和严厉的责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684360" y="1844640"/>
            <a:ext cx="853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父亲的爱是风雪中温暖的怀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852640"/>
            <a:ext cx="7488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父亲的爱是宽厚的肩膀，承载了我的一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3600720" cy="525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0" t="0" r="0" b="27160"/>
          <a:stretch/>
        </p:blipFill>
        <p:spPr>
          <a:xfrm>
            <a:off x="4859280" y="1413000"/>
            <a:ext cx="3598920" cy="3671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16000" y="18900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92fd5"/>
                </a:solidFill>
                <a:latin typeface="华文楷体"/>
                <a:ea typeface="华文楷体"/>
              </a:rPr>
              <a:t>阅 读 推 荐 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00000" y="836640"/>
            <a:ext cx="6912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华文楷体"/>
              </a:rPr>
              <a:t>好习惯比分数更重要</a:t>
            </a:r>
            <a:endParaRPr b="1" lang="en-US" sz="5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华文楷体"/>
              <a:ea typeface="华文楷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03640" y="4292640"/>
            <a:ext cx="252072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琥珀"/>
              </a:rPr>
              <a:t>再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836640"/>
            <a:ext cx="7848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92fd5"/>
                </a:solidFill>
                <a:latin typeface="Arial"/>
                <a:ea typeface="华文新魏"/>
              </a:rPr>
              <a:t>阅读提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由读课文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――1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段，用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画出表现父亲“严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句子，用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﹏﹏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画出表现父亲“很疼我”的句子，试着有感情地读一读，在感受深的地方写写批注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760" y="1052640"/>
            <a:ext cx="90392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爸进来了，他瘦瘦高高的，站到床前来，</a:t>
            </a:r>
            <a:r>
              <a:rPr b="1" lang="zh-CN" sz="4400" spc="-1" strike="noStrike">
                <a:solidFill>
                  <a:srgbClr val="192fd5"/>
                </a:solidFill>
                <a:latin typeface="Arial"/>
              </a:rPr>
              <a:t>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我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怎么不起来？快起！快起！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晚了，爸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硬着头皮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晚也得去，怎么可以逃学？起！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1052640"/>
            <a:ext cx="8459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气极了，一下把我从床上拖起来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眼泪就流出来了。爸左看右看，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桌上抄起一把鸡毛掸子，倒转来拿，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鞭子在空中一抡，就发出咻咻的声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把我从床头打到床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052640"/>
            <a:ext cx="8459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气极了，一下把我从床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拖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眼泪就流出来了。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左看右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桌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抄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把鸡毛掸子，倒转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鞭子在空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就发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咻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声音。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爸把我从床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床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24360" y="5157720"/>
            <a:ext cx="158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836640"/>
            <a:ext cx="78483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坐在放下雨篷的洋车里，一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fd5"/>
                </a:solidFill>
                <a:latin typeface="Arial"/>
                <a:ea typeface="华文楷体"/>
              </a:rPr>
              <a:t>抽抽搭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哭着，一边撩起裤脚来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我的伤痕。那一条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鼓起的鞭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红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而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楷体"/>
              </a:rPr>
              <a:t>发着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我把裤脚响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拉了拉，遮盖住最下面的一条伤痕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是怕同学看见了要耻笑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16360" y="981000"/>
            <a:ext cx="41752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穿上爸爸送来的花夹袄，握着爸爸递给我的两枚铜板，我真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512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409080" cy="377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16000" y="5300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父亲的爱是在我犯错时真心的提醒和严厉的责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65560" y="476280"/>
            <a:ext cx="4241880" cy="5545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278136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父亲的爱是关切的眼神和无声的叮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语文备课大师 www.xiexingcun.com【全免费】</dc:creator>
  <dc:description>语文备课大师 www.xiexingcun.com【全免费】</dc:description>
  <dc:language>en-US</dc:language>
  <cp:lastModifiedBy>微软用户</cp:lastModifiedBy>
  <dcterms:modified xsi:type="dcterms:W3CDTF">2015-11-11T02:52:11Z</dcterms:modified>
  <cp:revision>0</cp:revision>
  <dc:subject/>
  <dc:title>语文备课大师 www.xiexingcun.com【全免费】</dc:title>
</cp:coreProperties>
</file>