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0.jpeg" ContentType="image/jpeg"/>
  <Override PartName="/ppt/media/image6.gif" ContentType="image/gif"/>
  <Override PartName="/ppt/media/image2.jpeg" ContentType="image/jpeg"/>
  <Override PartName="/ppt/media/laser.wav" ContentType="audio/x-wav"/>
  <Override PartName="/ppt/media/coin.wav" ContentType="audio/x-wav"/>
  <Override PartName="/ppt/media/image3.jpeg" ContentType="image/jpeg"/>
  <Override PartName="/ppt/media/image1.jpeg" ContentType="image/jpeg"/>
  <Override PartName="/ppt/media/image4.gif" ContentType="image/gif"/>
  <Override PartName="/ppt/media/chimes.wav" ContentType="audio/x-wav"/>
  <Override PartName="/ppt/media/image7.wmf" ContentType="image/x-wmf"/>
  <Override PartName="/ppt/media/image5.wmf" ContentType="image/x-wmf"/>
  <Override PartName="/ppt/media/hammer.wav" ContentType="audio/x-wav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47E8-2840-4F8A-99D4-74023CEF0A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47F8-1D97-4AC7-96EB-4ADBDCB14D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334F-0281-4494-B044-51470CB24A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AB74-0A02-4BA1-9D5F-6638492C34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D77-B5D8-48A3-9A78-D7E6E3E2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A44-C1E3-4739-B7A6-163AC8D3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0DF-E58C-4C81-A5E1-DBF928DB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6FA-95BA-4D8D-AC35-56A4142E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B21-ADFB-42C5-A57F-6A807A55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272-83BB-403F-BC6D-6123FCE9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F09-0CFD-4696-97E6-3D4389D5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784-62F5-4C7A-9A8A-259B4ABD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B69-83C8-485B-9FEF-80035527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612-AF57-4FFB-BA0B-B734FEC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6C2-BDF2-4B81-AEEE-DB9471BD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042-DF41-49F2-98CA-795B6740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5E3F-D08E-4404-9160-98894176CD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57000"/>
            <a:ext cx="9296280" cy="33195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隶书"/>
                <a:ea typeface="隶书"/>
              </a:rPr>
              <a:t>6 </a:t>
            </a:r>
            <a:r>
              <a:rPr b="1" lang="zh-CN" sz="9600" spc="-1" strike="noStrike">
                <a:solidFill>
                  <a:srgbClr val="000000"/>
                </a:solidFill>
                <a:latin typeface="隶书"/>
                <a:ea typeface="隶书"/>
              </a:rPr>
              <a:t>匆匆</a:t>
            </a:r>
            <a:br>
              <a:rPr sz="9600"/>
            </a:b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朱自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3520" y="1600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不知道他们给了我多少日子；但我的手确乎是渐渐空虚了。在默默里算着，八千多日子已经从我手中溜去；</a:t>
            </a:r>
            <a:r>
              <a:rPr b="1" lang="zh-CN" sz="4000" spc="-1" strike="noStrike">
                <a:solidFill>
                  <a:srgbClr val="cc3300"/>
                </a:solidFill>
                <a:latin typeface="华文楷体"/>
                <a:ea typeface="华文楷体"/>
              </a:rPr>
              <a:t>像针尖上一滴水滴在大海里，我的日子滴在时间的流里，没有声音，也没有影子。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不禁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头涔涔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而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泪潸潸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343400" y="0"/>
            <a:ext cx="4114800" cy="2438280"/>
          </a:xfrm>
          <a:prstGeom prst="cloudCallout">
            <a:avLst>
              <a:gd name="adj1" fmla="val -67439"/>
              <a:gd name="adj2" fmla="val 102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说说这句话的含义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28600" y="304920"/>
            <a:ext cx="18288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品读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30492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八千多日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581280" y="30492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像针尖上一滴水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80880" y="17524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时间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52680" y="17524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流    大海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7848720" y="609480"/>
            <a:ext cx="304560" cy="1828800"/>
          </a:xfrm>
          <a:custGeom>
            <a:avLst/>
            <a:gdLst>
              <a:gd name="textAreaLeft" fmla="*/ 0 w 304560"/>
              <a:gd name="textAreaRight" fmla="*/ 10980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8153280" y="10666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对比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50920" y="2997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表现了日子“溜去”的特点是：不知不觉，无影无声。显示出个人在宇宙面前多么渺小，人生多么短暂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7467480" y="2362320"/>
            <a:ext cx="1524240" cy="31240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553320 h 3124080"/>
              <a:gd name="textAreaBottom" fmla="*/ 194616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52" stAng="-5400000" swAng="5400000"/>
                <a:lnTo>
                  <a:pt x="21600" y="9630"/>
                </a:lnTo>
                <a:arcTo wR="21600" hR="7652" stAng="0" swAng="3528389"/>
                <a:lnTo>
                  <a:pt x="4530" y="21430"/>
                </a:lnTo>
                <a:lnTo>
                  <a:pt x="0" y="16293"/>
                </a:lnTo>
                <a:lnTo>
                  <a:pt x="4530" y="10816"/>
                </a:lnTo>
                <a:lnTo>
                  <a:pt x="4530" y="15134"/>
                </a:lnTo>
                <a:arcTo wR="21600" hR="7652" stAng="3528389" swAng="-3369766"/>
                <a:lnTo>
                  <a:pt x="21419" y="8641"/>
                </a:lnTo>
                <a:arcTo wR="21600" hR="7652" stAng="-158623" swAng="-5241377"/>
                <a:close/>
              </a:path>
              <a:path fill="darkenLess" w="21600" h="21600">
                <a:moveTo>
                  <a:pt x="0" y="0"/>
                </a:moveTo>
                <a:arcTo wR="21600" hR="7652" stAng="-5400000" swAng="5400000"/>
                <a:lnTo>
                  <a:pt x="21600" y="9630"/>
                </a:lnTo>
                <a:arcTo wR="21600" hR="7652" stAng="0" swAng="-158623"/>
                <a:lnTo>
                  <a:pt x="21419" y="8641"/>
                </a:lnTo>
                <a:arcTo wR="21600" hR="7652" stAng="-158623" swAng="-5241377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648320" y="9144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比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684360" y="404640"/>
            <a:ext cx="715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时间就是这样无声无息地溜走的。那么请同学们计算一下一天中又从我们手中溜走了多少时间呢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250920" y="1557360"/>
          <a:ext cx="8388360" cy="51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838836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3"/>
          <p:cNvSpPr/>
          <p:nvPr/>
        </p:nvSpPr>
        <p:spPr>
          <a:xfrm>
            <a:off x="395280" y="4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时间就是这样无声无息地溜走的。那么请同学们计算一下一天中又从我们手中溜走了多少时间呢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557360"/>
            <a:ext cx="97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我们的日子为什么一去不复返呢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>
            <a:off x="3708360" y="2421000"/>
            <a:ext cx="0" cy="990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62120" y="32004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我的日子逝去了多少呢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809880" y="4267080"/>
            <a:ext cx="0" cy="99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50920" y="5229360"/>
            <a:ext cx="92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八千多个日子是怎样逝去的呢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在第三段，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MS PMincho"/>
              </a:rPr>
              <a:t>作者又提出了什么问题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026"/>
          <p:cNvSpPr/>
          <p:nvPr/>
        </p:nvSpPr>
        <p:spPr>
          <a:xfrm>
            <a:off x="838080" y="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去的尽管去了，来的尽管来着；去来的中间，又怎样地匆匆呢？早上我起来的时候，小屋里射进两三方斜斜的太阳。太阳他有脚啊，轻轻悄悄地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挪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；我也茫茫然跟着旋转。于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仿宋"/>
              </a:rPr>
              <a:t>洗手的时候，日子从水盆里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华文仿宋"/>
              </a:rPr>
              <a:t>过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仿宋"/>
              </a:rPr>
              <a:t>；吃饭的时候，日子从饭碗里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华文仿宋"/>
              </a:rPr>
              <a:t>过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仿宋"/>
              </a:rPr>
              <a:t>；默默时，便从凝然的双眼前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华文仿宋"/>
              </a:rPr>
              <a:t>过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仿宋"/>
              </a:rPr>
              <a:t>。我觉察他去的匆匆了，伸出手遮挽时，他又从遮挽着的手边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华文仿宋"/>
              </a:rPr>
              <a:t>过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仿宋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仿宋"/>
              </a:rPr>
              <a:t>天黑时，我躺在床上，他便伶伶俐俐地从我身上</a:t>
            </a:r>
            <a:r>
              <a:rPr b="1" lang="zh-CN" sz="3200" spc="-1" strike="noStrike">
                <a:solidFill>
                  <a:srgbClr val="cc3300"/>
                </a:solidFill>
                <a:latin typeface="华文行楷"/>
                <a:ea typeface="华文仿宋"/>
              </a:rPr>
              <a:t>跨过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仿宋"/>
              </a:rPr>
              <a:t>，从我脚边</a:t>
            </a:r>
            <a:r>
              <a:rPr b="1" lang="zh-CN" sz="3200" spc="-1" strike="noStrike">
                <a:solidFill>
                  <a:srgbClr val="cc3300"/>
                </a:solidFill>
                <a:latin typeface="华文行楷"/>
                <a:ea typeface="华文仿宋"/>
              </a:rPr>
              <a:t>飞去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仿宋"/>
              </a:rPr>
              <a:t>了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仿宋"/>
              </a:rPr>
              <a:t>等我睁开眼和太阳再见，这算又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华文仿宋"/>
              </a:rPr>
              <a:t>溜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仿宋"/>
              </a:rPr>
              <a:t>了一日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掩着面叹息。但是新来的日子的影儿又开始在叹息里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闪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。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29"/>
          <p:cNvSpPr/>
          <p:nvPr/>
        </p:nvSpPr>
        <p:spPr>
          <a:xfrm>
            <a:off x="3600" y="0"/>
            <a:ext cx="667800" cy="23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品读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914400" y="1371600"/>
            <a:ext cx="7772400" cy="825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时间是抽象的，但作者却把它写得形象可感。说说作者是怎样在这一段表现“时日匆匆”这一意境的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9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685800" y="7621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作者</a:t>
            </a:r>
            <a:r>
              <a:rPr b="1" lang="zh-CN" sz="44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回顾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自己逝去了的八千多个日子：从白天到夜晚，一日之间，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我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尽在琐琐碎碎、平平庸庸、毫无意义的活动之中，而太阳却毫不留情离我而去。八千多个日子就是这样过去的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04920" y="22860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在这一段里，作者用</a:t>
            </a:r>
            <a:r>
              <a:rPr b="1" lang="zh-CN" sz="3600" spc="-1" strike="noStrike" u="sng">
                <a:solidFill>
                  <a:srgbClr val="006666"/>
                </a:solidFill>
                <a:uFillTx/>
                <a:latin typeface="Times New Roman"/>
                <a:ea typeface="华文楷体"/>
              </a:rPr>
              <a:t>拟人手法写太阳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：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“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他有脚，轻轻悄悄地挪移”；他从盆边，从碗里，从眼前，从手边过去了；他从我躺着的身上，休息的脚边跨过和飞去；我叹息时，又从叹息里闪过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。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他逝去得飞快，无影无踪。</a:t>
            </a:r>
            <a:r>
              <a:rPr b="1" lang="zh-CN" sz="3600" spc="-1" strike="noStrike" u="sng">
                <a:solidFill>
                  <a:srgbClr val="006666"/>
                </a:solidFill>
                <a:uFillTx/>
                <a:latin typeface="Times New Roman"/>
                <a:ea typeface="华文楷体"/>
              </a:rPr>
              <a:t>这样生动具体的描写，让我们见到了时光的形象，他再不是看不见摸不着的空灵之物，而是有形有迹，可见可寻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52280" y="54864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隶书"/>
              </a:rPr>
              <a:t>作者思想感情：回顾——惋惜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图片3"/>
          <p:cNvPicPr/>
          <p:nvPr/>
        </p:nvPicPr>
        <p:blipFill>
          <a:blip r:embed="rId1"/>
          <a:stretch/>
        </p:blipFill>
        <p:spPr>
          <a:xfrm>
            <a:off x="8136000" y="333360"/>
            <a:ext cx="1008000" cy="1268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24000" y="90360"/>
            <a:ext cx="853272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具体描述日子去来的匆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仿照这样的写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写上几句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于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洗手的时候，日子从水盆里过去；吃饭的时候，日子从饭碗里过去；默默时，便从凝然的双眼前过去。我觉察他去的匆匆了，伸出手遮挽时，他又从遮挽着的手边过去，天黑时，我躺在床上，他便伶伶俐俐地从我身上跨过，从我脚边飞去了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779120" y="404640"/>
            <a:ext cx="525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聊天时，日子从嘴边过去；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耍时，日子从手里过去；看电视时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子从屏幕上过去；晒太阳时，日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身边一闪而过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图片10"/>
          <p:cNvPicPr/>
          <p:nvPr/>
        </p:nvPicPr>
        <p:blipFill>
          <a:blip r:embed="rId1"/>
          <a:stretch/>
        </p:blipFill>
        <p:spPr>
          <a:xfrm>
            <a:off x="6516720" y="3716280"/>
            <a:ext cx="1847880" cy="2492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1955520" y="3249720"/>
            <a:ext cx="4993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我喝水时，日子从我的水杯里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去；我发呆时，日子从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失神的双目前过去；我睡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觉时，日子从我的枕边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去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195640" y="0"/>
            <a:ext cx="6480000" cy="2205000"/>
          </a:xfrm>
          <a:prstGeom prst="rect">
            <a:avLst/>
          </a:prstGeom>
          <a:solidFill>
            <a:srgbClr val="ffff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者简介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朱自清，原名自华，字佩弦，号秋实，现代散文家、诗人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代表作：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《绿》、《春》、《背影》、《桨声灯影里的秦淮河》、《荷塘月色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等。其中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《背影》、《荷塘月色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更是脍炙人口的名篇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其散文善于把真情实感通过平易的叙述表达出来，文笔简约、朴素、亲切、娓娓动人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文学界享有盛誉，被誉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美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2800" spc="-1" strike="noStrike">
                <a:solidFill>
                  <a:srgbClr val="00ff99"/>
                </a:solidFill>
                <a:latin typeface="隶书"/>
                <a:ea typeface="隶书"/>
              </a:rPr>
              <a:t> 　　　　　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朱自清"/>
          <p:cNvPicPr/>
          <p:nvPr/>
        </p:nvPicPr>
        <p:blipFill>
          <a:blip r:embed="rId1"/>
          <a:stretch/>
        </p:blipFill>
        <p:spPr>
          <a:xfrm>
            <a:off x="0" y="0"/>
            <a:ext cx="2004840" cy="38862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p:transition spd="med"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422800" y="754200"/>
            <a:ext cx="4688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冬天时，我坐在暖暖的阳光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磕瓜子，他便从我的身边一溜而过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我在操场遛达时，他又像风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样呼啸而过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332360" y="764640"/>
            <a:ext cx="5472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400b4"/>
                </a:solidFill>
                <a:latin typeface="Times New Roman"/>
              </a:rPr>
              <a:t>思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6600" y="2805120"/>
            <a:ext cx="7488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想一想， </a:t>
            </a:r>
            <a:r>
              <a:rPr b="0" lang="zh-CN" sz="3200" spc="-1" strike="noStrike">
                <a:solidFill>
                  <a:srgbClr val="fe0024"/>
                </a:solidFill>
                <a:latin typeface="Times New Roman"/>
              </a:rPr>
              <a:t>“日子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怎样在你毫不注意的时候去来匆匆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那你身边的人的</a:t>
            </a:r>
            <a:r>
              <a:rPr b="0" lang="zh-CN" sz="3200" spc="-1" strike="noStrike">
                <a:solidFill>
                  <a:srgbClr val="fe0024"/>
                </a:solidFill>
                <a:latin typeface="Times New Roman"/>
              </a:rPr>
              <a:t>“日子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又是怎样去来匆匆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356000" y="5445000"/>
            <a:ext cx="1008000" cy="648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7236000" y="522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492360" y="620640"/>
            <a:ext cx="1154160" cy="86364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 rot="616800">
            <a:off x="6443280" y="692280"/>
            <a:ext cx="576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 flipH="1">
            <a:off x="1403280" y="5300640"/>
            <a:ext cx="935280" cy="792360"/>
          </a:xfrm>
          <a:custGeom>
            <a:avLst/>
            <a:gdLst>
              <a:gd name="textAreaLeft" fmla="*/ 289080 w 935280"/>
              <a:gd name="textAreaRight" fmla="*/ 646200 w 935280"/>
              <a:gd name="textAreaTop" fmla="*/ 302760 h 792360"/>
              <a:gd name="textAreaBottom" fmla="*/ 605520 h 792360"/>
            </a:gdLst>
            <a:ahLst/>
            <a:rect l="textAreaLeft" t="textAreaTop" r="textAreaRight" b="textAreaBottom"/>
            <a:pathLst>
              <a:path w="935038" h="792162">
                <a:moveTo>
                  <a:pt x="1" y="302578"/>
                </a:moveTo>
                <a:lnTo>
                  <a:pt x="357155" y="302580"/>
                </a:lnTo>
                <a:lnTo>
                  <a:pt x="467519" y="0"/>
                </a:lnTo>
                <a:lnTo>
                  <a:pt x="577883" y="302580"/>
                </a:lnTo>
                <a:lnTo>
                  <a:pt x="935037" y="302578"/>
                </a:lnTo>
                <a:lnTo>
                  <a:pt x="646092" y="489581"/>
                </a:lnTo>
                <a:lnTo>
                  <a:pt x="756462" y="792159"/>
                </a:lnTo>
                <a:lnTo>
                  <a:pt x="467519" y="605154"/>
                </a:lnTo>
                <a:lnTo>
                  <a:pt x="178576" y="792159"/>
                </a:lnTo>
                <a:lnTo>
                  <a:pt x="288946" y="4895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250920" y="2492280"/>
            <a:ext cx="627120" cy="647640"/>
          </a:xfrm>
          <a:custGeom>
            <a:avLst/>
            <a:gdLst>
              <a:gd name="textAreaLeft" fmla="*/ 258480 w 627120"/>
              <a:gd name="textAreaRight" fmla="*/ 368640 w 62712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179280" y="4221000"/>
            <a:ext cx="574920" cy="649440"/>
          </a:xfrm>
          <a:custGeom>
            <a:avLst/>
            <a:gdLst>
              <a:gd name="textAreaLeft" fmla="*/ 236880 w 574920"/>
              <a:gd name="textAreaRight" fmla="*/ 338040 w 574920"/>
              <a:gd name="textAreaTop" fmla="*/ 267480 h 649440"/>
              <a:gd name="textAreaBottom" fmla="*/ 3819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品读第四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从中你体会到作者怎样的思想感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　　在逃去如飞的日子里，在千门万户的世界里的我能做些什么呢？只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徘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罢了，只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匆匆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罢了；在八千多日的匆匆里，除徘徊外，又剩些什么呢？过去的日子如轻烟，被微风吹散了，如薄雾，被初阳蒸融了；我留着些什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痕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呢？我何曾留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像游丝样的痕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呢？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赤裸裸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来到这世界，转眼间也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赤裸裸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的回去罢？但不能平的，为什么偏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白白走这一遭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啊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340000" y="476280"/>
            <a:ext cx="61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赤裸裸来到这世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转眼间也将赤裸裸的回去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但不能平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什么偏要白白走这一遭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j0299125"/>
          <p:cNvPicPr/>
          <p:nvPr/>
        </p:nvPicPr>
        <p:blipFill>
          <a:blip r:embed="rId1"/>
          <a:stretch/>
        </p:blipFill>
        <p:spPr>
          <a:xfrm>
            <a:off x="611280" y="404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403280" y="3141720"/>
            <a:ext cx="640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0024"/>
                </a:solidFill>
                <a:latin typeface="Verdana"/>
              </a:rPr>
              <a:t>读到这里，你想到了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ccff"/>
                </a:solidFill>
                <a:latin typeface="Verdana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042920" y="4508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　　我们不能白白地浪费日子，不能白白地浪费时间、浪费生命，不能什么也没做，什么贡献也没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ree"/>
          <p:cNvSpPr/>
          <p:nvPr/>
        </p:nvSpPr>
        <p:spPr>
          <a:xfrm>
            <a:off x="6588000" y="242100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50920" y="306864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8600" y="609480"/>
            <a:ext cx="129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修辞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219320" y="228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52480" y="3049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段：</a:t>
            </a:r>
            <a:r>
              <a:rPr b="1" lang="zh-CN" sz="3600" spc="-1" strike="noStrike">
                <a:solidFill>
                  <a:srgbClr val="1233da"/>
                </a:solidFill>
                <a:latin typeface="Times New Roman"/>
              </a:rPr>
              <a:t>写时间一去不复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第二段：</a:t>
            </a:r>
            <a:r>
              <a:rPr b="1" lang="zh-CN" sz="3600" spc="-1" strike="noStrike">
                <a:solidFill>
                  <a:srgbClr val="1233da"/>
                </a:solidFill>
                <a:latin typeface="Times New Roman"/>
              </a:rPr>
              <a:t>具体写时间匆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14400" y="990720"/>
            <a:ext cx="144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362320" y="152388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段：①排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5562720" y="685800"/>
            <a:ext cx="35812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既优美又浅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990720" y="0"/>
            <a:ext cx="48765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通过写三种春天的景物，不仅意向优美，而且有潜在的含义：我们的青春一去不复返，实在值得珍惜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9"/>
          <p:cNvSpPr/>
          <p:nvPr/>
        </p:nvSpPr>
        <p:spPr>
          <a:xfrm>
            <a:off x="4495680" y="1523880"/>
            <a:ext cx="4648320" cy="2210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表现“我”对时间一去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复返的惶急的心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62320" y="3733920"/>
            <a:ext cx="3733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段：①拟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1828800" y="762120"/>
            <a:ext cx="495288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把时间的流逝写得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有形有声，可见可闻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3809880" y="4572000"/>
            <a:ext cx="533412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33da"/>
                </a:solidFill>
                <a:latin typeface="Times New Roman"/>
              </a:rPr>
              <a:t>写出时间无时不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33da"/>
                </a:solidFill>
                <a:latin typeface="Times New Roman"/>
              </a:rPr>
              <a:t>匆匆流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4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29528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意识到了时间匆匆吗？他的表现又如何？找出文中语句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905120" y="19810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438280" y="213372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不禁头涔涔而泪潸潸了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掩着面叹息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58080" y="1981080"/>
            <a:ext cx="139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为什么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371600" y="4191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时间流逝而一事无成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468360" y="0"/>
            <a:ext cx="86756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华文新魏"/>
              </a:rPr>
              <a:t>品读课文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划出你喜欢的句子，说出自己为什么喜欢这些句子？请你设计如何读才能把这些句子读好。（ 除了想象作者当时的心情，还要加进我们自己的感受。）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洗手的时候，日子从水盆里过去；吃饭的时候，日子从饭碗里过去；默默时，便从凝然的双眼前过去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这句话运用了排比的修辞方法，既增强了文章的气势，又形象地写出了时间的匆匆流逝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黑时，我躺在床上，他便伶伶俐俐地从我脚边飞去了。等我和太阳说再见，这又算溜走了一日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这句话运用了拟人的修辞方法，把时间的匆匆流逝写得有形有声，可见可闻非常形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读①②两个句子时应读出日子的匆匆和永不停息，紧促低平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八千多日子已经从我手中溜去；像针尖上一滴水滴在大海里，我的日子滴在时间的流里，没有声音，也没有影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新魏"/>
              </a:rPr>
              <a:t>这句话形象生动地写出了诗人因没有成就，虚度年华而惶恐的心态。朗读时应读出日子溜去的悄无声息，舒缓低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只有徘徊罢了，只有匆匆罢了；在八千多日的匆匆里，除徘徊外，又剩些什么呢？过去的日子如轻烟，被微风吹散了，如薄雾，被初阳蒸融了；我留着些什么痕迹呢？我何曾留着像游丝样的痕迹呢？我赤裸裸来到这世界，转眼间也将赤裸裸的回去罢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新魏"/>
              </a:rPr>
              <a:t>这个句子应读出作者的思考、无奈、彷徨的心态，应平缓凝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但不能平的，为什么偏要白白走这一遭啊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华文新魏"/>
              </a:rPr>
              <a:t>这句话应读出作者追求事业的情怀和信心，要读得沉稳坚定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912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Brush Script MT"/>
                <a:ea typeface="方正舒体"/>
              </a:rPr>
              <a:t>总　结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3284640"/>
            <a:ext cx="88930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一开始就向我们提出问题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并没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作出回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是通过具体例子向我们描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了日子来去匆匆。</a:t>
            </a:r>
            <a:r>
              <a:rPr b="1" i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花有重开日</a:t>
            </a:r>
            <a:r>
              <a:rPr b="1" i="1" lang="en-US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i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人无再少年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希望同学们珍惜美好时光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抓紧时间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学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考上你们理想的学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524720" y="5661000"/>
            <a:ext cx="865080" cy="755640"/>
          </a:xfrm>
          <a:custGeom>
            <a:avLst/>
            <a:gdLst>
              <a:gd name="textAreaLeft" fmla="*/ 48960 w 865080"/>
              <a:gd name="textAreaRight" fmla="*/ 816120 w 86508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4727" h="21600">
                <a:moveTo>
                  <a:pt x="0" y="0"/>
                </a:moveTo>
                <a:lnTo>
                  <a:pt x="24727" y="0"/>
                </a:lnTo>
                <a:lnTo>
                  <a:pt x="24727" y="21600"/>
                </a:lnTo>
                <a:lnTo>
                  <a:pt x="0" y="21600"/>
                </a:lnTo>
                <a:close/>
              </a:path>
              <a:path fill="lightenLess" w="24727" h="21600">
                <a:moveTo>
                  <a:pt x="0" y="0"/>
                </a:moveTo>
                <a:lnTo>
                  <a:pt x="24727" y="0"/>
                </a:lnTo>
                <a:lnTo>
                  <a:pt x="23327" y="1400"/>
                </a:lnTo>
                <a:lnTo>
                  <a:pt x="1400" y="1400"/>
                </a:lnTo>
                <a:close/>
              </a:path>
              <a:path fill="darken" w="24727" h="21600">
                <a:moveTo>
                  <a:pt x="24727" y="0"/>
                </a:moveTo>
                <a:lnTo>
                  <a:pt x="24727" y="21600"/>
                </a:lnTo>
                <a:lnTo>
                  <a:pt x="23327" y="20200"/>
                </a:lnTo>
                <a:lnTo>
                  <a:pt x="23327" y="1400"/>
                </a:lnTo>
                <a:close/>
              </a:path>
              <a:path fill="darkenLess" w="24727" h="21600">
                <a:moveTo>
                  <a:pt x="24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27" y="20200"/>
                </a:lnTo>
                <a:close/>
              </a:path>
              <a:path fill="lighten" w="24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27" h="21600">
                <a:moveTo>
                  <a:pt x="12363" y="3837"/>
                </a:moveTo>
                <a:lnTo>
                  <a:pt x="14940" y="6448"/>
                </a:lnTo>
                <a:lnTo>
                  <a:pt x="14940" y="4707"/>
                </a:lnTo>
                <a:lnTo>
                  <a:pt x="16715" y="4707"/>
                </a:lnTo>
                <a:lnTo>
                  <a:pt x="16715" y="8224"/>
                </a:lnTo>
                <a:lnTo>
                  <a:pt x="19326" y="10800"/>
                </a:lnTo>
                <a:lnTo>
                  <a:pt x="17673" y="10800"/>
                </a:lnTo>
                <a:lnTo>
                  <a:pt x="17673" y="17989"/>
                </a:lnTo>
                <a:lnTo>
                  <a:pt x="7054" y="17989"/>
                </a:lnTo>
                <a:lnTo>
                  <a:pt x="7054" y="10800"/>
                </a:lnTo>
                <a:lnTo>
                  <a:pt x="5400" y="10800"/>
                </a:lnTo>
                <a:close/>
              </a:path>
              <a:path fill="darkenLess" w="24727" h="21600">
                <a:moveTo>
                  <a:pt x="14940" y="6448"/>
                </a:moveTo>
                <a:lnTo>
                  <a:pt x="14940" y="4707"/>
                </a:lnTo>
                <a:lnTo>
                  <a:pt x="16715" y="4707"/>
                </a:lnTo>
                <a:lnTo>
                  <a:pt x="16715" y="8224"/>
                </a:lnTo>
                <a:close/>
              </a:path>
              <a:path fill="darkenLess" w="24727" h="21600">
                <a:moveTo>
                  <a:pt x="11441" y="14299"/>
                </a:moveTo>
                <a:lnTo>
                  <a:pt x="13286" y="14299"/>
                </a:lnTo>
                <a:lnTo>
                  <a:pt x="13286" y="17989"/>
                </a:lnTo>
                <a:lnTo>
                  <a:pt x="17673" y="17989"/>
                </a:lnTo>
                <a:lnTo>
                  <a:pt x="17673" y="10800"/>
                </a:lnTo>
                <a:lnTo>
                  <a:pt x="7054" y="10800"/>
                </a:lnTo>
                <a:lnTo>
                  <a:pt x="7054" y="17989"/>
                </a:lnTo>
                <a:lnTo>
                  <a:pt x="11441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7530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6408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解课文内容，了解作者所表达的思想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运用展开联想的读书方法感悟文中道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感情地朗读课文，背诵自己喜欢的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交流心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772400" cy="33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学了课文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匆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，你有什么收获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读阅读链接的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明日歌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，再说说你的感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684360" y="692280"/>
            <a:ext cx="79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读了这篇文章，我想到了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时间一去不复返，应抓紧时间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有所作为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时间在不知不觉中悄悄溜走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要有效利用时间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不能虚度年华，活着要有价值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478880" y="-7920"/>
            <a:ext cx="5859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珍惜时间的名言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发不知勤学早，白首方悔读书迟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就是生命，无端的空耗别人的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间，其实是无异于谋财害命的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热爱生命吗？那么别浪费时间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时间是构成生命的材料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富兰克林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生代代无穷已，江月年年只相似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江月待何人，但见长江送流水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若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江花月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62440" y="49320"/>
            <a:ext cx="6203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今人不见古时月，今月曾经照古人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李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酒问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此生此夜不长好，明月明年何处看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苏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秋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酒当歌，人生几何？譬如朝露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去日苦多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曹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短歌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明日复明日，明日何其多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生待明日，万事成蹉跎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明日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莫等闲，白了少年头，空悲切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岳飞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满江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BJ_022"/>
          <p:cNvPicPr/>
          <p:nvPr/>
        </p:nvPicPr>
        <p:blipFill>
          <a:blip r:embed="rId1"/>
          <a:stretch/>
        </p:blipFill>
        <p:spPr>
          <a:xfrm>
            <a:off x="5854680" y="4665600"/>
            <a:ext cx="3289320" cy="21924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468360" y="907920"/>
            <a:ext cx="7199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１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从文中摘抄你喜欢的句　　　　　　　　子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２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背诵你喜欢的段落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611280" y="1341360"/>
            <a:ext cx="7632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外阅读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　　　向你推荐：朱自清的散文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春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绿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荷塘月色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背影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BJ_022"/>
          <p:cNvPicPr/>
          <p:nvPr/>
        </p:nvPicPr>
        <p:blipFill>
          <a:blip r:embed="rId1"/>
          <a:stretch/>
        </p:blipFill>
        <p:spPr>
          <a:xfrm>
            <a:off x="5854680" y="4665600"/>
            <a:ext cx="3289320" cy="219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27" descr="hehua01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28" descr="xin_39cc6001a80e48e3ba1da69d7716e403"/>
          <p:cNvPicPr/>
          <p:nvPr/>
        </p:nvPicPr>
        <p:blipFill>
          <a:blip r:embed="rId2"/>
          <a:srcRect l="0" t="0" r="0" b="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29" descr="冬天图片-冬天来了"/>
          <p:cNvPicPr/>
          <p:nvPr/>
        </p:nvPicPr>
        <p:blipFill>
          <a:blip r:embed="rId3"/>
          <a:stretch/>
        </p:blipFill>
        <p:spPr>
          <a:xfrm>
            <a:off x="0" y="0"/>
            <a:ext cx="10549080" cy="7316640"/>
          </a:xfrm>
          <a:prstGeom prst="rect">
            <a:avLst/>
          </a:prstGeom>
          <a:ln w="0">
            <a:noFill/>
          </a:ln>
        </p:spPr>
      </p:pic>
      <p:sp>
        <p:nvSpPr>
          <p:cNvPr id="163" name="WordArt 1030"/>
          <p:cNvSpPr txBox="1"/>
          <p:nvPr/>
        </p:nvSpPr>
        <p:spPr>
          <a:xfrm>
            <a:off x="2195640" y="2276640"/>
            <a:ext cx="4962240" cy="25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8" nodeType="afterEffect" fill="hold" presetClass="entr" presetID="5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3000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100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2000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47920" y="533520"/>
            <a:ext cx="6933960" cy="9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生字新词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00"/>
                </a:solidFill>
                <a:latin typeface="Times New Roman"/>
                <a:ea typeface="隶书"/>
              </a:rPr>
              <a:t>涔涔             潸潸               赤裸裸         徘徊             遮挽             蒸融                            伶伶俐俐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00"/>
                </a:solidFill>
                <a:latin typeface="Times New Roman"/>
                <a:ea typeface="隶书"/>
              </a:rPr>
              <a:t>痕迹               挪动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8120" y="1828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én  cé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629400" y="182880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shān shā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81280" y="266688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luǒ lu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477120" y="26668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pái  huá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8954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zhē  wǎ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553080" y="3505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zhēng  ró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267080" y="4343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líng líng  lì lì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129528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文章体裁</a:t>
            </a:r>
            <a:r>
              <a:rPr b="1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505320" y="129528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散文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2438280"/>
            <a:ext cx="81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散文是以</a:t>
            </a:r>
            <a:r>
              <a:rPr b="1" lang="zh-CN" sz="54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抒发作者的内心感情和思想体验</a:t>
            </a:r>
            <a:r>
              <a:rPr b="1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为创作目的一种文体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882000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00ff"/>
                </a:solidFill>
                <a:uFillTx/>
                <a:latin typeface="华文行楷"/>
                <a:ea typeface="华文行楷"/>
              </a:rPr>
              <a:t>写作背景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篇散文写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92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，当时作者已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。五四运动时，朱自清为光明和新时代的到来欢呼。五四高潮过后，由于旧的东西没有摧垮、新的社会蓝图又不清晰，朱自清陷入了思想苦闷中，徘徊于人生的十字路口。在犹豫、徘徊中，眼看宝贵的时光从身边白白地流逝，于是作者写下了这篇感人的散文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宋体"/>
              </a:rPr>
              <a:t>作者在文中倾诉了对时光匆匆的感受，表达了对人生意义的思考，表现了要有所作为、有所贡献和力求上进的可贵精神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049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华文楷体"/>
                <a:ea typeface="华文楷体"/>
              </a:rPr>
              <a:t>燕子去了，有再来的时候；杨柳枯了，有再青的时候；桃花谢了，有再开的时候。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但是，聪明的，你告诉我，我们的日子为什么一去不复返呢？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--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有人偷了他们罢： 那是谁？又藏在何处呢？是他们自己逃走了罢：现在又到了哪里呢？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600" y="228600"/>
            <a:ext cx="1905120" cy="70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品读一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0880" y="5486400"/>
            <a:ext cx="894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我们的日子为什么一去不复返呢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122"/>
          <p:cNvSpPr/>
          <p:nvPr/>
        </p:nvSpPr>
        <p:spPr>
          <a:xfrm>
            <a:off x="0" y="1905120"/>
            <a:ext cx="4102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燕子可再来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杨柳可再青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花儿可再开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123"/>
          <p:cNvSpPr/>
          <p:nvPr/>
        </p:nvSpPr>
        <p:spPr>
          <a:xfrm>
            <a:off x="5943600" y="28195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逝去的日子不再回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124"/>
          <p:cNvSpPr/>
          <p:nvPr/>
        </p:nvSpPr>
        <p:spPr>
          <a:xfrm>
            <a:off x="3581280" y="3581280"/>
            <a:ext cx="2362320" cy="533520"/>
          </a:xfrm>
          <a:prstGeom prst="leftRightArrow">
            <a:avLst>
              <a:gd name="adj1" fmla="val 50000"/>
              <a:gd name="adj2" fmla="val 88146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125"/>
          <p:cNvSpPr/>
          <p:nvPr/>
        </p:nvSpPr>
        <p:spPr>
          <a:xfrm>
            <a:off x="403848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对比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126"/>
          <p:cNvSpPr/>
          <p:nvPr/>
        </p:nvSpPr>
        <p:spPr>
          <a:xfrm>
            <a:off x="4572000" y="0"/>
            <a:ext cx="4572000" cy="1905120"/>
          </a:xfrm>
          <a:prstGeom prst="cloudCallout">
            <a:avLst>
              <a:gd name="adj1" fmla="val -49615"/>
              <a:gd name="adj2" fmla="val 1047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用形象化的对比有什么作用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127"/>
          <p:cNvSpPr/>
          <p:nvPr/>
        </p:nvSpPr>
        <p:spPr>
          <a:xfrm>
            <a:off x="457200" y="5715000"/>
            <a:ext cx="843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引出对时光和人生的</a:t>
            </a:r>
            <a:r>
              <a:rPr b="1" lang="zh-CN" sz="48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思考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BJ_022"/>
          <p:cNvPicPr/>
          <p:nvPr/>
        </p:nvPicPr>
        <p:blipFill>
          <a:blip r:embed="rId1"/>
          <a:stretch/>
        </p:blipFill>
        <p:spPr>
          <a:xfrm>
            <a:off x="5854680" y="4665600"/>
            <a:ext cx="3289320" cy="219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036"/>
          <p:cNvPicPr/>
          <p:nvPr/>
        </p:nvPicPr>
        <p:blipFill>
          <a:blip r:embed="rId2"/>
          <a:stretch/>
        </p:blipFill>
        <p:spPr>
          <a:xfrm>
            <a:off x="820728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187280" y="155736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      ），有（         ）的时候，       （         ），有（         ）的时候，           可 时 间 却 一 去 不 复 返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57200" y="609480"/>
            <a:ext cx="35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说一说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7-07T01:35:30Z</dcterms:modified>
  <cp:revision>124</cp:revision>
  <dc:subject/>
  <dc:title/>
</cp:coreProperties>
</file>