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type.wav" ContentType="audio/x-wav"/>
  <Override PartName="/ppt/media/image31.jpeg" ContentType="image/jpeg"/>
  <Override PartName="/ppt/media/click.wav" ContentType="audio/x-wav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9.wmf" ContentType="image/x-wmf"/>
  <Override PartName="/ppt/media/image38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6.wmf" ContentType="image/x-wmf"/>
  <Override PartName="/ppt/media/image19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F620-095D-4DFA-A75B-EE7915E33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3976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2560" y="43401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出示课题，读题，再想想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3976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2560" y="43401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学课文出示自习提纲。然后汇报自习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3976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2560" y="43401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读完全文，师生讨论。然后小结：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CF0-A545-40A7-854D-CCAF7506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CAA-8CA6-4EB3-BFCF-5C5ED5AD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133-F667-4E3B-A63E-1B2CBA50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E1E-E1A9-47BC-8CC1-BAF1232C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EA7-5A91-463A-BFB8-E9936685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142-3BC3-4B19-AF19-60726850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239F-3AA7-46C9-88F5-828FE201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4A3-2014-4C21-8E66-69186B7F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F75-0981-47B1-9A21-1ED1FA84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42F-B29C-48C8-8ECD-D1BC82DD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53D-4725-4BC7-9F3B-5E049FDF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5FF-D36E-4AC4-8759-A472472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8E08-41D7-45D1-8E63-082ADF442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084229814571"/>
          <p:cNvPicPr/>
          <p:nvPr/>
        </p:nvPicPr>
        <p:blipFill>
          <a:blip r:embed="rId1"/>
          <a:stretch/>
        </p:blipFill>
        <p:spPr>
          <a:xfrm>
            <a:off x="0" y="0"/>
            <a:ext cx="9145440" cy="6894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900000" y="765000"/>
            <a:ext cx="590400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桂林山水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58920" y="1844640"/>
            <a:ext cx="8785080" cy="82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瑕   翡翠   荡漾  观赏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348000" y="2997360"/>
            <a:ext cx="244800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Wingdings 3"/>
                <a:ea typeface="Wingdings 3"/>
              </a:rPr>
              <a:t>水平如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905880" y="2946240"/>
            <a:ext cx="96120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Wingdings 3"/>
                <a:ea typeface="Wingdings 3"/>
              </a:rPr>
              <a:t>峰峦</a:t>
            </a:r>
            <a:r>
              <a:rPr b="1" lang="zh-CN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雄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348000" y="4005360"/>
            <a:ext cx="259236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Wingdings 3"/>
                <a:ea typeface="Wingdings 3"/>
              </a:rPr>
              <a:t>拔地而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300720" y="4005360"/>
            <a:ext cx="284328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Wingdings 3"/>
                <a:ea typeface="Wingdings 3"/>
              </a:rPr>
              <a:t>奇峰罗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129560" y="4890960"/>
            <a:ext cx="99756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Wingdings 3"/>
                <a:ea typeface="Wingdings 3"/>
              </a:rPr>
              <a:t>连绵不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034640" y="2946240"/>
            <a:ext cx="99756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Wingdings 3"/>
                <a:ea typeface="Wingdings 3"/>
              </a:rPr>
              <a:t>波澜壮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968760" y="4005360"/>
            <a:ext cx="92448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红叶似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1033920" y="4890960"/>
            <a:ext cx="99756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Wingdings 3"/>
                <a:ea typeface="Wingdings 3"/>
              </a:rPr>
              <a:t>形态万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1619280" y="404640"/>
            <a:ext cx="57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课优美的词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7010640" y="4890960"/>
            <a:ext cx="99756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Wingdings 3"/>
                <a:ea typeface="Wingdings 3"/>
              </a:rPr>
              <a:t>危峰兀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词语解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无瑕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瑕：玉上面的斑点。没有斑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水平如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水面平静明亮，像一面镜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波澜壮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澜：大波浪。课文中指大海中的波浪雄壮浩大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形态万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形状、姿态多种多样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峰峦雄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山峰连绵不断，雄壮而高大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840320" y="765000"/>
            <a:ext cx="371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桂林山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28720" y="2205000"/>
            <a:ext cx="654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你从课题知道这篇文章主要写什么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12720" y="3860640"/>
            <a:ext cx="78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8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先写水，再写山，山水相融</a:t>
            </a:r>
            <a:r>
              <a:rPr b="0" lang="zh-CN" sz="4000" spc="-1" strike="noStrike">
                <a:solidFill>
                  <a:srgbClr val="808080"/>
                </a:solidFill>
                <a:latin typeface="Arial"/>
              </a:rPr>
              <a:t>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请同学们按下列要求自学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755640" y="98100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自由读全文，请找出一句能概括全文，给你总体印象的句子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看看课文怎样围绕这句话来写，再用一个句子说出每个小段的大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684360" y="429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全文有四段：第一段写乘着船观赏桂林的山水。第二段写了漓江的水。第三段写了桂林的水。第四段写了桂林的山和水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900000" y="62064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题目和课文内容有什么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55640" y="2565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这篇课文是按什么顺序写呢？先总写什么？再分别写了什么？最后又写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8720" y="4437000"/>
            <a:ext cx="678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全文的记叙顺序是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先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（        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再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（         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后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（         ）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535400" y="5086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Arial"/>
              </a:rPr>
              <a:t>先总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207400" y="5086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Arial"/>
              </a:rPr>
              <a:t>再分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047760" y="5661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Arial"/>
              </a:rPr>
              <a:t>后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828720" y="1268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课文内容紧紧围绕题目的桂林中的“山”和“水”来写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桂林 漓江2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8284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9933"/>
                </a:solidFill>
                <a:latin typeface="Arial"/>
              </a:rPr>
              <a:t>（齐读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人们都说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桂林山水甲天下。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们乘着木船荡漾在漓江上，来观赏桂林的山水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461772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ccff33"/>
                </a:solidFill>
                <a:latin typeface="Arial"/>
                <a:ea typeface="华文新魏"/>
              </a:rPr>
              <a:t>“  </a:t>
            </a:r>
            <a:r>
              <a:rPr b="0" lang="zh-CN" sz="4400" spc="-1" strike="noStrike">
                <a:solidFill>
                  <a:srgbClr val="ccff33"/>
                </a:solidFill>
                <a:latin typeface="Arial"/>
                <a:ea typeface="华文新魏"/>
              </a:rPr>
              <a:t>甲天下”是什么意思？是什么原因使作者去观赏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656720" y="380880"/>
            <a:ext cx="468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ff33"/>
                </a:solidFill>
                <a:latin typeface="Tahoma"/>
              </a:rPr>
              <a:t>人们是怎样评价桂林山水的</a:t>
            </a: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zh-CN" sz="4400" spc="-1" strike="noStrike">
                <a:solidFill>
                  <a:srgbClr val="66ff33"/>
                </a:solidFill>
                <a:latin typeface="Tahoma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桂林山水甲天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甲：第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甲天下：天下第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桂林山水，天下第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84360" y="1313640"/>
            <a:ext cx="71578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默读第二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、哪些词句能看出漓江的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甲天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、桂林的水有什么特点？圈出概括特点的词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、想想作者在文中运用了哪些修辞方法写出桂林水美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、写大海与西湖，是为了什么？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16000" y="1916280"/>
            <a:ext cx="352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771640" y="1268280"/>
            <a:ext cx="36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468360" y="1125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ff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我看过波澜壮阔的大海，玩赏过水平如镜的西湖，却从没看见过漓江这样的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N_106"/>
          <p:cNvPicPr/>
          <p:nvPr/>
        </p:nvPicPr>
        <p:blipFill>
          <a:blip r:embed="rId1"/>
          <a:stretch/>
        </p:blipFill>
        <p:spPr>
          <a:xfrm>
            <a:off x="2771640" y="2924280"/>
            <a:ext cx="3456000" cy="345600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6"/>
          <p:cNvGrpSpPr/>
          <p:nvPr/>
        </p:nvGrpSpPr>
        <p:grpSpPr>
          <a:xfrm>
            <a:off x="395280" y="3357720"/>
            <a:ext cx="2664000" cy="1368360"/>
            <a:chOff x="395280" y="3357720"/>
            <a:chExt cx="2664000" cy="1368360"/>
          </a:xfrm>
        </p:grpSpPr>
        <p:sp>
          <p:nvSpPr>
            <p:cNvPr id="204" name="AutoShape 7"/>
            <p:cNvSpPr/>
            <p:nvPr/>
          </p:nvSpPr>
          <p:spPr>
            <a:xfrm>
              <a:off x="395280" y="3357720"/>
              <a:ext cx="2664000" cy="1368360"/>
            </a:xfrm>
            <a:prstGeom prst="irregularSeal2">
              <a:avLst/>
            </a:prstGeom>
            <a:solidFill>
              <a:srgbClr val="bbe0e3"/>
            </a:solidFill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978480" y="37180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cc33"/>
                  </a:solidFill>
                  <a:latin typeface="Comic Sans MS"/>
                  <a:ea typeface="华文行楷"/>
                </a:rPr>
                <a:t>波澜壮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9"/>
          <p:cNvSpPr/>
          <p:nvPr/>
        </p:nvSpPr>
        <p:spPr>
          <a:xfrm>
            <a:off x="6659640" y="386064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Comic Sans MS"/>
                <a:ea typeface="华文行楷"/>
              </a:rPr>
              <a:t>大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0"/>
          <p:cNvGrpSpPr/>
          <p:nvPr/>
        </p:nvGrpSpPr>
        <p:grpSpPr>
          <a:xfrm>
            <a:off x="6300720" y="4724280"/>
            <a:ext cx="2374920" cy="1009800"/>
            <a:chOff x="6300720" y="4724280"/>
            <a:chExt cx="2374920" cy="1009800"/>
          </a:xfrm>
        </p:grpSpPr>
        <p:sp>
          <p:nvSpPr>
            <p:cNvPr id="208" name="AutoShape 11"/>
            <p:cNvSpPr/>
            <p:nvPr/>
          </p:nvSpPr>
          <p:spPr>
            <a:xfrm>
              <a:off x="6300720" y="4724280"/>
              <a:ext cx="2374920" cy="1009800"/>
            </a:xfrm>
            <a:prstGeom prst="cloudCallout">
              <a:avLst>
                <a:gd name="adj1" fmla="val -25800"/>
                <a:gd name="adj2" fmla="val 35847"/>
              </a:avLst>
            </a:prstGeom>
            <a:solidFill>
              <a:srgbClr val="bbe0e3"/>
            </a:solidFill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6955560" y="494172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cc33"/>
                  </a:solidFill>
                  <a:latin typeface="Comic Sans MS"/>
                  <a:ea typeface="华文行楷"/>
                </a:rPr>
                <a:t>水平如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13"/>
          <p:cNvSpPr/>
          <p:nvPr/>
        </p:nvSpPr>
        <p:spPr>
          <a:xfrm>
            <a:off x="1661040" y="479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Comic Sans MS"/>
                <a:ea typeface="华文行楷"/>
              </a:rPr>
              <a:t>西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468360" y="138636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  <a:ea typeface="华文行楷"/>
              </a:rPr>
              <a:t>填空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新魏"/>
              </a:rPr>
              <a:t>我看见过（      ）的大海，玩赏过（    ）的西湖，却从没看见过漓江这样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9999"/>
                </a:solidFill>
                <a:latin typeface="Tahoma"/>
                <a:ea typeface="华文新魏"/>
              </a:rPr>
              <a:t>想想课文写漓江水为什么要写这些著名的山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3"/>
          <p:cNvSpPr txBox="1"/>
          <p:nvPr/>
        </p:nvSpPr>
        <p:spPr>
          <a:xfrm>
            <a:off x="1692360" y="3286080"/>
            <a:ext cx="2806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作比较</a:t>
            </a:r>
            <a:endParaRPr b="0" lang="en-US" sz="5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4572000" y="328608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突出漓江水的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79280" y="476280"/>
            <a:ext cx="8785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桂林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位于广西壮族自治区的东北部，因其风景秀丽而享有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桂林山水甲天下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的美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桂林的山一座座拔地而起、奇峰罗列、色彩明丽；桂林的水清澈见底，似明镜、像翡翠。这样的山水交相辉映，构成了一幅绵延千里的绝妙画卷。让我们随着作者一起做一次愉快的旅行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20080424_6c2db3dd0e7a916d91d4qMy1PSfvqAF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611280" y="551664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我看见过波澜壮阔的大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图片5"/>
          <p:cNvPicPr/>
          <p:nvPr/>
        </p:nvPicPr>
        <p:blipFill>
          <a:blip r:embed="rId1"/>
          <a:stretch/>
        </p:blipFill>
        <p:spPr>
          <a:xfrm>
            <a:off x="-33480" y="1440"/>
            <a:ext cx="9285480" cy="69566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826920" y="26028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玩赏过水平如镜的西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200702202008280[1]"/>
          <p:cNvPicPr/>
          <p:nvPr/>
        </p:nvPicPr>
        <p:blipFill>
          <a:blip r:embed="rId1"/>
          <a:srcRect l="0" t="0" r="0" b="6667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755640" y="33336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却没见过漓江这样的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316[1]"/>
          <p:cNvPicPr/>
          <p:nvPr/>
        </p:nvPicPr>
        <p:blipFill>
          <a:blip r:embed="rId1"/>
          <a:srcRect l="0" t="0" r="2499" b="0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WordArt 3"/>
          <p:cNvSpPr txBox="1"/>
          <p:nvPr/>
        </p:nvSpPr>
        <p:spPr>
          <a:xfrm>
            <a:off x="1692360" y="1989000"/>
            <a:ext cx="5619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想一想：漓江水的特点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1 (3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WordArt 3"/>
          <p:cNvSpPr txBox="1"/>
          <p:nvPr/>
        </p:nvSpPr>
        <p:spPr>
          <a:xfrm>
            <a:off x="1258920" y="549360"/>
            <a:ext cx="4495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漓江的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3348000" y="49417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清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826920" y="3789360"/>
            <a:ext cx="1143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cc00"/>
                  </a:solidFill>
                  <a:miter/>
                </a:ln>
                <a:blipFill rotWithShape="0">
                  <a:blip r:embed="rId4">
                    <a:alphaModFix amt="62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静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blipFill rotWithShape="0">
                <a:blip r:embed="rId5">
                  <a:alphaModFix amt="62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6" name="WordArt 6"/>
          <p:cNvSpPr txBox="1"/>
          <p:nvPr/>
        </p:nvSpPr>
        <p:spPr>
          <a:xfrm>
            <a:off x="6659640" y="3933720"/>
            <a:ext cx="990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cc00"/>
                  </a:solidFill>
                  <a:miter/>
                </a:ln>
                <a:blipFill rotWithShape="0">
                  <a:blip r:embed="rId6">
                    <a:alphaModFix amt="74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绿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blipFill rotWithShape="0">
                <a:blip r:embed="rId7">
                  <a:alphaModFix amt="74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27" name="Picture 7" descr="2 (5)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3 (1)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6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6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图片8"/>
          <p:cNvPicPr/>
          <p:nvPr/>
        </p:nvPicPr>
        <p:blipFill>
          <a:blip r:embed="rId1"/>
          <a:stretch/>
        </p:blipFill>
        <p:spPr>
          <a:xfrm>
            <a:off x="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8082360" y="-783720"/>
            <a:ext cx="8506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漓江的水真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啊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7083720" y="-1056240"/>
            <a:ext cx="850680" cy="84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得让你感觉不到他在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5"/>
          <p:cNvSpPr txBox="1"/>
          <p:nvPr/>
        </p:nvSpPr>
        <p:spPr>
          <a:xfrm>
            <a:off x="468360" y="620640"/>
            <a:ext cx="129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静</a:t>
            </a:r>
            <a:endParaRPr b="0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1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图片9"/>
          <p:cNvPicPr/>
          <p:nvPr/>
        </p:nvPicPr>
        <p:blipFill>
          <a:blip r:embed="rId1"/>
          <a:stretch/>
        </p:blipFill>
        <p:spPr>
          <a:xfrm>
            <a:off x="0" y="0"/>
            <a:ext cx="6372360" cy="6858000"/>
          </a:xfrm>
          <a:prstGeom prst="rect">
            <a:avLst/>
          </a:prstGeom>
          <a:ln w="0">
            <a:noFill/>
          </a:ln>
          <a:effectLst>
            <a:outerShdw dist="140247" dir="5090731" blurRad="0" rotWithShape="0">
              <a:srgbClr val="808080"/>
            </a:outerShdw>
          </a:effectLst>
        </p:spPr>
      </p:pic>
      <p:sp>
        <p:nvSpPr>
          <p:cNvPr id="234" name="Text Box 3"/>
          <p:cNvSpPr/>
          <p:nvPr/>
        </p:nvSpPr>
        <p:spPr>
          <a:xfrm>
            <a:off x="7888680" y="0"/>
            <a:ext cx="850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漓江的水真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6735960" y="-543240"/>
            <a:ext cx="850680" cy="84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得可以看见江底的沙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5"/>
          <p:cNvSpPr txBox="1"/>
          <p:nvPr/>
        </p:nvSpPr>
        <p:spPr>
          <a:xfrm>
            <a:off x="684360" y="4724280"/>
            <a:ext cx="1028520" cy="11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清</a:t>
            </a:r>
            <a:endParaRPr b="0" lang="en-US" sz="8000" spc="1" strike="noStrike">
              <a:ln w="9360">
                <a:solidFill>
                  <a:srgbClr val="008000"/>
                </a:solidFill>
                <a:miter/>
              </a:ln>
              <a:solidFill>
                <a:srgbClr val="ffff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665964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7960320" y="-768600"/>
            <a:ext cx="789840" cy="56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漓江的水真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6952320" y="260280"/>
            <a:ext cx="789840" cy="68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得仿佛那是一块无瑕的翡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684360" y="1125360"/>
            <a:ext cx="121896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6ff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幼圆"/>
              </a:rPr>
              <a:t>绿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66ff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幼圆"/>
              <a:ea typeface="幼圆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江的水真静啊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得让你感觉不到它在流动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江的水真清啊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得可以看见江底的沙石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江的水真绿啊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得仿佛是一块无暇的翡翠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79280" y="33336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漓江水有哪些特点？用几个字简单地概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江的水真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得让你感觉不到它在流动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江的水真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清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得可以看见江底的沙石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江的水真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绿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得仿佛是一块无暇的翡翠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3"/>
          <p:cNvSpPr txBox="1"/>
          <p:nvPr/>
        </p:nvSpPr>
        <p:spPr>
          <a:xfrm>
            <a:off x="1187280" y="5734080"/>
            <a:ext cx="236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排比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55640" y="44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者运用了什么修辞手法，把漓江的水写得这么奇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5"/>
          <p:cNvSpPr txBox="1"/>
          <p:nvPr/>
        </p:nvSpPr>
        <p:spPr>
          <a:xfrm>
            <a:off x="5580000" y="5589720"/>
            <a:ext cx="236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比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"/>
          <p:cNvPicPr/>
          <p:nvPr/>
        </p:nvPicPr>
        <p:blipFill>
          <a:blip r:embed="rId1"/>
          <a:stretch/>
        </p:blipFill>
        <p:spPr>
          <a:xfrm>
            <a:off x="468360" y="171360"/>
            <a:ext cx="819144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排比是一种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修辞手法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利用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个或三个以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义相关或相近，结构相同或相似和语气相同的词组或句子并排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达到一种加强语势的效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539640" y="3573360"/>
            <a:ext cx="84250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380880" y="28195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江的水真静啊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5631120" y="2819520"/>
            <a:ext cx="29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让你感觉不到它在流动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745800" y="3860640"/>
            <a:ext cx="21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船桨激起的微波散出一道道水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才能让你感觉到船在前进，岸在后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江的水真静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得让你感觉不到它在流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简单写）       （具体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江的水真清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得可以看见江底的沙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江的水真绿啊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得仿佛是一块无暇的翡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28600" y="2819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江的水真绿啊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6647040" y="281952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仿佛是一块无暇的翡翠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WordArt 5"/>
          <p:cNvSpPr txBox="1"/>
          <p:nvPr/>
        </p:nvSpPr>
        <p:spPr>
          <a:xfrm>
            <a:off x="3962520" y="38862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比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58" name="WordArt 6"/>
          <p:cNvSpPr txBox="1"/>
          <p:nvPr/>
        </p:nvSpPr>
        <p:spPr>
          <a:xfrm>
            <a:off x="1447920" y="40384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漓江的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9" name="WordArt 7"/>
          <p:cNvSpPr txBox="1"/>
          <p:nvPr/>
        </p:nvSpPr>
        <p:spPr>
          <a:xfrm>
            <a:off x="6019920" y="403848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无暇的翡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13"/>
          <p:cNvPicPr/>
          <p:nvPr/>
        </p:nvPicPr>
        <p:blipFill>
          <a:blip r:embed="rId1"/>
          <a:stretch/>
        </p:blipFill>
        <p:spPr>
          <a:xfrm>
            <a:off x="304920" y="380880"/>
            <a:ext cx="4647960" cy="3716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1795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181480" y="457200"/>
            <a:ext cx="3657600" cy="35812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684360" y="450864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漓江的水真绿啊，绿得仿佛那是一块无瑕的翡翠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说说下面哪一句更能让人感到漓江的水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漓江水的水真静啊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漓江水的水好静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漓江水的水很静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95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836640"/>
            <a:ext cx="8820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  <a:ea typeface="隶书"/>
              </a:rPr>
              <a:t>照样子</a:t>
            </a:r>
            <a:r>
              <a:rPr b="1" lang="en-US" sz="3200" spc="-1" strike="noStrike">
                <a:solidFill>
                  <a:srgbClr val="009999"/>
                </a:solidFill>
                <a:latin typeface="Tahoma"/>
                <a:ea typeface="隶书"/>
              </a:rPr>
              <a:t>,</a:t>
            </a:r>
            <a:r>
              <a:rPr b="1" lang="zh-CN" sz="3200" spc="-1" strike="noStrike">
                <a:solidFill>
                  <a:srgbClr val="009999"/>
                </a:solidFill>
                <a:latin typeface="Tahoma"/>
                <a:ea typeface="隶书"/>
              </a:rPr>
              <a:t>说一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树上的鸟儿真多啊，多得（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这棵老槐树真粗啊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隶书"/>
              </a:rPr>
              <a:t>,(                                  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隶书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妈妈买来的西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隶书"/>
              </a:rPr>
              <a:t>(   ),(                               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034bh"/>
          <p:cNvPicPr/>
          <p:nvPr/>
        </p:nvPicPr>
        <p:blipFill>
          <a:blip r:embed="rId1"/>
          <a:stretch/>
        </p:blipFill>
        <p:spPr>
          <a:xfrm>
            <a:off x="4211640" y="5516640"/>
            <a:ext cx="397512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2411280" y="620640"/>
            <a:ext cx="7201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啊，静得让我感觉不到它在流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啊，清得可以看见江底的沙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啊，绿得仿佛那是一块无瑕的翡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250920" y="278136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、比较他们表达的意思有什么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762120" y="40384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304920" y="426708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、这三个分句组成了一个排比句，要读出递进语势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声音由低到高，速度由慢到快，感情由弱到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304920" y="6095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228600" y="32846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水流：感觉上    水态： 视觉上   水色：用比喻突出它的可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0" y="141300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漓江的水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912320" y="692280"/>
            <a:ext cx="6069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静  清  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684360" y="23169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50920" y="40464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结第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节学习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了解桂林的水有什么特点？圈出概括特点的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划出句子，说明桂林水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想想作者在文中运用了哪些修辞方法写出桂林水美的。  试着有感情朗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写大海与西湖，是为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"/>
          <p:cNvSpPr/>
          <p:nvPr/>
        </p:nvSpPr>
        <p:spPr>
          <a:xfrm>
            <a:off x="1066680" y="685800"/>
            <a:ext cx="7010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066680" y="685800"/>
            <a:ext cx="701064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学习第二段的方法学习第三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找出描写桂林的山特点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认真朗读有关句子， 体会作者的思想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节开头将“泰山”、“香山”与“桂林的山”进行比较，这样写有什么好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人自由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组讨论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1300000560404127020169149404"/>
          <p:cNvPicPr/>
          <p:nvPr/>
        </p:nvPicPr>
        <p:blipFill>
          <a:blip r:embed="rId1"/>
          <a:stretch/>
        </p:blipFill>
        <p:spPr>
          <a:xfrm>
            <a:off x="324000" y="620640"/>
            <a:ext cx="3647880" cy="5472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4427640" y="33336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陈淼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男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1927-1981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汉族。辽宁大连人。中共党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毕业于华北联大文艺学院文学系研究生部。历任全国文协创作员。中央文学研究所教务所秘书，研究员。中国作家协会秘书室主任，鞍钢党委组织部副部长，鞍山市文联副主席，中国作家协会辽宁分会专业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479408180333592439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3"/>
          <p:cNvSpPr/>
          <p:nvPr/>
        </p:nvSpPr>
        <p:spPr>
          <a:xfrm>
            <a:off x="179280" y="18900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桂林的山到底是一幅怎么样的美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桂林-奇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5157720"/>
            <a:ext cx="91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桂林的山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一座座拔地而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各不相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608760" y="-171360"/>
            <a:ext cx="672840" cy="170892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ffff"/>
                </a:solidFill>
                <a:latin typeface="Wingdings 3"/>
                <a:ea typeface="Wingdings 3"/>
              </a:rPr>
              <a:t>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20071112135426438[1]"/>
          <p:cNvPicPr/>
          <p:nvPr/>
        </p:nvPicPr>
        <p:blipFill>
          <a:blip r:embed="rId1"/>
          <a:srcRect l="0" t="0" r="941" b="7457"/>
          <a:stretch/>
        </p:blipFill>
        <p:spPr>
          <a:xfrm>
            <a:off x="1619280" y="0"/>
            <a:ext cx="4172040" cy="4572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ufDB1sLmzdXJvQ==_9o6soCc65AoJ[1]"/>
          <p:cNvPicPr/>
          <p:nvPr/>
        </p:nvPicPr>
        <p:blipFill>
          <a:blip r:embed="rId2"/>
          <a:stretch/>
        </p:blipFill>
        <p:spPr>
          <a:xfrm>
            <a:off x="5796000" y="0"/>
            <a:ext cx="3348000" cy="4897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1920986703[1]"/>
          <p:cNvPicPr/>
          <p:nvPr/>
        </p:nvPicPr>
        <p:blipFill>
          <a:blip r:embed="rId3"/>
          <a:stretch/>
        </p:blipFill>
        <p:spPr>
          <a:xfrm>
            <a:off x="0" y="0"/>
            <a:ext cx="2843280" cy="49417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1979640" y="5300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老人、像巨象、像骆驼，奇峰罗列，形态万千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999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句话主要写　　　　　　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句子中把　比作　　 、      、       。 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"/>
          <p:cNvSpPr/>
          <p:nvPr/>
        </p:nvSpPr>
        <p:spPr>
          <a:xfrm>
            <a:off x="3962520" y="2514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27432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4343400" y="3200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708660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3886200" y="18288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桂林山的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4267080" y="25146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老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5638680" y="25146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巨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5715000" y="3200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7296120" y="2514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骆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2743200" y="2514600"/>
            <a:ext cx="6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4"/>
          <p:cNvSpPr/>
          <p:nvPr/>
        </p:nvSpPr>
        <p:spPr>
          <a:xfrm>
            <a:off x="5266440" y="41432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奇 峰 罗 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5"/>
          <p:cNvSpPr/>
          <p:nvPr/>
        </p:nvSpPr>
        <p:spPr>
          <a:xfrm>
            <a:off x="1623240" y="41432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形 态 万 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"/>
          <p:cNvSpPr/>
          <p:nvPr/>
        </p:nvSpPr>
        <p:spPr>
          <a:xfrm>
            <a:off x="179280" y="53737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桂林的山真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"/>
              </a:rPr>
              <a:t>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啊，像翠绿的屏障，像新生的竹笋，色彩明丽，倒映水中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4"/>
          <p:cNvSpPr txBox="1"/>
          <p:nvPr/>
        </p:nvSpPr>
        <p:spPr>
          <a:xfrm>
            <a:off x="900000" y="476280"/>
            <a:ext cx="100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85328" dir="3806096" blurRad="0" rotWithShape="0">
                    <a:srgbClr val="9999ff"/>
                  </a:outerShdw>
                </a:effectLst>
                <a:latin typeface="华文行楷"/>
              </a:rPr>
              <a:t>秀</a:t>
            </a:r>
            <a:endParaRPr b="0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85328" dir="3806096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句话主要写　　　　　　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句子中把　　　比作　　、　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>
            <a:off x="3962520" y="2819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43"/>
          <p:cNvSpPr/>
          <p:nvPr/>
        </p:nvSpPr>
        <p:spPr>
          <a:xfrm>
            <a:off x="2819520" y="34290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4"/>
          <p:cNvSpPr/>
          <p:nvPr/>
        </p:nvSpPr>
        <p:spPr>
          <a:xfrm>
            <a:off x="525780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5"/>
          <p:cNvSpPr/>
          <p:nvPr/>
        </p:nvSpPr>
        <p:spPr>
          <a:xfrm>
            <a:off x="655308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8"/>
          <p:cNvSpPr/>
          <p:nvPr/>
        </p:nvSpPr>
        <p:spPr>
          <a:xfrm>
            <a:off x="4365000" y="2205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桂林山的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0"/>
          <p:cNvSpPr/>
          <p:nvPr/>
        </p:nvSpPr>
        <p:spPr>
          <a:xfrm>
            <a:off x="3227400" y="2819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1"/>
          <p:cNvSpPr/>
          <p:nvPr/>
        </p:nvSpPr>
        <p:spPr>
          <a:xfrm>
            <a:off x="5257800" y="2743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屏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2"/>
          <p:cNvSpPr/>
          <p:nvPr/>
        </p:nvSpPr>
        <p:spPr>
          <a:xfrm>
            <a:off x="6553080" y="2743200"/>
            <a:ext cx="17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竹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179280" y="57340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桂林的山真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好像一不小心就会栽倒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3723071120070813223836030_640"/>
          <p:cNvPicPr/>
          <p:nvPr/>
        </p:nvPicPr>
        <p:blipFill>
          <a:blip r:embed="rId1"/>
          <a:srcRect l="0" t="0" r="3470" b="12314"/>
          <a:stretch/>
        </p:blipFill>
        <p:spPr>
          <a:xfrm>
            <a:off x="179280" y="0"/>
            <a:ext cx="4240440" cy="23623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20091117_16194412f4e6"/>
          <p:cNvPicPr/>
          <p:nvPr/>
        </p:nvPicPr>
        <p:blipFill>
          <a:blip r:embed="rId2"/>
          <a:srcRect l="0" t="0" r="1117" b="19906"/>
          <a:stretch/>
        </p:blipFill>
        <p:spPr>
          <a:xfrm>
            <a:off x="4572000" y="0"/>
            <a:ext cx="434340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201011810101586"/>
          <p:cNvPicPr/>
          <p:nvPr/>
        </p:nvPicPr>
        <p:blipFill>
          <a:blip r:embed="rId3"/>
          <a:stretch/>
        </p:blipFill>
        <p:spPr>
          <a:xfrm>
            <a:off x="250920" y="2708280"/>
            <a:ext cx="4392360" cy="2852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200905121808446624"/>
          <p:cNvPicPr/>
          <p:nvPr/>
        </p:nvPicPr>
        <p:blipFill>
          <a:blip r:embed="rId4"/>
          <a:srcRect l="0" t="0" r="0" b="13470"/>
          <a:stretch/>
        </p:blipFill>
        <p:spPr>
          <a:xfrm>
            <a:off x="4570560" y="2637000"/>
            <a:ext cx="4573440" cy="2468520"/>
          </a:xfrm>
          <a:prstGeom prst="rect">
            <a:avLst/>
          </a:prstGeom>
          <a:ln w="0">
            <a:noFill/>
          </a:ln>
        </p:spPr>
      </p:pic>
      <p:sp>
        <p:nvSpPr>
          <p:cNvPr id="318" name="WordArt 7"/>
          <p:cNvSpPr txBox="1"/>
          <p:nvPr/>
        </p:nvSpPr>
        <p:spPr>
          <a:xfrm>
            <a:off x="2556000" y="573408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险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19" name="WordArt 8" descr=""/>
          <p:cNvPicPr/>
          <p:nvPr/>
        </p:nvPicPr>
        <p:blipFill>
          <a:blip r:embed="rId5"/>
          <a:stretch/>
        </p:blipFill>
        <p:spPr>
          <a:xfrm>
            <a:off x="3981600" y="5583240"/>
            <a:ext cx="3735360" cy="8413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2627280" y="2421000"/>
            <a:ext cx="1582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00"/>
                </a:solidFill>
                <a:latin typeface="Wingdings 3"/>
                <a:ea typeface="Wingdings 3"/>
              </a:rPr>
              <a:t>险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6" name="click.wav"/>
      </p:stSnd>
    </p:sndAc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324000" y="62064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桂林的山真奇啊，一座座拔地而起，各不相连，像老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巨象，像骆驼，奇峰罗列，形态万千；桂林的山真秀啊，像翠绿的屏障，像新生的竹笋，色彩明丽，倒映水中；桂林的山真险啊，危峰兀立，怪石嶙峋，好象一不小心就会栽倒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79280" y="40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齐读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AutoShape 2"/>
          <p:cNvSpPr/>
          <p:nvPr/>
        </p:nvSpPr>
        <p:spPr>
          <a:xfrm>
            <a:off x="468360" y="2997360"/>
            <a:ext cx="2519280" cy="576000"/>
          </a:xfrm>
          <a:custGeom>
            <a:avLst/>
            <a:gdLst>
              <a:gd name="textAreaLeft" fmla="*/ 0 w 2519280"/>
              <a:gd name="textAreaRight" fmla="*/ 2519640 w 2519280"/>
              <a:gd name="textAreaTop" fmla="*/ 74520 h 576000"/>
              <a:gd name="textAreaBottom" fmla="*/ 5014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"/>
          <p:cNvSpPr/>
          <p:nvPr/>
        </p:nvSpPr>
        <p:spPr>
          <a:xfrm>
            <a:off x="4859280" y="2421000"/>
            <a:ext cx="2881440" cy="576360"/>
          </a:xfrm>
          <a:custGeom>
            <a:avLst/>
            <a:gdLst>
              <a:gd name="textAreaLeft" fmla="*/ 0 w 2881440"/>
              <a:gd name="textAreaRight" fmla="*/ 2881800 w 288144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>
            <a:off x="3780000" y="1341360"/>
            <a:ext cx="4679640" cy="574920"/>
          </a:xfrm>
          <a:custGeom>
            <a:avLst/>
            <a:gdLst>
              <a:gd name="textAreaLeft" fmla="*/ 0 w 4679640"/>
              <a:gd name="textAreaRight" fmla="*/ 4680000 w 4679640"/>
              <a:gd name="textAreaTop" fmla="*/ 74520 h 574920"/>
              <a:gd name="textAreaBottom" fmla="*/ 500400 h 57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95280" y="620640"/>
            <a:ext cx="828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9966ff"/>
                </a:solidFill>
                <a:latin typeface="隶书"/>
                <a:ea typeface="隶书"/>
              </a:rPr>
              <a:t>桂林的山真</a:t>
            </a:r>
            <a:r>
              <a:rPr b="1" lang="zh-CN" sz="3600" spc="-1" strike="noStrike">
                <a:solidFill>
                  <a:srgbClr val="808080"/>
                </a:solidFill>
                <a:latin typeface="隶书"/>
                <a:ea typeface="隶书"/>
              </a:rPr>
              <a:t>奇</a:t>
            </a:r>
            <a:r>
              <a:rPr b="1" lang="zh-CN" sz="3600" spc="-1" strike="noStrike">
                <a:solidFill>
                  <a:srgbClr val="9966ff"/>
                </a:solidFill>
                <a:latin typeface="隶书"/>
                <a:ea typeface="隶书"/>
              </a:rPr>
              <a:t>啊，一座座拔地而起，各不相连，像老人，像巨象</a:t>
            </a:r>
            <a:r>
              <a:rPr b="1" lang="en-US" sz="3600" spc="-1" strike="noStrike">
                <a:solidFill>
                  <a:srgbClr val="9966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9966ff"/>
                </a:solidFill>
                <a:latin typeface="隶书"/>
                <a:ea typeface="隶书"/>
              </a:rPr>
              <a:t>像骆驼奇峰罗列，形态万千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9966ff"/>
                </a:solidFill>
                <a:latin typeface="隶书"/>
                <a:ea typeface="隶书"/>
              </a:rPr>
              <a:t>桂林的山真</a:t>
            </a:r>
            <a:r>
              <a:rPr b="1" lang="zh-CN" sz="3600" spc="-1" strike="noStrike">
                <a:solidFill>
                  <a:srgbClr val="808080"/>
                </a:solidFill>
                <a:latin typeface="隶书"/>
                <a:ea typeface="隶书"/>
              </a:rPr>
              <a:t>秀</a:t>
            </a:r>
            <a:r>
              <a:rPr b="1" lang="zh-CN" sz="3600" spc="-1" strike="noStrike">
                <a:solidFill>
                  <a:srgbClr val="9966ff"/>
                </a:solidFill>
                <a:latin typeface="隶书"/>
                <a:ea typeface="隶书"/>
              </a:rPr>
              <a:t>啊，像翠绿的屏障，像新生的竹笋，色彩明丽</a:t>
            </a:r>
            <a:r>
              <a:rPr b="1" lang="en-US" sz="3600" spc="-1" strike="noStrike">
                <a:solidFill>
                  <a:srgbClr val="9966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9966ff"/>
                </a:solidFill>
                <a:latin typeface="隶书"/>
                <a:ea typeface="隶书"/>
              </a:rPr>
              <a:t>倒映水中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9966ff"/>
                </a:solidFill>
                <a:latin typeface="隶书"/>
                <a:ea typeface="隶书"/>
              </a:rPr>
              <a:t>桂林的山真</a:t>
            </a:r>
            <a:r>
              <a:rPr b="1" lang="zh-CN" sz="3600" spc="-1" strike="noStrike">
                <a:solidFill>
                  <a:srgbClr val="808080"/>
                </a:solidFill>
                <a:latin typeface="隶书"/>
                <a:ea typeface="隶书"/>
              </a:rPr>
              <a:t>险</a:t>
            </a:r>
            <a:r>
              <a:rPr b="1" lang="zh-CN" sz="3600" spc="-1" strike="noStrike">
                <a:solidFill>
                  <a:srgbClr val="9966ff"/>
                </a:solidFill>
                <a:latin typeface="隶书"/>
                <a:ea typeface="隶书"/>
              </a:rPr>
              <a:t>啊，危峰兀立，怪石嶙峋，好像一不小心就会载倒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>
            <a:off x="7020000" y="4365720"/>
            <a:ext cx="2052720" cy="2520720"/>
          </a:xfrm>
          <a:prstGeom prst="cloudCallout">
            <a:avLst>
              <a:gd name="adj1" fmla="val -44115"/>
              <a:gd name="adj2" fmla="val 3588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些句用了哪些修辞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250920" y="5157720"/>
            <a:ext cx="1873080" cy="1081080"/>
          </a:xfrm>
          <a:prstGeom prst="wedgeEllipseCallout">
            <a:avLst>
              <a:gd name="adj1" fmla="val 98898"/>
              <a:gd name="adj2" fmla="val -104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排比、夸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8172360" y="0"/>
            <a:ext cx="1152720" cy="1484280"/>
          </a:xfrm>
          <a:prstGeom prst="wedgeEllipseCallout">
            <a:avLst>
              <a:gd name="adj1" fmla="val -201652"/>
              <a:gd name="adj2" fmla="val 557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70cb8511dbe925a377abe6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826920" y="692280"/>
            <a:ext cx="727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攀登过峰峦雄伟的泰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1835280" y="728640"/>
            <a:ext cx="2450520" cy="2715120"/>
            <a:chOff x="1835280" y="728640"/>
            <a:chExt cx="2450520" cy="2715120"/>
          </a:xfrm>
        </p:grpSpPr>
        <p:grpSp>
          <p:nvGrpSpPr>
            <p:cNvPr id="55" name="Group 3"/>
            <p:cNvGrpSpPr/>
            <p:nvPr/>
          </p:nvGrpSpPr>
          <p:grpSpPr>
            <a:xfrm>
              <a:off x="1835280" y="901800"/>
              <a:ext cx="2450520" cy="2520720"/>
              <a:chOff x="1835280" y="901800"/>
              <a:chExt cx="2450520" cy="25207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1835280" y="907920"/>
                <a:ext cx="2450520" cy="244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5"/>
              <p:cNvSpPr/>
              <p:nvPr/>
            </p:nvSpPr>
            <p:spPr>
              <a:xfrm>
                <a:off x="3103200" y="901800"/>
                <a:ext cx="1440" cy="25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6"/>
              <p:cNvSpPr/>
              <p:nvPr/>
            </p:nvSpPr>
            <p:spPr>
              <a:xfrm>
                <a:off x="1835280" y="2125440"/>
                <a:ext cx="245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Text Box 7"/>
            <p:cNvSpPr/>
            <p:nvPr/>
          </p:nvSpPr>
          <p:spPr>
            <a:xfrm>
              <a:off x="2277360" y="728640"/>
              <a:ext cx="149148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澜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8"/>
          <p:cNvGrpSpPr/>
          <p:nvPr/>
        </p:nvGrpSpPr>
        <p:grpSpPr>
          <a:xfrm>
            <a:off x="5435640" y="684360"/>
            <a:ext cx="2450880" cy="2718720"/>
            <a:chOff x="5435640" y="684360"/>
            <a:chExt cx="2450880" cy="2718720"/>
          </a:xfrm>
        </p:grpSpPr>
        <p:grpSp>
          <p:nvGrpSpPr>
            <p:cNvPr id="61" name="Group 9"/>
            <p:cNvGrpSpPr/>
            <p:nvPr/>
          </p:nvGrpSpPr>
          <p:grpSpPr>
            <a:xfrm>
              <a:off x="5435640" y="882360"/>
              <a:ext cx="2450880" cy="2520720"/>
              <a:chOff x="5435640" y="882360"/>
              <a:chExt cx="2450880" cy="2520720"/>
            </a:xfrm>
          </p:grpSpPr>
          <p:sp>
            <p:nvSpPr>
              <p:cNvPr id="62" name="Rectangle 4"/>
              <p:cNvSpPr/>
              <p:nvPr/>
            </p:nvSpPr>
            <p:spPr>
              <a:xfrm>
                <a:off x="5435640" y="888480"/>
                <a:ext cx="2450880" cy="244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5"/>
              <p:cNvSpPr/>
              <p:nvPr/>
            </p:nvSpPr>
            <p:spPr>
              <a:xfrm>
                <a:off x="6703920" y="882360"/>
                <a:ext cx="1440" cy="25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6"/>
              <p:cNvSpPr/>
              <p:nvPr/>
            </p:nvSpPr>
            <p:spPr>
              <a:xfrm>
                <a:off x="5435640" y="2106000"/>
                <a:ext cx="245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Text Box 7"/>
            <p:cNvSpPr/>
            <p:nvPr/>
          </p:nvSpPr>
          <p:spPr>
            <a:xfrm>
              <a:off x="5952600" y="684360"/>
              <a:ext cx="149148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瑕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4"/>
          <p:cNvGrpSpPr/>
          <p:nvPr/>
        </p:nvGrpSpPr>
        <p:grpSpPr>
          <a:xfrm>
            <a:off x="1979640" y="3921120"/>
            <a:ext cx="2450880" cy="2715120"/>
            <a:chOff x="1979640" y="3921120"/>
            <a:chExt cx="2450880" cy="2715120"/>
          </a:xfrm>
        </p:grpSpPr>
        <p:grpSp>
          <p:nvGrpSpPr>
            <p:cNvPr id="67" name="Group 15"/>
            <p:cNvGrpSpPr/>
            <p:nvPr/>
          </p:nvGrpSpPr>
          <p:grpSpPr>
            <a:xfrm>
              <a:off x="1979640" y="4094280"/>
              <a:ext cx="2450880" cy="2520720"/>
              <a:chOff x="1979640" y="4094280"/>
              <a:chExt cx="2450880" cy="2520720"/>
            </a:xfrm>
          </p:grpSpPr>
          <p:sp>
            <p:nvSpPr>
              <p:cNvPr id="68" name="Rectangle 4"/>
              <p:cNvSpPr/>
              <p:nvPr/>
            </p:nvSpPr>
            <p:spPr>
              <a:xfrm>
                <a:off x="1979640" y="4100400"/>
                <a:ext cx="2450880" cy="244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5"/>
              <p:cNvSpPr/>
              <p:nvPr/>
            </p:nvSpPr>
            <p:spPr>
              <a:xfrm>
                <a:off x="3247920" y="4094280"/>
                <a:ext cx="1440" cy="25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6"/>
              <p:cNvSpPr/>
              <p:nvPr/>
            </p:nvSpPr>
            <p:spPr>
              <a:xfrm>
                <a:off x="1979640" y="5317920"/>
                <a:ext cx="245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 Box 7"/>
            <p:cNvSpPr/>
            <p:nvPr/>
          </p:nvSpPr>
          <p:spPr>
            <a:xfrm>
              <a:off x="2422080" y="3921120"/>
              <a:ext cx="149148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攀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0"/>
          <p:cNvGrpSpPr/>
          <p:nvPr/>
        </p:nvGrpSpPr>
        <p:grpSpPr>
          <a:xfrm>
            <a:off x="5486400" y="3886200"/>
            <a:ext cx="2450880" cy="2715120"/>
            <a:chOff x="5486400" y="3886200"/>
            <a:chExt cx="2450880" cy="2715120"/>
          </a:xfrm>
        </p:grpSpPr>
        <p:grpSp>
          <p:nvGrpSpPr>
            <p:cNvPr id="73" name="Group 21"/>
            <p:cNvGrpSpPr/>
            <p:nvPr/>
          </p:nvGrpSpPr>
          <p:grpSpPr>
            <a:xfrm>
              <a:off x="5486400" y="4059360"/>
              <a:ext cx="2450880" cy="2520720"/>
              <a:chOff x="5486400" y="4059360"/>
              <a:chExt cx="2450880" cy="2520720"/>
            </a:xfrm>
          </p:grpSpPr>
          <p:sp>
            <p:nvSpPr>
              <p:cNvPr id="74" name="Rectangle 4"/>
              <p:cNvSpPr/>
              <p:nvPr/>
            </p:nvSpPr>
            <p:spPr>
              <a:xfrm>
                <a:off x="5486400" y="4065480"/>
                <a:ext cx="2450880" cy="244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5"/>
              <p:cNvSpPr/>
              <p:nvPr/>
            </p:nvSpPr>
            <p:spPr>
              <a:xfrm>
                <a:off x="6754680" y="4059360"/>
                <a:ext cx="1440" cy="25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6"/>
              <p:cNvSpPr/>
              <p:nvPr/>
            </p:nvSpPr>
            <p:spPr>
              <a:xfrm>
                <a:off x="5486400" y="5283000"/>
                <a:ext cx="245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7"/>
            <p:cNvSpPr/>
            <p:nvPr/>
          </p:nvSpPr>
          <p:spPr>
            <a:xfrm>
              <a:off x="5928840" y="3886200"/>
              <a:ext cx="149148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峦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200610221042203879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1403280" y="40464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游览过红叶似火的香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1_101020112720_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539640" y="33336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却没有看见过桂林这一带的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468360" y="172116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我攀登过峰峦雄伟的泰山，游览过红叶似火的香山，却从没看见过桂林一带的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611280" y="117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想想课文写桂林的山为什么要写这些著名的泰山，香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4"/>
          <p:cNvSpPr txBox="1"/>
          <p:nvPr/>
        </p:nvSpPr>
        <p:spPr>
          <a:xfrm>
            <a:off x="250920" y="3429000"/>
            <a:ext cx="28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作比较</a:t>
            </a:r>
            <a:endParaRPr b="0" lang="en-US" sz="5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900000" y="436572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泰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香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跟桂林的山作比较，是为了突出桂林的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179280" y="404640"/>
            <a:ext cx="8964720" cy="42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的第二段用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跟漓江的水作比较，是为了突出漓江水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、    、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特点。课文第三段又用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跟桂林的山作比较，是为了突出桂林的山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、   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特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作者在介绍这些特点时都用了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句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79280" y="404640"/>
            <a:ext cx="8964720" cy="32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的第二段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大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西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跟漓江的水作比较，是为了突出漓江水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特点。课文第三段又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泰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香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跟桂林的山作比较，是为了突出桂林的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特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作者在介绍这些特点时都用了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排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句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5.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把最能表达作者观赏桂林山水感受的句子找出来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611280" y="2349360"/>
            <a:ext cx="799308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这样的山围绕着这样的水，这样的水倒映着这样的山，再加上空中云雾迷蒙，山间绿树红花，江上竹筏小舟，让你感觉到像是走进了连绵不断的画卷，真是“舟行碧波上，人在画中游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68360" y="221040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的山围绕着这样的水，这样的水倒映着这样的山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…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21134924200809030926399304240112883_008"/>
          <p:cNvPicPr/>
          <p:nvPr/>
        </p:nvPicPr>
        <p:blipFill>
          <a:blip r:embed="rId1"/>
          <a:stretch/>
        </p:blipFill>
        <p:spPr>
          <a:xfrm>
            <a:off x="-33480" y="0"/>
            <a:ext cx="9285480" cy="69580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4932360" y="24912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华文隶书"/>
              </a:rPr>
              <a:t>“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华文隶书"/>
              </a:rPr>
              <a:t>舟行碧波上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华文隶书"/>
              </a:rPr>
              <a:t>人在画中游”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华文彩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画中游"/>
          <p:cNvPicPr/>
          <p:nvPr/>
        </p:nvPicPr>
        <p:blipFill>
          <a:blip r:embed="rId1"/>
          <a:stretch/>
        </p:blipFill>
        <p:spPr>
          <a:xfrm>
            <a:off x="20520" y="0"/>
            <a:ext cx="561816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3"/>
          <p:cNvSpPr/>
          <p:nvPr/>
        </p:nvSpPr>
        <p:spPr>
          <a:xfrm>
            <a:off x="6575040" y="124308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舟行碧波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人在画中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791320" y="299736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游船航行在碧绿的河水上，船上 的游人就像在一幅美丽的画卷中游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565920" y="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学习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593640" y="83340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-15840" y="620640"/>
            <a:ext cx="9299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用三个字来概括漓江水的特点：静、清、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用三个字来概括桂林山的特点：奇、秀、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中心思想：通过作者荡舟漓江观赏到的桂林山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景色的赞美之情，表达了作者对祖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河山的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108000" y="3789360"/>
            <a:ext cx="19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文脉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6"/>
          <p:cNvGraphicFramePr/>
          <p:nvPr/>
        </p:nvGraphicFramePr>
        <p:xfrm>
          <a:off x="252360" y="4797360"/>
          <a:ext cx="5029200" cy="59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4797360"/>
                    <a:ext cx="502920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AutoShape 7"/>
          <p:cNvSpPr/>
          <p:nvPr/>
        </p:nvSpPr>
        <p:spPr>
          <a:xfrm>
            <a:off x="1692360" y="4365720"/>
            <a:ext cx="114120" cy="1368360"/>
          </a:xfrm>
          <a:custGeom>
            <a:avLst/>
            <a:gdLst>
              <a:gd name="textAreaLeft" fmla="*/ 73080 w 114120"/>
              <a:gd name="textAreaRight" fmla="*/ 114480 w 1141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3099240" y="436572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漓江的水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隶书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静、清、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3099240" y="515772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桂林的山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隶书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奇、秀、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0"/>
          <p:cNvSpPr/>
          <p:nvPr/>
        </p:nvSpPr>
        <p:spPr>
          <a:xfrm rot="10816800">
            <a:off x="5940000" y="4437000"/>
            <a:ext cx="114480" cy="1287360"/>
          </a:xfrm>
          <a:custGeom>
            <a:avLst/>
            <a:gdLst>
              <a:gd name="textAreaLeft" fmla="*/ 73080 w 114480"/>
              <a:gd name="textAreaRight" fmla="*/ 114840 w 11448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60"/>
                </a:lnTo>
                <a:cubicBezTo>
                  <a:pt x="10800" y="10060"/>
                  <a:pt x="5400" y="10960"/>
                  <a:pt x="0" y="10960"/>
                </a:cubicBezTo>
                <a:cubicBezTo>
                  <a:pt x="5400" y="10960"/>
                  <a:pt x="10800" y="11860"/>
                  <a:pt x="10800" y="127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6680880" y="450864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舟行碧波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人在画中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395280" y="566100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总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3059280" y="5734080"/>
            <a:ext cx="18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分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6372360" y="558972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总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1835280" y="728640"/>
            <a:ext cx="2450520" cy="2715120"/>
            <a:chOff x="1835280" y="728640"/>
            <a:chExt cx="2450520" cy="2715120"/>
          </a:xfrm>
        </p:grpSpPr>
        <p:grpSp>
          <p:nvGrpSpPr>
            <p:cNvPr id="79" name="Group 3"/>
            <p:cNvGrpSpPr/>
            <p:nvPr/>
          </p:nvGrpSpPr>
          <p:grpSpPr>
            <a:xfrm>
              <a:off x="1835280" y="901800"/>
              <a:ext cx="2450520" cy="2520720"/>
              <a:chOff x="1835280" y="901800"/>
              <a:chExt cx="2450520" cy="2520720"/>
            </a:xfrm>
          </p:grpSpPr>
          <p:sp>
            <p:nvSpPr>
              <p:cNvPr id="80" name="Rectangle 4"/>
              <p:cNvSpPr/>
              <p:nvPr/>
            </p:nvSpPr>
            <p:spPr>
              <a:xfrm>
                <a:off x="1835280" y="907920"/>
                <a:ext cx="2450520" cy="244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5"/>
              <p:cNvSpPr/>
              <p:nvPr/>
            </p:nvSpPr>
            <p:spPr>
              <a:xfrm>
                <a:off x="3103200" y="901800"/>
                <a:ext cx="1440" cy="25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6"/>
              <p:cNvSpPr/>
              <p:nvPr/>
            </p:nvSpPr>
            <p:spPr>
              <a:xfrm>
                <a:off x="1835280" y="2125440"/>
                <a:ext cx="245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Text Box 7"/>
            <p:cNvSpPr/>
            <p:nvPr/>
          </p:nvSpPr>
          <p:spPr>
            <a:xfrm>
              <a:off x="2277360" y="728640"/>
              <a:ext cx="149148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泰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5435640" y="684360"/>
            <a:ext cx="2450880" cy="2718720"/>
            <a:chOff x="5435640" y="684360"/>
            <a:chExt cx="2450880" cy="2718720"/>
          </a:xfrm>
        </p:grpSpPr>
        <p:grpSp>
          <p:nvGrpSpPr>
            <p:cNvPr id="85" name="Group 9"/>
            <p:cNvGrpSpPr/>
            <p:nvPr/>
          </p:nvGrpSpPr>
          <p:grpSpPr>
            <a:xfrm>
              <a:off x="5435640" y="882360"/>
              <a:ext cx="2450880" cy="2520720"/>
              <a:chOff x="5435640" y="882360"/>
              <a:chExt cx="2450880" cy="2520720"/>
            </a:xfrm>
          </p:grpSpPr>
          <p:sp>
            <p:nvSpPr>
              <p:cNvPr id="86" name="Rectangle 4"/>
              <p:cNvSpPr/>
              <p:nvPr/>
            </p:nvSpPr>
            <p:spPr>
              <a:xfrm>
                <a:off x="5435640" y="888480"/>
                <a:ext cx="2450880" cy="244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5"/>
              <p:cNvSpPr/>
              <p:nvPr/>
            </p:nvSpPr>
            <p:spPr>
              <a:xfrm>
                <a:off x="6703920" y="882360"/>
                <a:ext cx="1440" cy="25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6"/>
              <p:cNvSpPr/>
              <p:nvPr/>
            </p:nvSpPr>
            <p:spPr>
              <a:xfrm>
                <a:off x="5435640" y="2106000"/>
                <a:ext cx="245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 Box 7"/>
            <p:cNvSpPr/>
            <p:nvPr/>
          </p:nvSpPr>
          <p:spPr>
            <a:xfrm>
              <a:off x="5952600" y="684360"/>
              <a:ext cx="149148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骆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1979640" y="3921120"/>
            <a:ext cx="2450880" cy="2715120"/>
            <a:chOff x="1979640" y="3921120"/>
            <a:chExt cx="2450880" cy="2715120"/>
          </a:xfrm>
        </p:grpSpPr>
        <p:grpSp>
          <p:nvGrpSpPr>
            <p:cNvPr id="91" name="Group 15"/>
            <p:cNvGrpSpPr/>
            <p:nvPr/>
          </p:nvGrpSpPr>
          <p:grpSpPr>
            <a:xfrm>
              <a:off x="1979640" y="4094280"/>
              <a:ext cx="2450880" cy="2520720"/>
              <a:chOff x="1979640" y="4094280"/>
              <a:chExt cx="2450880" cy="252072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1979640" y="4100400"/>
                <a:ext cx="2450880" cy="244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5"/>
              <p:cNvSpPr/>
              <p:nvPr/>
            </p:nvSpPr>
            <p:spPr>
              <a:xfrm>
                <a:off x="3247920" y="4094280"/>
                <a:ext cx="1440" cy="25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6"/>
              <p:cNvSpPr/>
              <p:nvPr/>
            </p:nvSpPr>
            <p:spPr>
              <a:xfrm>
                <a:off x="1979640" y="5317920"/>
                <a:ext cx="245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 Box 7"/>
            <p:cNvSpPr/>
            <p:nvPr/>
          </p:nvSpPr>
          <p:spPr>
            <a:xfrm>
              <a:off x="2422080" y="3921120"/>
              <a:ext cx="149148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驼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0"/>
          <p:cNvGrpSpPr/>
          <p:nvPr/>
        </p:nvGrpSpPr>
        <p:grpSpPr>
          <a:xfrm>
            <a:off x="5486400" y="3886200"/>
            <a:ext cx="2450880" cy="2715120"/>
            <a:chOff x="5486400" y="3886200"/>
            <a:chExt cx="2450880" cy="2715120"/>
          </a:xfrm>
        </p:grpSpPr>
        <p:grpSp>
          <p:nvGrpSpPr>
            <p:cNvPr id="97" name="Group 21"/>
            <p:cNvGrpSpPr/>
            <p:nvPr/>
          </p:nvGrpSpPr>
          <p:grpSpPr>
            <a:xfrm>
              <a:off x="5486400" y="4059360"/>
              <a:ext cx="2450880" cy="2520720"/>
              <a:chOff x="5486400" y="4059360"/>
              <a:chExt cx="2450880" cy="2520720"/>
            </a:xfrm>
          </p:grpSpPr>
          <p:sp>
            <p:nvSpPr>
              <p:cNvPr id="98" name="Rectangle 4"/>
              <p:cNvSpPr/>
              <p:nvPr/>
            </p:nvSpPr>
            <p:spPr>
              <a:xfrm>
                <a:off x="5486400" y="4065480"/>
                <a:ext cx="2450880" cy="244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5"/>
              <p:cNvSpPr/>
              <p:nvPr/>
            </p:nvSpPr>
            <p:spPr>
              <a:xfrm>
                <a:off x="6754680" y="4059360"/>
                <a:ext cx="1440" cy="25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5486400" y="5283000"/>
                <a:ext cx="245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Text Box 7"/>
            <p:cNvSpPr/>
            <p:nvPr/>
          </p:nvSpPr>
          <p:spPr>
            <a:xfrm>
              <a:off x="5928840" y="3886200"/>
              <a:ext cx="149148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罗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2"/>
          <p:cNvSpPr/>
          <p:nvPr/>
        </p:nvSpPr>
        <p:spPr>
          <a:xfrm rot="4612800">
            <a:off x="822960" y="-1002240"/>
            <a:ext cx="1413000" cy="3417840"/>
          </a:xfrm>
          <a:prstGeom prst="irregularSeal2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0" y="-241560"/>
            <a:ext cx="9144000" cy="68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总述：桂林山水甲天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水    清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分述        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山    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险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总结：舟行碧波上，人在画中游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2844720" y="2060640"/>
            <a:ext cx="574920" cy="1657440"/>
          </a:xfrm>
          <a:custGeom>
            <a:avLst/>
            <a:gdLst>
              <a:gd name="textAreaLeft" fmla="*/ 367200 w 574920"/>
              <a:gd name="textAreaRight" fmla="*/ 575280 w 574920"/>
              <a:gd name="textAreaTop" fmla="*/ 113040 h 1657440"/>
              <a:gd name="textAreaBottom" fmla="*/ 154440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59"/>
                  <a:pt x="10800" y="4717"/>
                </a:cubicBezTo>
                <a:lnTo>
                  <a:pt x="10800" y="6083"/>
                </a:lnTo>
                <a:cubicBezTo>
                  <a:pt x="10800" y="8442"/>
                  <a:pt x="5400" y="10800"/>
                  <a:pt x="0" y="10800"/>
                </a:cubicBezTo>
                <a:cubicBezTo>
                  <a:pt x="5400" y="10800"/>
                  <a:pt x="10800" y="13159"/>
                  <a:pt x="10800" y="15517"/>
                </a:cubicBezTo>
                <a:lnTo>
                  <a:pt x="10800" y="16883"/>
                </a:lnTo>
                <a:cubicBezTo>
                  <a:pt x="10800" y="1924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2987640" y="4076640"/>
            <a:ext cx="503280" cy="1727280"/>
          </a:xfrm>
          <a:custGeom>
            <a:avLst/>
            <a:gdLst>
              <a:gd name="textAreaLeft" fmla="*/ 321480 w 503280"/>
              <a:gd name="textAreaRight" fmla="*/ 503640 w 503280"/>
              <a:gd name="textAreaTop" fmla="*/ 135000 h 1727280"/>
              <a:gd name="textAreaBottom" fmla="*/ 159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1692360" y="2349360"/>
            <a:ext cx="360360" cy="2232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5560 h 2232000"/>
              <a:gd name="textAreaBottom" fmla="*/ 21164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90"/>
                  <a:pt x="10800" y="3580"/>
                </a:cubicBezTo>
                <a:lnTo>
                  <a:pt x="10800" y="7404"/>
                </a:lnTo>
                <a:cubicBezTo>
                  <a:pt x="10800" y="9194"/>
                  <a:pt x="5400" y="10984"/>
                  <a:pt x="0" y="10984"/>
                </a:cubicBezTo>
                <a:cubicBezTo>
                  <a:pt x="5400" y="10984"/>
                  <a:pt x="10800" y="12774"/>
                  <a:pt x="10800" y="14564"/>
                </a:cubicBezTo>
                <a:lnTo>
                  <a:pt x="10800" y="18020"/>
                </a:lnTo>
                <a:cubicBezTo>
                  <a:pt x="10800" y="1981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0" y="260280"/>
            <a:ext cx="266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课后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20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再次有感情地通读全文，体会桂林山水独特的美。然后说说这篇课文 在写作上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作：由近到远，先写水再写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为什么呢？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观察：对比，比喻，排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分别有那些地方呢？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250"/>
                            </p:stCondLst>
                            <p:childTnLst>
                              <p:par>
                                <p:cTn id="9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100"/>
                            </p:stCondLst>
                            <p:childTnLst>
                              <p:par>
                                <p:cTn id="10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826920" y="476280"/>
            <a:ext cx="75614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观赏一处风景，注意仔细观察它的特点，然后写下几段话，最好能用上本课的一些优美的词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1835280" y="728640"/>
            <a:ext cx="2450520" cy="2715120"/>
            <a:chOff x="1835280" y="728640"/>
            <a:chExt cx="2450520" cy="2715120"/>
          </a:xfrm>
        </p:grpSpPr>
        <p:grpSp>
          <p:nvGrpSpPr>
            <p:cNvPr id="103" name="Group 3"/>
            <p:cNvGrpSpPr/>
            <p:nvPr/>
          </p:nvGrpSpPr>
          <p:grpSpPr>
            <a:xfrm>
              <a:off x="1835280" y="901800"/>
              <a:ext cx="2450520" cy="2520720"/>
              <a:chOff x="1835280" y="901800"/>
              <a:chExt cx="2450520" cy="252072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1835280" y="907920"/>
                <a:ext cx="2450520" cy="244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5"/>
              <p:cNvSpPr/>
              <p:nvPr/>
            </p:nvSpPr>
            <p:spPr>
              <a:xfrm>
                <a:off x="3103200" y="901800"/>
                <a:ext cx="1440" cy="25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6"/>
              <p:cNvSpPr/>
              <p:nvPr/>
            </p:nvSpPr>
            <p:spPr>
              <a:xfrm>
                <a:off x="1835280" y="2125440"/>
                <a:ext cx="245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Text Box 7"/>
            <p:cNvSpPr/>
            <p:nvPr/>
          </p:nvSpPr>
          <p:spPr>
            <a:xfrm>
              <a:off x="2277360" y="728640"/>
              <a:ext cx="149148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障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8"/>
          <p:cNvGrpSpPr/>
          <p:nvPr/>
        </p:nvGrpSpPr>
        <p:grpSpPr>
          <a:xfrm>
            <a:off x="5435640" y="684360"/>
            <a:ext cx="2450880" cy="2718720"/>
            <a:chOff x="5435640" y="684360"/>
            <a:chExt cx="2450880" cy="2718720"/>
          </a:xfrm>
        </p:grpSpPr>
        <p:grpSp>
          <p:nvGrpSpPr>
            <p:cNvPr id="109" name="Group 9"/>
            <p:cNvGrpSpPr/>
            <p:nvPr/>
          </p:nvGrpSpPr>
          <p:grpSpPr>
            <a:xfrm>
              <a:off x="5435640" y="882360"/>
              <a:ext cx="2450880" cy="2520720"/>
              <a:chOff x="5435640" y="882360"/>
              <a:chExt cx="2450880" cy="2520720"/>
            </a:xfrm>
          </p:grpSpPr>
          <p:sp>
            <p:nvSpPr>
              <p:cNvPr id="110" name="Rectangle 4"/>
              <p:cNvSpPr/>
              <p:nvPr/>
            </p:nvSpPr>
            <p:spPr>
              <a:xfrm>
                <a:off x="5435640" y="888480"/>
                <a:ext cx="2450880" cy="244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"/>
              <p:cNvSpPr/>
              <p:nvPr/>
            </p:nvSpPr>
            <p:spPr>
              <a:xfrm>
                <a:off x="6703920" y="882360"/>
                <a:ext cx="1440" cy="25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6"/>
              <p:cNvSpPr/>
              <p:nvPr/>
            </p:nvSpPr>
            <p:spPr>
              <a:xfrm>
                <a:off x="5435640" y="2106000"/>
                <a:ext cx="245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7"/>
            <p:cNvSpPr/>
            <p:nvPr/>
          </p:nvSpPr>
          <p:spPr>
            <a:xfrm>
              <a:off x="5952600" y="684360"/>
              <a:ext cx="149148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兀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1979640" y="3921120"/>
            <a:ext cx="2450880" cy="2715120"/>
            <a:chOff x="1979640" y="3921120"/>
            <a:chExt cx="2450880" cy="2715120"/>
          </a:xfrm>
        </p:grpSpPr>
        <p:grpSp>
          <p:nvGrpSpPr>
            <p:cNvPr id="115" name="Group 15"/>
            <p:cNvGrpSpPr/>
            <p:nvPr/>
          </p:nvGrpSpPr>
          <p:grpSpPr>
            <a:xfrm>
              <a:off x="1979640" y="4094280"/>
              <a:ext cx="2450880" cy="2520720"/>
              <a:chOff x="1979640" y="4094280"/>
              <a:chExt cx="2450880" cy="2520720"/>
            </a:xfrm>
          </p:grpSpPr>
          <p:sp>
            <p:nvSpPr>
              <p:cNvPr id="116" name="Rectangle 4"/>
              <p:cNvSpPr/>
              <p:nvPr/>
            </p:nvSpPr>
            <p:spPr>
              <a:xfrm>
                <a:off x="1979640" y="4100400"/>
                <a:ext cx="2450880" cy="244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5"/>
              <p:cNvSpPr/>
              <p:nvPr/>
            </p:nvSpPr>
            <p:spPr>
              <a:xfrm>
                <a:off x="3247920" y="4094280"/>
                <a:ext cx="1440" cy="25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6"/>
              <p:cNvSpPr/>
              <p:nvPr/>
            </p:nvSpPr>
            <p:spPr>
              <a:xfrm>
                <a:off x="1979640" y="5317920"/>
                <a:ext cx="245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7"/>
            <p:cNvSpPr/>
            <p:nvPr/>
          </p:nvSpPr>
          <p:spPr>
            <a:xfrm>
              <a:off x="2422080" y="3921120"/>
              <a:ext cx="149148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绵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250920" y="260280"/>
            <a:ext cx="1079280" cy="1152360"/>
            <a:chOff x="250920" y="260280"/>
            <a:chExt cx="1079280" cy="1152360"/>
          </a:xfrm>
        </p:grpSpPr>
        <p:pic>
          <p:nvPicPr>
            <p:cNvPr id="121" name="Picture 3" descr="图片9"/>
            <p:cNvPicPr/>
            <p:nvPr/>
          </p:nvPicPr>
          <p:blipFill>
            <a:blip r:embed="rId1"/>
            <a:stretch/>
          </p:blipFill>
          <p:spPr>
            <a:xfrm>
              <a:off x="250920" y="333360"/>
              <a:ext cx="1079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4"/>
            <p:cNvSpPr/>
            <p:nvPr/>
          </p:nvSpPr>
          <p:spPr>
            <a:xfrm>
              <a:off x="250920" y="260280"/>
              <a:ext cx="100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澜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5"/>
          <p:cNvSpPr/>
          <p:nvPr/>
        </p:nvSpPr>
        <p:spPr>
          <a:xfrm>
            <a:off x="1332000" y="692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波澜壮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250920" y="1628640"/>
            <a:ext cx="1079280" cy="1152360"/>
            <a:chOff x="250920" y="1628640"/>
            <a:chExt cx="1079280" cy="1152360"/>
          </a:xfrm>
        </p:grpSpPr>
        <p:pic>
          <p:nvPicPr>
            <p:cNvPr id="125" name="Picture 7" descr="图片9"/>
            <p:cNvPicPr/>
            <p:nvPr/>
          </p:nvPicPr>
          <p:blipFill>
            <a:blip r:embed="rId2"/>
            <a:stretch/>
          </p:blipFill>
          <p:spPr>
            <a:xfrm>
              <a:off x="250920" y="1701720"/>
              <a:ext cx="1079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/>
            <p:cNvSpPr/>
            <p:nvPr/>
          </p:nvSpPr>
          <p:spPr>
            <a:xfrm>
              <a:off x="250920" y="1628640"/>
              <a:ext cx="100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瑕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6300720" y="1628640"/>
            <a:ext cx="1079640" cy="1152360"/>
            <a:chOff x="6300720" y="1628640"/>
            <a:chExt cx="1079640" cy="1152360"/>
          </a:xfrm>
        </p:grpSpPr>
        <p:pic>
          <p:nvPicPr>
            <p:cNvPr id="128" name="Picture 10" descr="图片9"/>
            <p:cNvPicPr/>
            <p:nvPr/>
          </p:nvPicPr>
          <p:blipFill>
            <a:blip r:embed="rId3"/>
            <a:stretch/>
          </p:blipFill>
          <p:spPr>
            <a:xfrm>
              <a:off x="6300720" y="1701720"/>
              <a:ext cx="10796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/>
            <p:cNvSpPr/>
            <p:nvPr/>
          </p:nvSpPr>
          <p:spPr>
            <a:xfrm>
              <a:off x="6300720" y="1628640"/>
              <a:ext cx="1008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兀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6300720" y="260280"/>
            <a:ext cx="1079640" cy="1152360"/>
            <a:chOff x="6300720" y="260280"/>
            <a:chExt cx="1079640" cy="1152360"/>
          </a:xfrm>
        </p:grpSpPr>
        <p:pic>
          <p:nvPicPr>
            <p:cNvPr id="131" name="Picture 13" descr="图片9"/>
            <p:cNvPicPr/>
            <p:nvPr/>
          </p:nvPicPr>
          <p:blipFill>
            <a:blip r:embed="rId4"/>
            <a:stretch/>
          </p:blipFill>
          <p:spPr>
            <a:xfrm>
              <a:off x="6300720" y="333360"/>
              <a:ext cx="10796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/>
            <p:cNvSpPr/>
            <p:nvPr/>
          </p:nvSpPr>
          <p:spPr>
            <a:xfrm>
              <a:off x="6300720" y="260280"/>
              <a:ext cx="1008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泰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5"/>
          <p:cNvGrpSpPr/>
          <p:nvPr/>
        </p:nvGrpSpPr>
        <p:grpSpPr>
          <a:xfrm>
            <a:off x="3276720" y="260280"/>
            <a:ext cx="1079280" cy="1152360"/>
            <a:chOff x="3276720" y="260280"/>
            <a:chExt cx="1079280" cy="1152360"/>
          </a:xfrm>
        </p:grpSpPr>
        <p:pic>
          <p:nvPicPr>
            <p:cNvPr id="134" name="Picture 16" descr="图片9"/>
            <p:cNvPicPr/>
            <p:nvPr/>
          </p:nvPicPr>
          <p:blipFill>
            <a:blip r:embed="rId5"/>
            <a:stretch/>
          </p:blipFill>
          <p:spPr>
            <a:xfrm>
              <a:off x="3276720" y="333360"/>
              <a:ext cx="1079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7"/>
            <p:cNvSpPr/>
            <p:nvPr/>
          </p:nvSpPr>
          <p:spPr>
            <a:xfrm>
              <a:off x="3276720" y="260280"/>
              <a:ext cx="100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骆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8"/>
          <p:cNvGrpSpPr/>
          <p:nvPr/>
        </p:nvGrpSpPr>
        <p:grpSpPr>
          <a:xfrm>
            <a:off x="3276720" y="1628640"/>
            <a:ext cx="1079280" cy="1152360"/>
            <a:chOff x="3276720" y="1628640"/>
            <a:chExt cx="1079280" cy="1152360"/>
          </a:xfrm>
        </p:grpSpPr>
        <p:pic>
          <p:nvPicPr>
            <p:cNvPr id="137" name="Picture 19" descr="图片9"/>
            <p:cNvPicPr/>
            <p:nvPr/>
          </p:nvPicPr>
          <p:blipFill>
            <a:blip r:embed="rId6"/>
            <a:stretch/>
          </p:blipFill>
          <p:spPr>
            <a:xfrm>
              <a:off x="3276720" y="1701720"/>
              <a:ext cx="1079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0"/>
            <p:cNvSpPr/>
            <p:nvPr/>
          </p:nvSpPr>
          <p:spPr>
            <a:xfrm>
              <a:off x="3276720" y="1628640"/>
              <a:ext cx="100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驼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1"/>
          <p:cNvGrpSpPr/>
          <p:nvPr/>
        </p:nvGrpSpPr>
        <p:grpSpPr>
          <a:xfrm>
            <a:off x="3276720" y="2997360"/>
            <a:ext cx="1079280" cy="1152360"/>
            <a:chOff x="3276720" y="2997360"/>
            <a:chExt cx="1079280" cy="1152360"/>
          </a:xfrm>
        </p:grpSpPr>
        <p:pic>
          <p:nvPicPr>
            <p:cNvPr id="140" name="Picture 22" descr="图片9"/>
            <p:cNvPicPr/>
            <p:nvPr/>
          </p:nvPicPr>
          <p:blipFill>
            <a:blip r:embed="rId7"/>
            <a:stretch/>
          </p:blipFill>
          <p:spPr>
            <a:xfrm>
              <a:off x="3276720" y="3070440"/>
              <a:ext cx="1079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3"/>
            <p:cNvSpPr/>
            <p:nvPr/>
          </p:nvSpPr>
          <p:spPr>
            <a:xfrm>
              <a:off x="3276720" y="2997360"/>
              <a:ext cx="100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罗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4"/>
          <p:cNvGrpSpPr/>
          <p:nvPr/>
        </p:nvGrpSpPr>
        <p:grpSpPr>
          <a:xfrm>
            <a:off x="3276720" y="4292640"/>
            <a:ext cx="1079280" cy="1152360"/>
            <a:chOff x="3276720" y="4292640"/>
            <a:chExt cx="1079280" cy="1152360"/>
          </a:xfrm>
        </p:grpSpPr>
        <p:pic>
          <p:nvPicPr>
            <p:cNvPr id="143" name="Picture 25" descr="图片9"/>
            <p:cNvPicPr/>
            <p:nvPr/>
          </p:nvPicPr>
          <p:blipFill>
            <a:blip r:embed="rId8"/>
            <a:stretch/>
          </p:blipFill>
          <p:spPr>
            <a:xfrm>
              <a:off x="3276720" y="4365720"/>
              <a:ext cx="1079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6"/>
            <p:cNvSpPr/>
            <p:nvPr/>
          </p:nvSpPr>
          <p:spPr>
            <a:xfrm>
              <a:off x="3276720" y="4292640"/>
              <a:ext cx="100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障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7"/>
          <p:cNvGrpSpPr/>
          <p:nvPr/>
        </p:nvGrpSpPr>
        <p:grpSpPr>
          <a:xfrm>
            <a:off x="250920" y="4221000"/>
            <a:ext cx="1079280" cy="1152360"/>
            <a:chOff x="250920" y="4221000"/>
            <a:chExt cx="1079280" cy="1152360"/>
          </a:xfrm>
        </p:grpSpPr>
        <p:pic>
          <p:nvPicPr>
            <p:cNvPr id="146" name="Picture 34" descr="图片9"/>
            <p:cNvPicPr/>
            <p:nvPr/>
          </p:nvPicPr>
          <p:blipFill>
            <a:blip r:embed="rId9"/>
            <a:stretch/>
          </p:blipFill>
          <p:spPr>
            <a:xfrm>
              <a:off x="250920" y="4294080"/>
              <a:ext cx="1079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35"/>
            <p:cNvSpPr/>
            <p:nvPr/>
          </p:nvSpPr>
          <p:spPr>
            <a:xfrm>
              <a:off x="250920" y="4221000"/>
              <a:ext cx="100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峦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0"/>
          <p:cNvGrpSpPr/>
          <p:nvPr/>
        </p:nvGrpSpPr>
        <p:grpSpPr>
          <a:xfrm>
            <a:off x="250920" y="2924280"/>
            <a:ext cx="1079280" cy="1152360"/>
            <a:chOff x="250920" y="2924280"/>
            <a:chExt cx="1079280" cy="1152360"/>
          </a:xfrm>
        </p:grpSpPr>
        <p:pic>
          <p:nvPicPr>
            <p:cNvPr id="149" name="Picture 37" descr="图片9"/>
            <p:cNvPicPr/>
            <p:nvPr/>
          </p:nvPicPr>
          <p:blipFill>
            <a:blip r:embed="rId10"/>
            <a:stretch/>
          </p:blipFill>
          <p:spPr>
            <a:xfrm>
              <a:off x="250920" y="2997360"/>
              <a:ext cx="1079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38"/>
            <p:cNvSpPr/>
            <p:nvPr/>
          </p:nvSpPr>
          <p:spPr>
            <a:xfrm>
              <a:off x="250920" y="2924280"/>
              <a:ext cx="100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攀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3"/>
          <p:cNvGrpSpPr/>
          <p:nvPr/>
        </p:nvGrpSpPr>
        <p:grpSpPr>
          <a:xfrm>
            <a:off x="6300720" y="2997360"/>
            <a:ext cx="1079640" cy="1152360"/>
            <a:chOff x="6300720" y="2997360"/>
            <a:chExt cx="1079640" cy="1152360"/>
          </a:xfrm>
        </p:grpSpPr>
        <p:pic>
          <p:nvPicPr>
            <p:cNvPr id="152" name="Picture 40" descr="图片9"/>
            <p:cNvPicPr/>
            <p:nvPr/>
          </p:nvPicPr>
          <p:blipFill>
            <a:blip r:embed="rId11"/>
            <a:stretch/>
          </p:blipFill>
          <p:spPr>
            <a:xfrm>
              <a:off x="6300720" y="3070440"/>
              <a:ext cx="10796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41"/>
            <p:cNvSpPr/>
            <p:nvPr/>
          </p:nvSpPr>
          <p:spPr>
            <a:xfrm>
              <a:off x="6300720" y="2997360"/>
              <a:ext cx="1008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绵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42"/>
          <p:cNvSpPr/>
          <p:nvPr/>
        </p:nvSpPr>
        <p:spPr>
          <a:xfrm>
            <a:off x="1258920" y="2060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407db"/>
                </a:solidFill>
                <a:latin typeface="楷体_GB2312"/>
                <a:ea typeface="楷体_GB2312"/>
              </a:rPr>
              <a:t>无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3"/>
          <p:cNvSpPr/>
          <p:nvPr/>
        </p:nvSpPr>
        <p:spPr>
          <a:xfrm>
            <a:off x="125892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07cb"/>
                </a:solidFill>
                <a:latin typeface="楷体_GB2312"/>
                <a:ea typeface="楷体_GB2312"/>
              </a:rPr>
              <a:t>攀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4"/>
          <p:cNvSpPr/>
          <p:nvPr/>
        </p:nvSpPr>
        <p:spPr>
          <a:xfrm>
            <a:off x="1260360" y="47260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07cb"/>
                </a:solidFill>
                <a:latin typeface="楷体_GB2312"/>
                <a:ea typeface="楷体_GB2312"/>
              </a:rPr>
              <a:t>峰峦雄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6"/>
          <p:cNvSpPr/>
          <p:nvPr/>
        </p:nvSpPr>
        <p:spPr>
          <a:xfrm>
            <a:off x="4356000" y="692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407db"/>
                </a:solidFill>
                <a:latin typeface="楷体_GB2312"/>
                <a:ea typeface="楷体_GB2312"/>
              </a:rPr>
              <a:t>骆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7"/>
          <p:cNvSpPr/>
          <p:nvPr/>
        </p:nvSpPr>
        <p:spPr>
          <a:xfrm>
            <a:off x="4356000" y="2060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407db"/>
                </a:solidFill>
                <a:latin typeface="楷体_GB2312"/>
                <a:ea typeface="楷体_GB2312"/>
              </a:rPr>
              <a:t>骆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8"/>
          <p:cNvSpPr/>
          <p:nvPr/>
        </p:nvSpPr>
        <p:spPr>
          <a:xfrm>
            <a:off x="4211640" y="342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407db"/>
                </a:solidFill>
                <a:latin typeface="楷体_GB2312"/>
                <a:ea typeface="楷体_GB2312"/>
              </a:rPr>
              <a:t>奇峰罗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9"/>
          <p:cNvSpPr/>
          <p:nvPr/>
        </p:nvSpPr>
        <p:spPr>
          <a:xfrm>
            <a:off x="4356000" y="4797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07cb"/>
                </a:solidFill>
                <a:latin typeface="楷体_GB2312"/>
                <a:ea typeface="楷体_GB2312"/>
              </a:rPr>
              <a:t>屏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7308720" y="692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07cb"/>
                </a:solidFill>
                <a:latin typeface="楷体_GB2312"/>
                <a:ea typeface="楷体_GB2312"/>
              </a:rPr>
              <a:t>泰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7308720" y="213372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407db"/>
                </a:solidFill>
                <a:latin typeface="楷体_GB2312"/>
                <a:ea typeface="楷体_GB2312"/>
              </a:rPr>
              <a:t>危峰兀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3"/>
          <p:cNvSpPr/>
          <p:nvPr/>
        </p:nvSpPr>
        <p:spPr>
          <a:xfrm>
            <a:off x="7308720" y="342900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407db"/>
                </a:solidFill>
                <a:latin typeface="楷体_GB2312"/>
                <a:ea typeface="楷体_GB2312"/>
              </a:rPr>
              <a:t>连绵不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 rot="4612800">
            <a:off x="751320" y="-1002240"/>
            <a:ext cx="1413000" cy="3417840"/>
          </a:xfrm>
          <a:prstGeom prst="irregularSeal2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漓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江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　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l</a:t>
            </a:r>
            <a:r>
              <a:rPr b="1" lang="zh-CN" sz="4000" spc="-1" strike="noStrike">
                <a:solidFill>
                  <a:srgbClr val="9966ff"/>
                </a:solidFill>
                <a:latin typeface="Arial"/>
                <a:ea typeface="隶书"/>
              </a:rPr>
              <a:t>í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　　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波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壮阔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l</a:t>
            </a:r>
            <a:r>
              <a:rPr b="1" lang="zh-CN" sz="4000" spc="-1" strike="noStrike">
                <a:solidFill>
                  <a:srgbClr val="9966ff"/>
                </a:solidFill>
                <a:latin typeface="Arial"/>
                <a:ea typeface="隶书"/>
              </a:rPr>
              <a:t>á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n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翡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翠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fěi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峰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峦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雄伟 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lu</a:t>
            </a:r>
            <a:r>
              <a:rPr b="1" lang="en-US" sz="4000" spc="-1" strike="noStrike">
                <a:solidFill>
                  <a:srgbClr val="9966ff"/>
                </a:solidFill>
                <a:latin typeface="Arial"/>
                <a:ea typeface="隶书"/>
              </a:rPr>
              <a:t>á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n            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　　　　　　　　　　　　　　　　　　　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无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暇</a:t>
            </a:r>
            <a:r>
              <a:rPr b="1" lang="zh-CN" sz="4000" spc="-1" strike="noStrike">
                <a:solidFill>
                  <a:srgbClr val="99cc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xi</a:t>
            </a:r>
            <a:r>
              <a:rPr b="1" lang="zh-CN" sz="4000" spc="-1" strike="noStrike">
                <a:solidFill>
                  <a:srgbClr val="9966ff"/>
                </a:solidFill>
                <a:latin typeface="Arial"/>
                <a:ea typeface="隶书"/>
              </a:rPr>
              <a:t>á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怪石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嶙峋</a:t>
            </a:r>
            <a:r>
              <a:rPr b="1" lang="zh-CN" sz="4000" spc="-1" strike="noStrike">
                <a:solidFill>
                  <a:srgbClr val="99cc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l</a:t>
            </a:r>
            <a:r>
              <a:rPr b="1" lang="zh-CN" sz="4000" spc="-1" strike="noStrike">
                <a:solidFill>
                  <a:srgbClr val="9966ff"/>
                </a:solidFill>
                <a:latin typeface="Arial"/>
                <a:ea typeface="隶书"/>
              </a:rPr>
              <a:t>í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n</a:t>
            </a:r>
            <a:r>
              <a:rPr b="1" lang="en-US" sz="4000" spc="-1" strike="noStrike">
                <a:solidFill>
                  <a:srgbClr val="9966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x</a:t>
            </a:r>
            <a:r>
              <a:rPr b="1" lang="zh-CN" sz="4000" spc="-1" strike="noStrike">
                <a:solidFill>
                  <a:srgbClr val="9966ff"/>
                </a:solidFill>
                <a:latin typeface="Arial"/>
                <a:ea typeface="隶书"/>
              </a:rPr>
              <a:t>ú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n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屏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障</a:t>
            </a:r>
            <a:r>
              <a:rPr b="1" lang="zh-CN" sz="4000" spc="-1" strike="noStrike">
                <a:solidFill>
                  <a:srgbClr val="99cc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zh</a:t>
            </a:r>
            <a:r>
              <a:rPr b="1" lang="zh-CN" sz="4000" spc="-1" strike="noStrike">
                <a:solidFill>
                  <a:srgbClr val="9966ff"/>
                </a:solidFill>
                <a:latin typeface="Arial"/>
                <a:ea typeface="隶书"/>
              </a:rPr>
              <a:t>à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ng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连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绵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不断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mi</a:t>
            </a:r>
            <a:r>
              <a:rPr b="1" lang="zh-CN" sz="4000" spc="-1" strike="noStrike">
                <a:solidFill>
                  <a:srgbClr val="9966ff"/>
                </a:solidFill>
                <a:latin typeface="Arial"/>
                <a:ea typeface="隶书"/>
              </a:rPr>
              <a:t>á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竹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筏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f</a:t>
            </a:r>
            <a:r>
              <a:rPr b="1" lang="zh-CN" sz="4000" spc="-1" strike="noStrike">
                <a:solidFill>
                  <a:srgbClr val="9966ff"/>
                </a:solidFill>
                <a:latin typeface="Arial"/>
                <a:ea typeface="隶书"/>
              </a:rPr>
              <a:t>á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　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危峰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兀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立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w</a:t>
            </a:r>
            <a:r>
              <a:rPr b="1" lang="zh-CN" sz="4000" spc="-1" strike="noStrike">
                <a:solidFill>
                  <a:srgbClr val="9966ff"/>
                </a:solidFill>
                <a:latin typeface="Arial"/>
                <a:ea typeface="隶书"/>
              </a:rPr>
              <a:t>ù</a:t>
            </a: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　　　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611280" y="333360"/>
            <a:ext cx="1512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ff"/>
                </a:solidFill>
                <a:latin typeface="Arial"/>
                <a:ea typeface="隶书"/>
              </a:rPr>
              <a:t>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10-21T16:18:02Z</dcterms:modified>
  <cp:revision>2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