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6C0-6281-4FB1-ABED-034A9230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D8B9-4F34-483E-BE8B-706B78B8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3468-3176-4A93-AB7C-6CC78CBE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990F-CB05-4662-B9A9-32AD9083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B844-D363-4000-9C3B-1578B7AE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5EB2-7EF2-4442-934D-B25588FD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F606-BF1A-497A-B196-6ABBA1BD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9FA-86A1-458D-9354-038F9C6B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DAEB-2C2A-4602-B72B-BC6FE50C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6EB3-25C7-4194-B194-9521220D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90B4-E1AD-4337-BB08-145148F2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E9E7-BCB3-44BE-94DA-2134CD20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3946-1B26-4923-8AF2-C7805AABE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2" descr=""/>
          <p:cNvPicPr/>
          <p:nvPr/>
        </p:nvPicPr>
        <p:blipFill>
          <a:blip r:embed="rId1"/>
          <a:stretch/>
        </p:blipFill>
        <p:spPr>
          <a:xfrm>
            <a:off x="3913200" y="3060720"/>
            <a:ext cx="4645080" cy="244944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3" descr=""/>
          <p:cNvPicPr/>
          <p:nvPr/>
        </p:nvPicPr>
        <p:blipFill>
          <a:blip r:embed="rId2"/>
          <a:stretch/>
        </p:blipFill>
        <p:spPr>
          <a:xfrm>
            <a:off x="4638600" y="1908000"/>
            <a:ext cx="3328920" cy="75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20061017173703191664732"/>
          <p:cNvPicPr/>
          <p:nvPr/>
        </p:nvPicPr>
        <p:blipFill>
          <a:blip r:embed="rId3"/>
          <a:stretch/>
        </p:blipFill>
        <p:spPr>
          <a:xfrm>
            <a:off x="468360" y="1197000"/>
            <a:ext cx="3311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file"/>
          <p:cNvPicPr/>
          <p:nvPr/>
        </p:nvPicPr>
        <p:blipFill>
          <a:blip r:embed="rId1">
            <a:lum bright="54000"/>
          </a:blip>
          <a:srcRect l="0" t="0" r="2940" b="7498"/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280" y="1989000"/>
            <a:ext cx="7921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你们谁看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西游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部小说？其中给你留下印象最深的是那个人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你知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西游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的孙悟空打哪来？又是怎样成为美猴王的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图13"/>
          <p:cNvPicPr/>
          <p:nvPr/>
        </p:nvPicPr>
        <p:blipFill>
          <a:blip r:embed="rId2"/>
          <a:stretch/>
        </p:blipFill>
        <p:spPr>
          <a:xfrm>
            <a:off x="468360" y="907920"/>
            <a:ext cx="244800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file"/>
          <p:cNvPicPr/>
          <p:nvPr/>
        </p:nvPicPr>
        <p:blipFill>
          <a:blip r:embed="rId1">
            <a:lum bright="54000"/>
          </a:blip>
          <a:srcRect l="0" t="0" r="2940" b="7498"/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684360" y="1341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四面更无树木遮阳，左右倒有芝兰相衬。盖自开辟以来，每受天真地秀，日精月华感之既久，遂有通灵之意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4200" y="2924280"/>
            <a:ext cx="76341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这一段以极其精练的语言写出了石猴的出生环境及经过。好一个神奇的仙境宝地</a:t>
            </a:r>
            <a:r>
              <a:rPr b="1" lang="en-US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!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石猴不比其他众猴，是一块饱受日月精华的顽石瞬间迸裂而生的。文章起笔就显得他神异出众，为后文甚至全书写孙悟空的神通广大、降妖伏魔埋下了伏笔。由此也掀开了一部旷世名著的第一页。</a:t>
            </a: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图片3"/>
          <p:cNvPicPr/>
          <p:nvPr/>
        </p:nvPicPr>
        <p:blipFill>
          <a:blip r:embed="rId2"/>
          <a:stretch/>
        </p:blipFill>
        <p:spPr>
          <a:xfrm>
            <a:off x="395280" y="765000"/>
            <a:ext cx="2521080" cy="630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file"/>
          <p:cNvPicPr/>
          <p:nvPr/>
        </p:nvPicPr>
        <p:blipFill>
          <a:blip r:embed="rId1">
            <a:lum bright="54000"/>
          </a:blip>
          <a:srcRect l="0" t="0" r="2940" b="7498"/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682560" y="153180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        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那猴在山中，却会行走跳跃，食草木，饮涧泉，采山花，觅树果；与狼虫为伴，虎豹为群，獐鹿为友，猕猿为亲；夜宿石崖之下，朝游峰洞之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84360" y="3716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这一段作者写了石猴日常生活的多个方面。语言精练，寥寥几笔就勾勒出一个在林间自由自在、快活逍遥、亲和友善而又顽皮可爱的小石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图片3"/>
          <p:cNvPicPr/>
          <p:nvPr/>
        </p:nvPicPr>
        <p:blipFill>
          <a:blip r:embed="rId2"/>
          <a:stretch/>
        </p:blipFill>
        <p:spPr>
          <a:xfrm>
            <a:off x="395280" y="765000"/>
            <a:ext cx="252108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file"/>
          <p:cNvPicPr/>
          <p:nvPr/>
        </p:nvPicPr>
        <p:blipFill>
          <a:blip r:embed="rId1">
            <a:lum bright="54000"/>
          </a:blip>
          <a:srcRect l="0" t="0" r="2940" b="7498"/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684360" y="16588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③</a:t>
            </a:r>
            <a:r>
              <a:rPr b="1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他瞑目蹲身，将身一纵，径跳入瀑布泉中，忽睁睛抬头观看，那里边却无水无波，明明朗朗的一架桥梁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755640" y="381960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这一句写石猴入洞的情景，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瞑、蹲、纵、跳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等一系列的动作描写出了石猴的机智、灵巧、敏捷、勇敢的特点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图片3"/>
          <p:cNvPicPr/>
          <p:nvPr/>
        </p:nvPicPr>
        <p:blipFill>
          <a:blip r:embed="rId2"/>
          <a:stretch/>
        </p:blipFill>
        <p:spPr>
          <a:xfrm>
            <a:off x="395280" y="765000"/>
            <a:ext cx="252108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file"/>
          <p:cNvPicPr/>
          <p:nvPr/>
        </p:nvPicPr>
        <p:blipFill>
          <a:blip r:embed="rId1">
            <a:lum bright="54000"/>
          </a:blip>
          <a:srcRect l="0" t="0" r="2940" b="7498"/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611280" y="198900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④</a:t>
            </a:r>
            <a:r>
              <a:rPr b="1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你们才说有本事进得来，出得去，不伤身体者，就拜他为王。我如今进来又出去，出去又进来，寻了这一个洞天与列位安眠稳睡，各享成家之福，何不拜我为王？众猴听说，即拱伏无违。一个个序齿排班，朝上礼拜，都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千岁大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图片3"/>
          <p:cNvPicPr/>
          <p:nvPr/>
        </p:nvPicPr>
        <p:blipFill>
          <a:blip r:embed="rId2"/>
          <a:stretch/>
        </p:blipFill>
        <p:spPr>
          <a:xfrm>
            <a:off x="395280" y="765000"/>
            <a:ext cx="2521080" cy="630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file"/>
          <p:cNvPicPr/>
          <p:nvPr/>
        </p:nvPicPr>
        <p:blipFill>
          <a:blip r:embed="rId1">
            <a:lum bright="54000"/>
          </a:blip>
          <a:srcRect l="0" t="0" r="2940" b="7498"/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612720" y="1268280"/>
            <a:ext cx="79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众猴进入水帘洞后猴性大发，戏耍玩闹，早把先前的誓言忘在脑后。可此时的石猴却相当清醒，提出人要讲信用，按先前讲的拜他为王。从他说的话中可以看出石猴的聪明、机敏、爽朗、坦率；看出他做事有心计，是天生做首领、头目的材料。这石猴因穿越水帘洞的壮举赢得群猴的敬仰、崇拜，最终被拥戴为王。我们似乎能想象当时的石猴阔步登场，威风、气派端坐在一个石凳上，众猴子一个个伏首称臣的情景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file"/>
          <p:cNvPicPr/>
          <p:nvPr/>
        </p:nvPicPr>
        <p:blipFill>
          <a:blip r:embed="rId1">
            <a:lum bright="54000"/>
          </a:blip>
          <a:srcRect l="0" t="0" r="2940" b="7498"/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920" y="2420640"/>
            <a:ext cx="7632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  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兴趣的同学可以读一读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西游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准备好召开一个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西游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故事会，看谁讲的故事最精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图片1"/>
          <p:cNvPicPr/>
          <p:nvPr/>
        </p:nvPicPr>
        <p:blipFill>
          <a:blip r:embed="rId2"/>
          <a:stretch/>
        </p:blipFill>
        <p:spPr>
          <a:xfrm>
            <a:off x="395280" y="981000"/>
            <a:ext cx="25923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b5117497"/>
          <p:cNvPicPr/>
          <p:nvPr/>
        </p:nvPicPr>
        <p:blipFill>
          <a:blip r:embed="rId1">
            <a:lum bright="48000"/>
          </a:blip>
          <a:srcRect l="0" t="0" r="-68" b="4411"/>
          <a:stretch/>
        </p:blipFill>
        <p:spPr>
          <a:xfrm>
            <a:off x="142920" y="623880"/>
            <a:ext cx="8893080" cy="6118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539640" y="692280"/>
            <a:ext cx="8136000" cy="123012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　                        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吴承恩（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1506—1582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），字汝忠，号射阳居士，出生在一个由书香门第而衰落为商人的家庭。其先世为涟水人，早在五世祖前就迁居淮安；高祖吴鼎，素为白衣；曾祖吴铭，始跻身儒林，做过浙江余姚县学训导；祖父吴贞，由年例入监，当过浙江仁和（今杭州）县学教谕；父吴锐，因家庭败落，同街坊商人之女徐氏结婚，遂袭徐氏家业，成为店铺老板。吴承恩自幼敏慧，博览群书，但科举失意，直到年近半百才考取了岁贡生，后在好友礼部侍郎李春芳的帮助下，六十一岁时屈就长兴县丞，后因对官场不满，愤然辞职，返归故乡。七十一岁时，始执笔写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西游记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b5117497"/>
          <p:cNvPicPr/>
          <p:nvPr/>
        </p:nvPicPr>
        <p:blipFill>
          <a:blip r:embed="rId1">
            <a:lum bright="48000"/>
          </a:blip>
          <a:srcRect l="0" t="0" r="-68" b="4411"/>
          <a:stretch/>
        </p:blipFill>
        <p:spPr>
          <a:xfrm>
            <a:off x="142920" y="623880"/>
            <a:ext cx="8893080" cy="61182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395280" y="750960"/>
            <a:ext cx="8424720" cy="165672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西游记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》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西游记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是我国古典神话小说，为中国“四大名著”之一。全书共一百回，分为三部分：一至七回写孙悟空花果山称王和大闹天宫；八至十二回写取经的缘由和唐僧的身世；十三至一百回，写唐僧师徒在取经途中所经历的八十一难。书中讲述唐朝法师西天取经的故事，表现了惩恶扬善的古老主题。它成书于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世纪明朝中叶，自问世以来几百年间在中国及世界各地广为流传，久盛不衰。至今已被翻译成十几种语言。在中国，乃至亚洲部分地区，西游记已经家喻户晓。其中孙悟空、唐僧、猪八戒、沙僧等人物和“大闹天宫”“三打白骨精”“火焰山”等故事更是妇孺皆知，耳熟能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b5117497"/>
          <p:cNvPicPr/>
          <p:nvPr/>
        </p:nvPicPr>
        <p:blipFill>
          <a:blip r:embed="rId1">
            <a:lum bright="48000"/>
          </a:blip>
          <a:srcRect l="0" t="0" r="-68" b="4411"/>
          <a:stretch/>
        </p:blipFill>
        <p:spPr>
          <a:xfrm>
            <a:off x="142920" y="623880"/>
            <a:ext cx="8893080" cy="61182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539640" y="750960"/>
            <a:ext cx="7993080" cy="165672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唐僧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唐僧俗家姓陈，乳名江流，法名玄奘，唐朝第一高僧，所以被人们称为唐僧。西行取经时，唐朝太宗皇帝李世民赐法名三藏。唐僧十八岁出家皈依佛门，经常青灯夜读，对佛家经典研修不断，而且悟性极高，二十来岁便名冠中国佛教，倍受唐朝太宗皇帝厚爱。后来被如来佛祖暗中选中去西天取经，并赐宝物三件，即袈裟、九环锡杖、紧箍咒。唐僧身材高大，举止文雅、性情和善，佛经造诣极高。他西行取经遇到九九八十一难，始终痴心不改，在孙悟空、猪八戒、沙和尚的辅佐下，历尽千辛万苦，终于从西天雷音寺取回三十五部真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2" descr="b5117497"/>
          <p:cNvPicPr/>
          <p:nvPr/>
        </p:nvPicPr>
        <p:blipFill>
          <a:blip r:embed="rId1"/>
          <a:srcRect l="0" t="4435" r="-68" b="441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pic>
        <p:nvPicPr>
          <p:cNvPr id="45" name="敢问路在何方.mp3" descr=""/>
          <p:cNvPicPr/>
          <p:nvPr/>
        </p:nvPicPr>
        <p:blipFill>
          <a:blip r:embed="rId2"/>
          <a:stretch/>
        </p:blipFill>
        <p:spPr>
          <a:xfrm>
            <a:off x="838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30539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b5117497"/>
          <p:cNvPicPr/>
          <p:nvPr/>
        </p:nvPicPr>
        <p:blipFill>
          <a:blip r:embed="rId1">
            <a:lum bright="48000"/>
          </a:blip>
          <a:srcRect l="0" t="0" r="-68" b="4411"/>
          <a:stretch/>
        </p:blipFill>
        <p:spPr>
          <a:xfrm>
            <a:off x="142920" y="623880"/>
            <a:ext cx="8893080" cy="61182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324000" y="750960"/>
            <a:ext cx="8424720" cy="165672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孙悟空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孙悟空法号行者，是唐僧的大徒弟，会七十二变、腾云驾雾。一双火眼金睛，能看穿妖魔鬼怪伪装的伎俩；一个筋斗能翻十万八千里；使用的兵器如意金箍棒，能大能小，随心变化，小到绣花针，大到顶天立地。他占花果山为王，自称齐天大圣，搅乱王母娘娘的蟠桃盛会，偷吃太上老君的长生不老金丹，打败天宫十万天兵天将，又自不量力地与如来佛祖斗法，被压在五行山下五百多年。后来经观世音菩萨点化，保护唐僧西天取经，三打白骨精，收服红孩儿，熄灭火焰山，一路上降魔斗妖，历经九九八十一难，取回真经终成正果。他嫉恶如仇，不怕困难，坚韧不拔，英勇无畏，取经后被封为斗战胜佛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b5117497"/>
          <p:cNvPicPr/>
          <p:nvPr/>
        </p:nvPicPr>
        <p:blipFill>
          <a:blip r:embed="rId1">
            <a:lum bright="48000"/>
          </a:blip>
          <a:srcRect l="0" t="0" r="-68" b="4411"/>
          <a:stretch/>
        </p:blipFill>
        <p:spPr>
          <a:xfrm>
            <a:off x="142920" y="623880"/>
            <a:ext cx="8893080" cy="61182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611280" y="961920"/>
            <a:ext cx="7848360" cy="123012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猪八戒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猪八戒法号悟能，是唐僧的二徒弟，原来是玉皇大帝的天蓬元帅，因调戏嫦娥被逐出天界，到人间投胎，却又错投猪胎，嘴脸与猪相似。他会变身术，能腾云驾雾，使用的兵器是九齿钉钯。唐僧西去取经路过云栈洞，猪八戒被孙悟空收服，八戒从此成为孙悟空的好帮手，一同保护唐僧西天取经。八戒性格温和，憨厚单纯，力气大，但又好吃懒做，爱占小便宜，贪图女色，经常被妖怪的美色所迷，不分敌我。他对师兄的话言听计从，对师父忠心耿耿，为唐僧西天取经立下汗马功劳，是个被人们喜爱同情的喜剧人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b5117497"/>
          <p:cNvPicPr/>
          <p:nvPr/>
        </p:nvPicPr>
        <p:blipFill>
          <a:blip r:embed="rId1">
            <a:lum bright="48000"/>
          </a:blip>
          <a:srcRect l="0" t="0" r="-68" b="4411"/>
          <a:stretch/>
        </p:blipFill>
        <p:spPr>
          <a:xfrm>
            <a:off x="250920" y="620640"/>
            <a:ext cx="8893080" cy="61182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539640" y="1101600"/>
            <a:ext cx="8064720" cy="123012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沙和尚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沙和尚法名悟净，原是天宫玉帝的卷帘大将，因触犯天条，被贬出天界，在人间流沙河兴风作浪。他使用的兵器是一柄月牙铲，武艺高强，不畏强敌。经南海观世音菩萨点化，拜唐僧为师，与孙悟空、猪八戒一起保护唐僧西天取经。他身上有两件宝，一件是菩萨葫芦，一件是九个骷髅组成的项圈。后来，他用九个骷髅作为九宫，把菩萨葫芦安放在其中，成为法船，稳似轻舟，顺利地帮助师徒四人渡河西去。沙和尚在保护唐僧西天取经路上，任劳任怨，忠心不二，取经后被封为金身罗汉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b5117497"/>
          <p:cNvPicPr/>
          <p:nvPr/>
        </p:nvPicPr>
        <p:blipFill>
          <a:blip r:embed="rId1">
            <a:lum bright="48000"/>
          </a:blip>
          <a:srcRect l="0" t="0" r="-68" b="4411"/>
          <a:stretch/>
        </p:blipFill>
        <p:spPr>
          <a:xfrm>
            <a:off x="250920" y="739800"/>
            <a:ext cx="8893080" cy="61182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611280" y="1341360"/>
            <a:ext cx="7704000" cy="123012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白龙马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白龙马小白龙原来是西海龙王敖闰殿下的三太子。龙王三太子纵火烧了殿上玉帝赐的明珠，触犯天条，犯下死罪，幸亏大慈大悲的南海观世音菩萨出面，才幸免于难，被贬到蛇盘山等待唐僧西天取经。无奈他不识唐僧和悟空，误食唐僧坐骑白马，后来被观世音菩萨点化，锯角退鳞，变化成白龙马，皈依佛门，取经路上供唐僧坐骑，任劳任怨，历尽艰辛，终于修成正果，取经归来，被如来佛祖升为八部天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0" descr="1145928869086004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123" name="WordArt 21"/>
          <p:cNvSpPr txBox="1"/>
          <p:nvPr/>
        </p:nvSpPr>
        <p:spPr>
          <a:xfrm>
            <a:off x="2268360" y="3284640"/>
            <a:ext cx="40323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017ea5a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97672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>
            <a:off x="6084720" y="98100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华文新魏"/>
              </a:rPr>
              <a:t>孙悟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猴王出世插图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179280" y="588960"/>
            <a:ext cx="8785440" cy="600876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 rot="5400000">
            <a:off x="1425240" y="254304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美猴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p:transition spd="slow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971640" y="2205000"/>
            <a:ext cx="757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本文选自我国古代杰出的长篇神话小说</a:t>
            </a:r>
            <a:r>
              <a:rPr b="1" lang="en-US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西游记</a:t>
            </a:r>
            <a:r>
              <a:rPr b="1" lang="en-US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，作者是明代的吴承恩。小说主要讲述了唐僧师徒四人历尽千辛万苦到西天取经的故事，主要人物有唐僧、孙悟空、猪八戒、沙和尚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图11"/>
          <p:cNvPicPr/>
          <p:nvPr/>
        </p:nvPicPr>
        <p:blipFill>
          <a:blip r:embed="rId1"/>
          <a:stretch/>
        </p:blipFill>
        <p:spPr>
          <a:xfrm>
            <a:off x="395280" y="907920"/>
            <a:ext cx="2952720" cy="635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168133580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4000" y="2060280"/>
            <a:ext cx="79232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初步感受古典文学的语言特点，体会中国古典四大名著之一的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西游记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的语言美和古代劳动人民的丰富想象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了解课文内容，感悟“石猴”勇敢顽强、无私无畏的个性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学习生字词，能流利有感情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6"/>
          <p:cNvSpPr txBox="1"/>
          <p:nvPr/>
        </p:nvSpPr>
        <p:spPr>
          <a:xfrm>
            <a:off x="900000" y="1268280"/>
            <a:ext cx="216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目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43927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遂             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猕             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顽             窍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镌             挠　　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　　　　　　　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690560" y="300024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mí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619280" y="1844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suì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843280" y="18414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遂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932360" y="1841400"/>
            <a:ext cx="22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zhā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6720" y="1844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獐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843280" y="2997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猕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10"/>
          <p:cNvSpPr txBox="1"/>
          <p:nvPr/>
        </p:nvSpPr>
        <p:spPr>
          <a:xfrm>
            <a:off x="539640" y="907920"/>
            <a:ext cx="2808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生字学习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1547640" y="40021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2843280" y="40021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顽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5003640" y="300024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yuá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6516720" y="3000240"/>
            <a:ext cx="18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猿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1476360" y="51544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juā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2843280" y="51544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镌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5148360" y="5157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náo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446880" y="5154480"/>
            <a:ext cx="18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阻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5003640" y="4005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qi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6516720" y="40734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窍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324000" y="1403280"/>
            <a:ext cx="2592360" cy="47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石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喜不自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拱伏无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抓耳挠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力倦神疲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12720" y="1409760"/>
            <a:ext cx="26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名字叫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7"/>
          <p:cNvSpPr txBox="1"/>
          <p:nvPr/>
        </p:nvSpPr>
        <p:spPr>
          <a:xfrm>
            <a:off x="468360" y="765000"/>
            <a:ext cx="2808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词语理解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476360" y="19861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石头边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2124000" y="328140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欢喜得自己不能控制。形容非常高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2124000" y="386064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伏在地上，朝上礼拜，没有违抗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2124000" y="4522680"/>
            <a:ext cx="65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乱抓耳朵和腮帮子。形容焦急、忙乱或苦闷得无计可施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116000" y="26337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2124000" y="558648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太累了而全身无力，精神不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file"/>
          <p:cNvPicPr/>
          <p:nvPr/>
        </p:nvPicPr>
        <p:blipFill>
          <a:blip r:embed="rId1">
            <a:lum bright="54000"/>
          </a:blip>
          <a:srcRect l="0" t="0" r="2940" b="7498"/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380880" y="882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阅读提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971640" y="2133720"/>
            <a:ext cx="76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本课是我国古典小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西游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中的一个片段，课文叙述了石猴成为猴王的一段经历。读课文，看看石猴是哪来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?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又是怎样成为猴王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?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把不懂的地方画下来，跟同学、老师讨论。把你喜欢的语句多读几遍，也可以抄下来。如有兴趣还可以读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西游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/>
  <dcterms:modified xsi:type="dcterms:W3CDTF">2015-07-07T02:39:52Z</dcterms:modified>
  <cp:revision>1100</cp:revision>
  <dc:subject/>
  <dc:title/>
</cp:coreProperties>
</file>