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434-7ABC-478A-91EB-14008060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E3D-9B0D-4131-AC72-05A33BAA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FEC-1644-459B-B8F9-636841C8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D7B-D0E7-4736-8D24-692CB120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867-9A30-449D-8598-BC9D4440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A21-EB9C-4456-A4EF-82FF3984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7C7-D9EC-4F4D-B0F8-E5CA3AF5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867-756A-45B4-AEE8-3B9B8929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375-D37E-4FC9-BFED-6F61EF6D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127-3EF0-40EC-BB85-658041D0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D2B-9EAD-4456-B367-5CC91EFE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BCE-D8AF-48C0-8A87-93912CB8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5809-2637-46BF-9952-B7478BCFCC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E%D3%C0%EF%B7%F2%C8&#764;%F2%BD%E9&amp;in=12011&amp;cl=2&amp;cm=1&amp;sc=0&amp;lm=-1&amp;pn=4&amp;rn=1&amp;di=9955345830&amp;ln=1364&amp;fr=&amp;ic=0&amp;s=0&amp;se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2"/>
          <a:stretch/>
        </p:blipFill>
        <p:spPr>
          <a:xfrm>
            <a:off x="34920" y="44280"/>
            <a:ext cx="9093240" cy="7075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4920" y="188640"/>
            <a:ext cx="8388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了提炼纯净的镭，居里夫妇搞到一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含镭的工业废渣。他们在院子里支起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口大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锅一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地进行冶炼，然后再送到化验室溶解、沉淀、分析。化验室只是一个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废弃的破棚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玛丽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终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烟熏火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搅拌着锅里的矿渣。她衣裙上，双手上，留下了酸碱的点点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烧痕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天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疲劳之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玛丽揉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酸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后腰，隔着满桌的试管、量杯问皮埃尔：“你说这镭会是什么样子？”皮埃尔说：“我只是希望它有美丽的颜色。”经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年又九个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他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终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矿渣中提炼出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.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镭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127480" y="5772240"/>
            <a:ext cx="2613240" cy="764280"/>
          </a:xfrm>
          <a:prstGeom prst="rect">
            <a:avLst/>
          </a:prstGeom>
          <a:solidFill>
            <a:srgbClr val="dce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黑体"/>
              </a:rPr>
              <a:t>执著追求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68360" y="119700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点美丽的淡蓝色的荧光，融入了一个女子</a:t>
            </a:r>
            <a:r>
              <a:rPr b="1" lang="zh-CN" sz="4800" spc="-1" strike="noStrike">
                <a:solidFill>
                  <a:srgbClr val="0033cc"/>
                </a:solidFill>
                <a:latin typeface="华文中宋"/>
                <a:ea typeface="华文中宋"/>
              </a:rPr>
              <a:t>美丽的生命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</a:t>
            </a:r>
            <a:r>
              <a:rPr b="1" lang="zh-CN" sz="4800" spc="-1" strike="noStrike">
                <a:solidFill>
                  <a:srgbClr val="0033cc"/>
                </a:solidFill>
                <a:latin typeface="华文中宋"/>
                <a:ea typeface="华文中宋"/>
              </a:rPr>
              <a:t>不屈的信念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 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492360" y="4292640"/>
            <a:ext cx="51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中宋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这句话是对居里夫人坚持不懈的献身精神的赞颂。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6" name="Picture 4" descr="6666"/>
          <p:cNvPicPr/>
          <p:nvPr/>
        </p:nvPicPr>
        <p:blipFill>
          <a:blip r:embed="rId1"/>
          <a:stretch/>
        </p:blipFill>
        <p:spPr>
          <a:xfrm>
            <a:off x="539640" y="3716280"/>
            <a:ext cx="272412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WordArt 5"/>
          <p:cNvSpPr txBox="1"/>
          <p:nvPr/>
        </p:nvSpPr>
        <p:spPr>
          <a:xfrm>
            <a:off x="395280" y="260280"/>
            <a:ext cx="439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解读“美丽”四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96720" y="260280"/>
            <a:ext cx="845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种可贵的精神和高远的追求，使 玛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居里几乎在完成这项伟大自然发现   的同时，也完成了对人生意义的发现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47640" y="765000"/>
            <a:ext cx="5329440" cy="360"/>
            <a:chOff x="1547640" y="765000"/>
            <a:chExt cx="5329440" cy="360"/>
          </a:xfrm>
        </p:grpSpPr>
        <p:sp>
          <p:nvSpPr>
            <p:cNvPr id="70" name="Line 3"/>
            <p:cNvSpPr/>
            <p:nvPr/>
          </p:nvSpPr>
          <p:spPr>
            <a:xfrm>
              <a:off x="1547640" y="765000"/>
              <a:ext cx="5329440" cy="0"/>
            </a:xfrm>
            <a:prstGeom prst="line">
              <a:avLst/>
            </a:prstGeom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1547640" y="765000"/>
              <a:ext cx="532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72" name="AutoShape 4"/>
          <p:cNvSpPr/>
          <p:nvPr/>
        </p:nvSpPr>
        <p:spPr>
          <a:xfrm>
            <a:off x="6948360" y="404640"/>
            <a:ext cx="290520" cy="287640"/>
          </a:xfrm>
          <a:custGeom>
            <a:avLst/>
            <a:gdLst/>
            <a:ahLst/>
            <a:rect l="l" t="t" r="r" b="b"/>
            <a:pathLst>
              <a:path w="290512" h="287337">
                <a:moveTo>
                  <a:pt x="0" y="109752"/>
                </a:moveTo>
                <a:lnTo>
                  <a:pt x="110966" y="109753"/>
                </a:lnTo>
                <a:lnTo>
                  <a:pt x="145256" y="0"/>
                </a:lnTo>
                <a:lnTo>
                  <a:pt x="179545" y="109753"/>
                </a:lnTo>
                <a:lnTo>
                  <a:pt x="290512" y="109752"/>
                </a:lnTo>
                <a:lnTo>
                  <a:pt x="200738" y="177583"/>
                </a:lnTo>
                <a:lnTo>
                  <a:pt x="235029" y="287336"/>
                </a:lnTo>
                <a:lnTo>
                  <a:pt x="145256" y="219504"/>
                </a:lnTo>
                <a:lnTo>
                  <a:pt x="55483" y="287336"/>
                </a:lnTo>
                <a:lnTo>
                  <a:pt x="89774" y="17758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1844640"/>
            <a:ext cx="85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种可贵的精神和高远的追求”是指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居里夫人有“坚定、刚毅，有远大、执著追求”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852720" y="1268280"/>
            <a:ext cx="3168720" cy="1800"/>
            <a:chOff x="3852720" y="1268280"/>
            <a:chExt cx="3168720" cy="1800"/>
          </a:xfrm>
        </p:grpSpPr>
        <p:sp>
          <p:nvSpPr>
            <p:cNvPr id="75" name="Line 6"/>
            <p:cNvSpPr/>
            <p:nvPr/>
          </p:nvSpPr>
          <p:spPr>
            <a:xfrm>
              <a:off x="3852720" y="1268280"/>
              <a:ext cx="3168720" cy="1800"/>
            </a:xfrm>
            <a:prstGeom prst="line">
              <a:avLst/>
            </a:prstGeom>
            <a:ln w="2844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3852720" y="1268280"/>
              <a:ext cx="3168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77" name="AutoShape 7"/>
          <p:cNvSpPr/>
          <p:nvPr/>
        </p:nvSpPr>
        <p:spPr>
          <a:xfrm>
            <a:off x="6659640" y="907920"/>
            <a:ext cx="288720" cy="289080"/>
          </a:xfrm>
          <a:custGeom>
            <a:avLst/>
            <a:gdLst/>
            <a:ahLst/>
            <a:rect l="l" t="t" r="r" b="b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2" y="0"/>
                </a:lnTo>
                <a:lnTo>
                  <a:pt x="178564" y="110360"/>
                </a:lnTo>
                <a:lnTo>
                  <a:pt x="288924" y="110359"/>
                </a:lnTo>
                <a:lnTo>
                  <a:pt x="199641" y="178564"/>
                </a:lnTo>
                <a:lnTo>
                  <a:pt x="233745" y="288924"/>
                </a:lnTo>
                <a:lnTo>
                  <a:pt x="144462" y="220717"/>
                </a:lnTo>
                <a:lnTo>
                  <a:pt x="55179" y="288924"/>
                </a:lnTo>
                <a:lnTo>
                  <a:pt x="89283" y="17856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68360" y="2797200"/>
            <a:ext cx="78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项伟大自然发现是指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居里夫人发现了放射性金属元素镭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77720" y="3813120"/>
            <a:ext cx="79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生意义的发现是指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居里夫人明白了人生的价值在于为科学作出贡献，为人类作出贡献，而并不在于年轻美貌、金钱名利。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6156360" y="1413000"/>
            <a:ext cx="290520" cy="287280"/>
          </a:xfrm>
          <a:custGeom>
            <a:avLst/>
            <a:gdLst/>
            <a:ahLst/>
            <a:rect l="l" t="t" r="r" b="b"/>
            <a:pathLst>
              <a:path w="290512" h="287337">
                <a:moveTo>
                  <a:pt x="0" y="109752"/>
                </a:moveTo>
                <a:lnTo>
                  <a:pt x="110966" y="109753"/>
                </a:lnTo>
                <a:lnTo>
                  <a:pt x="145256" y="0"/>
                </a:lnTo>
                <a:lnTo>
                  <a:pt x="179545" y="109753"/>
                </a:lnTo>
                <a:lnTo>
                  <a:pt x="290512" y="109752"/>
                </a:lnTo>
                <a:lnTo>
                  <a:pt x="200738" y="177583"/>
                </a:lnTo>
                <a:lnTo>
                  <a:pt x="235029" y="287336"/>
                </a:lnTo>
                <a:lnTo>
                  <a:pt x="145256" y="219504"/>
                </a:lnTo>
                <a:lnTo>
                  <a:pt x="55483" y="287336"/>
                </a:lnTo>
                <a:lnTo>
                  <a:pt x="89774" y="17758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419640" y="1773360"/>
            <a:ext cx="2665080" cy="360"/>
            <a:chOff x="3419640" y="1773360"/>
            <a:chExt cx="2665080" cy="360"/>
          </a:xfrm>
        </p:grpSpPr>
        <p:sp>
          <p:nvSpPr>
            <p:cNvPr id="82" name="Line 11"/>
            <p:cNvSpPr/>
            <p:nvPr/>
          </p:nvSpPr>
          <p:spPr>
            <a:xfrm>
              <a:off x="3419640" y="1773360"/>
              <a:ext cx="2665080" cy="0"/>
            </a:xfrm>
            <a:prstGeom prst="line">
              <a:avLst/>
            </a:prstGeom>
            <a:ln w="28440">
              <a:solidFill>
                <a:srgbClr val="afbf3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419640" y="1773360"/>
              <a:ext cx="266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84" name="AutoShape 12"/>
          <p:cNvSpPr/>
          <p:nvPr/>
        </p:nvSpPr>
        <p:spPr>
          <a:xfrm>
            <a:off x="6732720" y="1413000"/>
            <a:ext cx="287280" cy="285480"/>
          </a:xfrm>
          <a:prstGeom prst="smileyFace">
            <a:avLst>
              <a:gd name="adj" fmla="val 4653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set>
                                      <p:cBhvr>
                                        <p:cTn id="5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set>
                                      <p:cBhvr>
                                        <p:cTn id="5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395280" y="1125360"/>
            <a:ext cx="8748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她美丽健康的容貌在悄悄地隐退，逐渐变得眼花耳鸣，浑身乏力。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92000" y="3141720"/>
            <a:ext cx="2792520" cy="335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4140360" y="3129120"/>
            <a:ext cx="4751280" cy="33685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003640" y="2421000"/>
            <a:ext cx="39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（献身科学）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WordArt 7"/>
          <p:cNvSpPr txBox="1"/>
          <p:nvPr/>
        </p:nvSpPr>
        <p:spPr>
          <a:xfrm>
            <a:off x="395280" y="260280"/>
            <a:ext cx="4897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解读“美丽”五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04920" y="6858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从一个漂亮的小姑娘，一个端庄坚毅的女学者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变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科学教科书里的新名词“放射线”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变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理学的一个新的计量单位“居里”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变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条条科学定律，她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变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科学史上一块永远的里程碑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4"/>
          <p:cNvSpPr/>
          <p:nvPr/>
        </p:nvSpPr>
        <p:spPr>
          <a:xfrm>
            <a:off x="468360" y="170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变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科学教科书里的新名词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放射线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文本框 5"/>
          <p:cNvSpPr/>
          <p:nvPr/>
        </p:nvSpPr>
        <p:spPr>
          <a:xfrm>
            <a:off x="468360" y="24210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变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物理学的一个新计量单位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居里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文本框 6"/>
          <p:cNvSpPr/>
          <p:nvPr/>
        </p:nvSpPr>
        <p:spPr>
          <a:xfrm>
            <a:off x="468360" y="321300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变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一条条科学定律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文本框 7"/>
          <p:cNvSpPr/>
          <p:nvPr/>
        </p:nvSpPr>
        <p:spPr>
          <a:xfrm>
            <a:off x="395280" y="400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变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了科学史上一块永远的里程碑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5" name="文本框 7"/>
          <p:cNvSpPr/>
          <p:nvPr/>
        </p:nvSpPr>
        <p:spPr>
          <a:xfrm>
            <a:off x="395280" y="49417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*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这句话写出了居里夫人奋斗的一生和不朽的功绩。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927600" y="620640"/>
            <a:ext cx="168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从一个漂亮的小姑娘，一个端庄坚毅的女学者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95280" y="1890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本来可以躺在任何一项大奖或任何一个荣誉上尽情地享受，但是，她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视名利如粪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她将奖金捐赠给科研事业和战争中的法国，而将那些奖章送给６岁的小女儿当玩具。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8" name="Picture 6" descr="居里夫人3"/>
          <p:cNvPicPr/>
          <p:nvPr/>
        </p:nvPicPr>
        <p:blipFill>
          <a:blip r:embed="rId2"/>
          <a:stretch/>
        </p:blipFill>
        <p:spPr>
          <a:xfrm>
            <a:off x="6372360" y="3357720"/>
            <a:ext cx="1984320" cy="280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1403280" y="465300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（淡泊名利）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611280" y="549360"/>
            <a:ext cx="7561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著名科学家爱因斯坦说过：“在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所有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的世界著名人物中，玛丽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居里是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唯一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没有被盛名宠坏的人。”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1" name="Picture 7" descr="u=1479325083,4190989578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492280"/>
            <a:ext cx="24541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40_KJEbcEkIvJJm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834920" y="188640"/>
            <a:ext cx="56163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致居里夫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便是青春和容颜不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便是奖章和头衔不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一切都不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我们心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烙印下了 您 坚定执著的追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这是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跨越百年的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镌刻下了 您 献身科学的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这也是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跨越百年的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更记录下了 您 淡泊名利的风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这更是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跨越百年的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evs0af.wma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58014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6881760" y="476280"/>
            <a:ext cx="11858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Arial"/>
                <a:ea typeface="华文中宋"/>
              </a:rPr>
              <a:t>玛丽</a:t>
            </a:r>
            <a:r>
              <a:rPr b="1" lang="en-US" sz="6600" spc="-1" strike="noStrike">
                <a:solidFill>
                  <a:srgbClr val="cc3300"/>
                </a:solidFill>
                <a:latin typeface="华文中宋"/>
                <a:ea typeface="华文中宋"/>
              </a:rPr>
              <a:t>•</a:t>
            </a:r>
            <a:r>
              <a:rPr b="1" lang="zh-CN" sz="6600" spc="-1" strike="noStrike">
                <a:solidFill>
                  <a:srgbClr val="cc3300"/>
                </a:solidFill>
                <a:latin typeface="Arial"/>
                <a:ea typeface="华文中宋"/>
              </a:rPr>
              <a:t>居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7" name="Picture 9" descr="11456344352122483"/>
          <p:cNvPicPr/>
          <p:nvPr/>
        </p:nvPicPr>
        <p:blipFill>
          <a:blip r:embed="rId1"/>
          <a:stretch/>
        </p:blipFill>
        <p:spPr>
          <a:xfrm>
            <a:off x="900000" y="260280"/>
            <a:ext cx="4545000" cy="5977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36828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Garamond"/>
              </a:rPr>
              <a:t>自学提示：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2205000"/>
            <a:ext cx="793116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速读课文，把文中带有“美丽”这个词的句子划出来标上序号，再读一读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95280" y="522000"/>
            <a:ext cx="8424720" cy="549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她的报告使全场震惊，物理学进入了一个新的时代，而她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美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庄重的形象也就从此定格在历史上，定格在每个人的心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埃儿说：“我只是希望它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美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颜色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真的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极美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颜色，在幽暗的破木棚里发出略带蓝色的荧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美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淡蓝色的荧光，融入了一个女子美丽的生命和不屈的信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美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健康的容貌在悄悄地隐退，逐渐变得眼花耳鸣，浑身乏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9280" y="2133720"/>
            <a:ext cx="8785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她的报告使全场震惊，物理学进入了一个新的时代，而她那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Arial"/>
                <a:ea typeface="黑体"/>
              </a:rPr>
              <a:t>美丽、庄重的形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也就从此定格在历史上，定格在每个人的心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395280" y="260280"/>
            <a:ext cx="41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解读“美丽”一</a:t>
            </a:r>
            <a:endParaRPr b="1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634920" y="1628640"/>
            <a:ext cx="475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玛丽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·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居里穿着一袭黑色长裙，白净端庄的脸庞显出坚定又略带淡泊的神情，那双微微内陷的大眼睛，让你觉得能看透一切，看透未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395280" y="260280"/>
            <a:ext cx="439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解读“美丽”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5" name="Picture 5" descr="d35a10f42747294cddc47491"/>
          <p:cNvPicPr/>
          <p:nvPr/>
        </p:nvPicPr>
        <p:blipFill>
          <a:blip r:embed="rId2"/>
          <a:stretch/>
        </p:blipFill>
        <p:spPr>
          <a:xfrm>
            <a:off x="468360" y="1341360"/>
            <a:ext cx="3224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79280" y="2133720"/>
            <a:ext cx="8785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皮埃儿说：“我只是希望它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美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的颜色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真的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极美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的颜色，在幽暗的破木棚里发出略带蓝色的荧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395280" y="260280"/>
            <a:ext cx="633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解读“美丽”二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16000" y="836640"/>
            <a:ext cx="71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826920" y="1916280"/>
            <a:ext cx="763272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真的有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美丽的颜色，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幽暗的破木棚里发出略带蓝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色的荧光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395280" y="260280"/>
            <a:ext cx="633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解读“美丽”三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4920" y="188640"/>
            <a:ext cx="8388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了提炼纯净的镭，居里夫妇搞到一吨可能含镭的工业废渣。他们在院子里支起了一口大锅，一锅一锅地进行冶炼，然后再送到化验室溶解、沉淀、分析。化验室只是一个废弃的破棚子，玛丽终日在烟熏火燎中搅拌着锅里的矿渣。她衣裙上，双手上，留下了酸碱的点点烧痕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天，疲劳之极的玛丽揉着酸痛的后腰，隔着满桌的试管、量杯问皮埃尔：“你说这镭会是什么样子？”皮埃尔说：“我只是希望它有美丽的颜色。”经过三年又九个月，他们终于在成吨的矿渣中提炼出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克镭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2:54:45Z</dcterms:created>
  <dc:creator/>
  <dc:description/>
  <dc:language>en-US</dc:language>
  <cp:lastModifiedBy>Administrator</cp:lastModifiedBy>
  <dcterms:modified xsi:type="dcterms:W3CDTF">2016-01-06T09:08:36Z</dcterms:modified>
  <cp:revision>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