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E3C-CB03-4482-975B-B79D74C2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83D-93E8-4B6D-B04C-1227A50E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B74-6B27-4AAC-8FBA-6878DDF4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4C1-3844-4292-B9E0-B31A3082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7DA-7B9B-4741-87DE-FFAAE55A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468-7372-4B5A-965F-A1704872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272-D5CF-4324-979E-61FCFE1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24B-2186-4D6E-9A67-D9A49F0D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6A9-20A5-41BA-8A89-3271BB97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50E-D57C-45BF-A21F-DB0EF2C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5D6-555C-47AB-9BF9-E07C4BE6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0E2-A344-4A4B-8369-E311A55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3E8-3D4A-4A06-94BF-7FE62DC4F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楷体"/>
              </a:rPr>
              <a:t>董存瑞舍身炸碉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cc"/>
                </a:solidFill>
                <a:latin typeface="Arial"/>
                <a:ea typeface="华文楷体"/>
              </a:rPr>
              <a:t>说 一 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学习，我们知道了当部队进攻受敌人凶猛火力阻击后，董存瑞主动请战，决定炸掉敌人的碉堡。敌人的火力这么凶猛，他怎么冲到桥下的呢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抓住描写董存瑞动作的词“冲”“抱”，体会董存瑞急于炸掉暗堡的心情和决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27280" y="549360"/>
            <a:ext cx="3600360" cy="1942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00"/>
                </a:solidFill>
                <a:latin typeface="Arial"/>
                <a:ea typeface="华文楷体"/>
              </a:rPr>
              <a:t>小 组 讨 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有没有更好的办法既能炸毁暗堡，又能保全性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206360" cy="1901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一段的最后一句话，“同志们，为了新中国，冲啊！”说明了什么？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319640" cy="1656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ff"/>
                </a:solidFill>
                <a:latin typeface="Arial"/>
                <a:ea typeface="华文楷体"/>
              </a:rPr>
              <a:t>想 一 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董存瑞为了祖国的解放，为了人民的幸福，勇于献身，如果要你为董存瑞叔叔立一块碑文，你会在碑文上写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Arial"/>
                <a:ea typeface="华文楷体"/>
              </a:rPr>
              <a:t>小    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董存瑞不怕困难、英勇献身的精神，努力学习，力争做一个对国家有用的人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91160" y="191988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24400" y="1689480"/>
            <a:ext cx="633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谋（     ） 析（     ） 属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遵（     ） 媒（     ） 折（     ） 嘱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04680" y="2913480"/>
            <a:ext cx="613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顽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） 逢（     ）  幅（     ）诞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玩（     ） 缝（     ） 副（     ） 延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46360" y="4292280"/>
            <a:ext cx="628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飘（          ）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致（     ）置（     ） 倍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漂（     ） 到（     ）值（     ） 陪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47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近字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66920" y="422280"/>
            <a:ext cx="6438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补充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（   ）而（   ）   四（   ）八（   ）   迎风（   ）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）山（   ）海    各（   ）各（   ）    五（   ）六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）左（   ）右   （   ）二（   ）三   （   ）天（   ）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（   ）而（   ）  （   ）首挺（   ）    地（   ）山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）山（   ）岭    长途（   ）（   ）   （   ）林（   ）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088520" y="550080"/>
            <a:ext cx="1155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去劝劝她，让她不要再把过去的往事放在心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辛勤的园丁是一位李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几年来，为培养和教育失足青年做了许多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会上，他信心地听取了别人向他提出的意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11280" y="885960"/>
            <a:ext cx="4524480" cy="5972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12160" y="260280"/>
            <a:ext cx="213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你认识他吗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2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董存瑞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192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年生，河北省怀来县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194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日，我军攻打隆化城的战斗打响。董存瑞所在连队担负攻击国民党守军防御重点隆化中学的任务。危急关头，他毅然决定用左手托起炸药包，右手拉燃导火索，大喊道：“为了新中国，冲啊！！”董存瑞以自己的生命为部队开辟了一条前进的道路，此时，他年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360036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5589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影《董存瑞舍身炸碉堡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788000" y="907920"/>
            <a:ext cx="3529080" cy="428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03640" y="5589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董存瑞雕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626160" cy="5734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00"/>
                </a:solidFill>
                <a:latin typeface="Arial"/>
                <a:ea typeface="华文楷体"/>
              </a:rPr>
              <a:t>词语超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堡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狡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   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迸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射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战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      惊天动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昂首挺胸     地动山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接二连三     万分紧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匍匐前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董存瑞为什么要炸碉堡，为什么要舍身炸碉堡？董存瑞怎样炸碉堡？结果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4321440" cy="1942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63640" y="162864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嗒嗒嗒……突然，从一座桥上喷出了六条火舌，封锁了我军前进的道路。” 说说“封锁”说明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376360" cy="23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86920" y="3141720"/>
            <a:ext cx="706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董存瑞知道敌人的火力点凶猛吗？董存瑞知道自己去炸碉堡的危险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84360" y="692280"/>
            <a:ext cx="3600360" cy="1881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6:32:54Z</dcterms:created>
  <dc:creator>warsc</dc:creator>
  <dc:description/>
  <dc:language>en-US</dc:language>
  <cp:lastModifiedBy>tcl</cp:lastModifiedBy>
  <dcterms:modified xsi:type="dcterms:W3CDTF">2011-10-11T11:55:41Z</dcterms:modified>
  <cp:revision>16</cp:revision>
  <dc:subject/>
  <dc:title>董存瑞舍身炸碉堡</dc:title>
</cp:coreProperties>
</file>