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7BF3-88C2-4679-B226-F8A7900B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63EC-4A92-4C08-942B-25977CA2F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7F6-E0C1-4D08-A1F7-9844704E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DE64-EDB0-424B-B1DC-5DB4183A4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0B78-330B-4C53-9082-8C1346FA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EAF2-EE00-46AD-AF11-004B6CEF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F963-4F9C-4C4F-B8D0-81FA20BC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E38-531C-4E65-B807-0177854C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4F0-ED88-411F-850C-6C6798B0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006-645D-425D-898D-CAB10B64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239-D80C-4370-BD09-FF49D2C1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5677-69D7-43F8-B8F8-91316412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84F6-61DB-4047-871E-92BE35F646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88760" y="765000"/>
            <a:ext cx="32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林冲棒打洪教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900000"/>
            <a:ext cx="83516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834920" y="1052640"/>
            <a:ext cx="554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200" spc="-1" strike="noStrike">
                <a:solidFill>
                  <a:srgbClr val="000000"/>
                </a:solidFill>
                <a:latin typeface="Arial"/>
              </a:rPr>
              <a:t>阅读训练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部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林冲被押解沧州，来到柴进庄上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—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详细地叙述了林冲与洪教头比武的经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照事情发展的顺序，可以把它分为三层：第一层是第二、三自然段，写了洪教头席间向林冲挑战。第二层是第四、五自然段，写了二人初次交手。第三层是第六、七自然段，写林冲与洪教头再次交手，林冲获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三部分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洪教头败给了林冲，满面羞愧而去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林冲棒打洪教头</a:t>
            </a:r>
            <a:br>
              <a:rPr sz="40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施耐庵《水浒传》改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林冲遭受高太尉的陷害，被开封府发配沧州。一天午后，两个差人押解林冲来到了柴进庄上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柴进见了林冲，心中大喜，忙叫庄客杀鸡宰羊，厚礼款待。席间庄客来报：“洪教头来了！”柴进说：“正好请洪教头一起来坐坐。”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333000"/>
            <a:ext cx="8147160" cy="61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      林冲转身一看，只见来人挺着胸脯，歪戴着头巾。林冲寻思，庄客称他教头，想必是柴大官人的师父了，连忙站起来躬身施礼。洪教头全不理睬。柴进指着林冲对洪教头说：“这位是林教头。”林冲起身让座，洪教头也不相让，便去上首坐了。洪教头向柴进问道：“大官人今天何故厚待一个犯人？”柴进说：“这位林武师非比他人，乃是东京八十万禁军教头。”洪教头冷笑了两声：“只因大官人好习枪棒，往往流配的犯人都来依草附木，冒称武师，找你骗吃骗喝，你怎么能如此轻信呢？”柴进说：“哦，你可别小瞧了他。”洪教头跳起来说：“我偏不信他，他敢和我较量一下，我就承认他是真教头。”林冲连说“不敢，不敢”。洪教头见他退让，以为他真的不会枪棒，便越发要跟他交手。柴进说：“我也正想看看二位教头的本事，林武师就不要推辞了。”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29600" cy="45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亮已经上来了，照得厅堂外面如同白昼。众人来到堂前空地上。洪教头先脱了衣裳，拿起一条棒掂量一番，独自耍了一阵，然后喝道：“来！来！”林冲只好也从地上拿起一条棒来说：“请教了。”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洪教头恨不得一口吞了林冲，便把棒在地上猛敲一下，冲向林冲。两个教头就在月光下一来一往，交起手来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战了四五个回合，林冲纵身跳出圈外，叫了一声：“我输了！”柴进问：“还没见二位较量呢，怎么便输了？”林冲说：“小人戴着木枷，就算是输了吧。”柴进连忙请两个差人开了枷，笑着说：“请两位教头使出本事，再试一棒。”洪教头提起棒来就要打。柴进说：“慢！二位教头比试，不同一般，这锭银子权且作为彩头，谁赢得就将这银子拿去。”说着将一锭二十五两重的大银丢在地上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洪教头恼恨林冲，又想赢得这锭银子，便用了浑身的功夫，使出个“把火烧天”的招式。林冲把棒一横，还了个“拨草寻蛇”的招式。洪教头跳起来大喊：“来！来！来！”举起棒劈头打来，林冲往后一退。洪教头一棒落空，他一个踉跄，还没有站稳脚跟，就又提起了棒。林冲看他虽然气势汹汹，但脚步已乱，便抡起棒一扫，那棒直扫到他的小腿骨上。洪教头措手不及，“扑”的一声倒在地上，棒也甩出老远。众人见此情景，哈哈大笑起来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　洪教头满面羞惭，灰溜溜地走开了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一章写出了林冲武艺高强、机智勇敢、镇定自若、谦虚、心胸广阔、善于思考、善于观察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848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18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97840" y="549720"/>
            <a:ext cx="288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　林冲棒打洪教头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有礼貌　　　自以为是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忍让　　　　见钱眼开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武艺高强　　骄傲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字词学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5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200" spc="-1" strike="noStrike">
                <a:solidFill>
                  <a:srgbClr val="000000"/>
                </a:solidFill>
                <a:latin typeface="Arial"/>
              </a:rPr>
              <a:t>巩固练习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35164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85327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28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 课文是根据我国古典小说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有关回目改写的，原著作者是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 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我们了解是林冲是个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人，洪教头是个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人，柴进是个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                         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403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000000"/>
                </a:solidFill>
                <a:latin typeface="Arial"/>
              </a:rPr>
              <a:t>结束  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棒打            教头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根据    施耐庵《水浒传》改写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林冲   遭受陷害   太尉   开封府  发配沧州  差人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押解  杀鸡宰羊          厚礼款待    席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686800" cy="572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挺着胸脯  歪戴头巾  寻思  想必是  躬身施礼   理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去上首坐   何故厚待  流配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非比他人   乃是   禁军教头   好习枪棒   依草附木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冒称   武师   骗吃骗喝           如此轻信   哦   较量   承认   交手    推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1280" y="90792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厅堂   如同白昼   一条棒   掂量一番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独自耍   喝道   恨不得    交起手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战了四五个回合   纵身跳出   戴着木枷     就算是   锭银  权且   作为   彩头    赢得</a:t>
            </a:r>
            <a:br>
              <a:rPr sz="54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恼恨  浑身的功夫   招式  拨草   寻蛇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劈头打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个踉跄  站稳脚跟   气势汹汹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抡起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措手不及   满面羞惭    灰溜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解释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发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ā pè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古刑律之一。指罪犯被判充军或流放而由差役押解出发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流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iú pèi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将罪犯迁徙至远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即充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款待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kuǎn dài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亲切优厚地招待</a:t>
            </a:r>
            <a:br>
              <a:rPr sz="3200"/>
            </a:b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依草附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【解释】：原指鬼神有所依凭，擅作威福。后比喻凭借他人势力，为非作歹。也比喻不能自立，依靠别人。</a:t>
            </a:r>
            <a:br>
              <a:rPr sz="3200"/>
            </a:b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推辞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uī cí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拒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辞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措手不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uò shǒu bù jí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措手：着手处理。来不及动手应付。指事出意外，一时无法对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3:40:19Z</dcterms:created>
  <dc:creator>微软用户</dc:creator>
  <dc:description/>
  <dc:language>en-US</dc:language>
  <cp:lastModifiedBy>lenovo</cp:lastModifiedBy>
  <dcterms:modified xsi:type="dcterms:W3CDTF">2010-06-27T08:02:56Z</dcterms:modified>
  <cp:revision>11</cp:revision>
  <dc:subject/>
  <dc:title>林冲棒打洪教头 根据施耐庵《水浒传》改写 </dc:title>
</cp:coreProperties>
</file>