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924-87BE-4D75-B1C8-D8AEC191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D73A-3562-4669-B5E8-76492537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3F88-3B2A-4B79-9BE2-E3F72C39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C15-7CFD-4FD1-A904-3173AC37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9B2-51C9-4517-8BAB-FA73F167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237-286E-4A01-A07C-536052D2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C7FE-5E8F-4867-BE1C-7EB8A3BB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A3E-EB4A-4568-AC69-D17B1C0F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4BB4-1783-4CC9-8DC1-B2E371FF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6D24-3F01-49AB-A690-0672DB0A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0178-6529-4C79-87F9-3DB522B7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FB2A-8C1E-49B4-BC7D-A8214C0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721A-A166-49A9-8827-7A0B74398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333360"/>
            <a:ext cx="83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258920" y="836640"/>
            <a:ext cx="626580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林海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95280" y="40464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755640" y="692280"/>
            <a:ext cx="75614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二、大兴安岭的“林”具有怎样的特点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T01308~1"/>
          <p:cNvPicPr/>
          <p:nvPr/>
        </p:nvPicPr>
        <p:blipFill>
          <a:blip r:embed="rId1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227640" y="198900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788000" y="189000"/>
            <a:ext cx="43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目击所及，哪里都是绿的。的确是林海，群岭起伏是林海的波浪。多少种颜色呀：深的、浅的、明的、暗的、绿得难以形容。恐怕只有画家才能描出这么多绿颜色来呢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851280" y="549360"/>
            <a:ext cx="47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的，这里是落叶松的海洋。看，海边上不是还泛着白色的浪花吗？那是些俏丽的白桦，树干是银白色的。在阳光下，大片青松的边沿闪动着白桦的银裙，不是像海边的浪花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T01226~1"/>
          <p:cNvPicPr/>
          <p:nvPr/>
        </p:nvPicPr>
        <p:blipFill>
          <a:blip r:embed="rId1"/>
          <a:stretch/>
        </p:blipFill>
        <p:spPr>
          <a:xfrm>
            <a:off x="0" y="0"/>
            <a:ext cx="3851280" cy="3357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01C22~1"/>
          <p:cNvPicPr/>
          <p:nvPr/>
        </p:nvPicPr>
        <p:blipFill>
          <a:blip r:embed="rId2"/>
          <a:stretch/>
        </p:blipFill>
        <p:spPr>
          <a:xfrm>
            <a:off x="0" y="3357720"/>
            <a:ext cx="3851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468360" y="549360"/>
            <a:ext cx="8280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本段采用什么修辞方法 ，把什么比喻成什么？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作者采用比喻的修辞方法，把落叶松林比喻成海洋，把白桦林比喻成银裙，</a:t>
            </a:r>
            <a:r>
              <a:rPr b="0" lang="zh-CN" sz="4400" spc="-1" strike="noStrike">
                <a:solidFill>
                  <a:srgbClr val="a50021"/>
                </a:solidFill>
                <a:latin typeface="Arial"/>
              </a:rPr>
              <a:t>描绘出林海之广阔与秀美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826920" y="765000"/>
            <a:ext cx="71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三、大兴安岭的“花”具有怎样的特点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019D0~1"/>
          <p:cNvPicPr/>
          <p:nvPr/>
        </p:nvPicPr>
        <p:blipFill>
          <a:blip r:embed="rId1"/>
          <a:srcRect l="0" t="27780" r="0" b="0"/>
          <a:stretch/>
        </p:blipFill>
        <p:spPr>
          <a:xfrm>
            <a:off x="-396720" y="1905120"/>
            <a:ext cx="5219640" cy="4952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5435640" y="69228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兴安岭多么会打扮自己呀：青松作衫，白桦为裙，还穿着绣花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01ECB~1"/>
          <p:cNvPicPr/>
          <p:nvPr/>
        </p:nvPicPr>
        <p:blipFill>
          <a:blip r:embed="rId1"/>
          <a:srcRect l="0" t="11114" r="1126" b="0"/>
          <a:stretch/>
        </p:blipFill>
        <p:spPr>
          <a:xfrm>
            <a:off x="0" y="762120"/>
            <a:ext cx="487692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5435640" y="692280"/>
            <a:ext cx="370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松影下开着各种小花，招来各色的小蝴蝶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他们很亲热地落在客人身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611280" y="83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黑龙江大兴安岭林区，位于祖国的最北边陲，东连绵延千里的小兴安岭，西依呼伦贝尔大草原，南达肥沃、富庶的松嫩平原，北与俄罗斯联邦隔江相望，境内山峦叠嶂，林莽苍苍，雄浑八万里的疆域，一片粗犷。 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大兴安岭是我国最北、面积最大的现代化国有林区，大兴安岭总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平方公里，相当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奥地利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新加坡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巍巍兴安岭，积翠大森林。大兴安岭的林地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公倾，大兴安岭森林覆盖率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4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，在浩瀚的绿色海洋中繁衍生息着寒温带马鹿、驯鹿、驼鹿（犴达犴）、梅花鹿等各种珍禽异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种，野生植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种，大兴安岭是我国高纬度地区不可多得的野生动、植物乐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69936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cc"/>
                </a:solidFill>
                <a:latin typeface="Arial"/>
                <a:ea typeface="隶书"/>
              </a:rPr>
              <a:t>补充资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09480" y="-533520"/>
            <a:ext cx="77076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各位游客，我们现在来到的是美丽的大兴安岭，你们看，这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————————————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3"/>
          <p:cNvSpPr txBox="1"/>
          <p:nvPr/>
        </p:nvSpPr>
        <p:spPr>
          <a:xfrm>
            <a:off x="304920" y="152280"/>
            <a:ext cx="2203200" cy="62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小导游：</a:t>
            </a:r>
            <a:endParaRPr b="1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74" name="Picture 4" descr="4"/>
          <p:cNvPicPr/>
          <p:nvPr/>
        </p:nvPicPr>
        <p:blipFill>
          <a:blip r:embed="rId1"/>
          <a:srcRect l="0" t="0" r="839" b="17285"/>
          <a:stretch/>
        </p:blipFill>
        <p:spPr>
          <a:xfrm>
            <a:off x="0" y="4653000"/>
            <a:ext cx="2819520" cy="1824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3"/>
          <p:cNvPicPr/>
          <p:nvPr/>
        </p:nvPicPr>
        <p:blipFill>
          <a:blip r:embed="rId2"/>
          <a:srcRect l="0" t="10704" r="0" b="0"/>
          <a:stretch/>
        </p:blipFill>
        <p:spPr>
          <a:xfrm>
            <a:off x="5867280" y="4952880"/>
            <a:ext cx="3276720" cy="190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5"/>
          <p:cNvPicPr/>
          <p:nvPr/>
        </p:nvPicPr>
        <p:blipFill>
          <a:blip r:embed="rId3"/>
          <a:srcRect l="0" t="0" r="2517" b="14291"/>
          <a:stretch/>
        </p:blipFill>
        <p:spPr>
          <a:xfrm>
            <a:off x="2843280" y="4724280"/>
            <a:ext cx="29480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2"/>
          <p:cNvPicPr/>
          <p:nvPr/>
        </p:nvPicPr>
        <p:blipFill>
          <a:blip r:embed="rId4"/>
          <a:stretch/>
        </p:blipFill>
        <p:spPr>
          <a:xfrm>
            <a:off x="5867280" y="2349360"/>
            <a:ext cx="3276720" cy="237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8"/>
          <p:cNvPicPr/>
          <p:nvPr/>
        </p:nvPicPr>
        <p:blipFill>
          <a:blip r:embed="rId5"/>
          <a:stretch/>
        </p:blipFill>
        <p:spPr>
          <a:xfrm>
            <a:off x="0" y="2276640"/>
            <a:ext cx="2843280" cy="2403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6"/>
          <p:cNvPicPr/>
          <p:nvPr/>
        </p:nvPicPr>
        <p:blipFill>
          <a:blip r:embed="rId6"/>
          <a:stretch/>
        </p:blipFill>
        <p:spPr>
          <a:xfrm>
            <a:off x="2843280" y="2362320"/>
            <a:ext cx="302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539640" y="549360"/>
            <a:ext cx="8425080" cy="81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作者老舍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生平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原名舒庆春，字舍予，满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Arial"/>
              </a:rPr>
              <a:t>文学成就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著名作家、杰出的语言大师，被誉为“人民艺术家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代表作品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长篇巨著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骆驼祥子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世同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剧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茶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龙须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79280" y="404640"/>
            <a:ext cx="8964720" cy="47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读一读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奇峰怪石  高不可攀  悦耳   险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疾驶   俏丽   白桦   蝴蝶  矿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恰好    孤峰突起    盛气凌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目之所及   千山一碧   万古长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11280" y="476280"/>
            <a:ext cx="79930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认一认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酿     椽    峻     俏     桦    蝴    矿    恰      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24000" y="333360"/>
            <a:ext cx="82087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cc00"/>
                </a:solidFill>
                <a:latin typeface="Arial"/>
              </a:rPr>
              <a:t>阅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课文可以分几个部分，每一部分写了什么</a:t>
            </a:r>
            <a:r>
              <a:rPr b="0" lang="zh-CN" sz="1400" spc="-1" strike="noStrike">
                <a:solidFill>
                  <a:srgbClr val="a50021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、作者是按怎样的顺序描写林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a50021"/>
                </a:solidFill>
                <a:latin typeface="Arial"/>
              </a:rPr>
              <a:t>、作者是从哪几个方面描写林海的？每一方面都有哪些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468360" y="549360"/>
            <a:ext cx="80643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一、 作者是怎样介绍大兴安岭“岭”的特点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55640" y="765000"/>
            <a:ext cx="684072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33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这里的岭的确很多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横着的，顺着的，高点儿的，矮点儿，长点儿的，短点儿的，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可是没有一条使人想起“云横秦岭”那种险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突出大兴安岭什么特点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63640" y="515772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66"/>
                </a:solidFill>
                <a:latin typeface="Arial"/>
              </a:rPr>
              <a:t>岭多    形态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T01FAE~1"/>
          <p:cNvPicPr/>
          <p:nvPr/>
        </p:nvPicPr>
        <p:blipFill>
          <a:blip r:embed="rId1"/>
          <a:srcRect l="0" t="7455" r="0" b="0"/>
          <a:stretch/>
        </p:blipFill>
        <p:spPr>
          <a:xfrm>
            <a:off x="0" y="228600"/>
            <a:ext cx="3995640" cy="2840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T01200~1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306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T01C20~1"/>
          <p:cNvPicPr/>
          <p:nvPr/>
        </p:nvPicPr>
        <p:blipFill>
          <a:blip r:embed="rId3"/>
          <a:stretch/>
        </p:blipFill>
        <p:spPr>
          <a:xfrm>
            <a:off x="4067280" y="2492280"/>
            <a:ext cx="5076720" cy="4365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T010DA~1"/>
          <p:cNvPicPr/>
          <p:nvPr/>
        </p:nvPicPr>
        <p:blipFill>
          <a:blip r:embed="rId4"/>
          <a:srcRect l="0" t="0" r="707" b="10051"/>
          <a:stretch/>
        </p:blipFill>
        <p:spPr>
          <a:xfrm>
            <a:off x="0" y="3449520"/>
            <a:ext cx="4038480" cy="34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755640" y="620640"/>
            <a:ext cx="705636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339933"/>
                </a:solidFill>
                <a:latin typeface="Arial"/>
              </a:rPr>
              <a:t>每条岭都是那么温柔，自山脚至岭顶长满了珍贵的树木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谁也不孤峰突起，盛气凌人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句采用了什么修辞法，写出了大兴安岭的什么特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1403280" y="544500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Arial"/>
              </a:rPr>
              <a:t>拟人、温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cp:keywords/>
  <dc:language>en-US</dc:language>
  <cp:lastModifiedBy>Bonny</cp:lastModifiedBy>
  <dcterms:modified xsi:type="dcterms:W3CDTF">2015-10-20T16:19:30Z</dcterms:modified>
  <cp:revision>2</cp:revision>
  <dc:subject> 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