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3E7-9C2D-41D0-A2A9-393BE515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66D-BE23-468D-A269-4A65B76C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1CF-5B0C-4D4B-A0B8-1D61E292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879-17BA-4DFF-A4BE-A9E29A41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78F9-13DE-4414-B66E-D3510831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AD7-D661-4C01-97A7-434B67DD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367-D462-4F2A-BEE4-6E5BFD6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5BE-A70E-49D1-82AC-82DE2C84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F5D-E274-44D0-AC72-2409A04F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CBC-2873-4915-9597-62A51F9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5E4-BF1F-40C0-A9C4-06D1494D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B7A-9026-43EE-9493-BFB5B3A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C436-7E4D-40D0-BAD0-91C7C039B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4984" r="-120" b="0"/>
          <a:stretch/>
        </p:blipFill>
        <p:spPr>
          <a:xfrm>
            <a:off x="0" y="260280"/>
            <a:ext cx="9156600" cy="651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134840" y="476280"/>
            <a:ext cx="2009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诺曼底号遇难记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99960" y="3573360"/>
            <a:ext cx="789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3026" t="0" r="0" b="11258"/>
          <a:stretch/>
        </p:blipFill>
        <p:spPr>
          <a:xfrm>
            <a:off x="179280" y="333360"/>
            <a:ext cx="8867880" cy="6085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020000" y="189000"/>
            <a:ext cx="205092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刚才还在疯狂地奔跑的人们，听到了这句话后，立刻有秩序地走向救生艇，没有一个人敢违抗哈尔威船长的命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229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3049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哈尔威船长的指挥下，所有的人都已上了小艇，只有他还站在轮船上，随着轮船一同沉入大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657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虽然哈尔威船长离开了我们，但他的精神却永远留在了我们的心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819" t="0" r="0" b="17668"/>
          <a:stretch/>
        </p:blipFill>
        <p:spPr>
          <a:xfrm>
            <a:off x="4971960" y="477720"/>
            <a:ext cx="3851280" cy="2008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2284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5280" y="26028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朗读课文，理解文章内容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773360"/>
            <a:ext cx="8353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70309"/>
                </a:solidFill>
                <a:latin typeface="黑体"/>
                <a:ea typeface="黑体"/>
              </a:rPr>
              <a:t>分角色朗读课文</a:t>
            </a:r>
            <a:r>
              <a:rPr b="1" lang="en-US" sz="3600" spc="-1" strike="noStrike">
                <a:solidFill>
                  <a:srgbClr val="f70309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f70309"/>
                </a:solidFill>
                <a:latin typeface="黑体"/>
                <a:ea typeface="黑体"/>
              </a:rPr>
              <a:t>－</a:t>
            </a:r>
            <a:r>
              <a:rPr b="1" lang="en-US" sz="3600" spc="-1" strike="noStrike">
                <a:solidFill>
                  <a:srgbClr val="f70309"/>
                </a:solidFill>
                <a:latin typeface="黑体"/>
                <a:ea typeface="黑体"/>
              </a:rPr>
              <a:t>34</a:t>
            </a:r>
            <a:r>
              <a:rPr b="1" lang="zh-CN" sz="3600" spc="-1" strike="noStrike">
                <a:solidFill>
                  <a:srgbClr val="f70309"/>
                </a:solidFill>
                <a:latin typeface="黑体"/>
                <a:ea typeface="黑体"/>
              </a:rPr>
              <a:t>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同桌的两位同学互相读一遍，体会一下应是什么样的语气语调？这种语气语调表现了小说中的对话者此时怎样的心情？你是从小说中的什么地方看出来的？（两人可讨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向同学们展示你的朗读水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角色：哈尔威船长、洛克机械师、奥克勒福大副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4437000"/>
            <a:ext cx="4537080" cy="2087640"/>
          </a:xfrm>
          <a:prstGeom prst="wedgeRectCallout">
            <a:avLst>
              <a:gd name="adj1" fmla="val 71625"/>
              <a:gd name="adj2" fmla="val -138972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260280"/>
            <a:ext cx="640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走近人物，感受人物形象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91628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你眼中哈尔威船长是一个什么样的人？你是从他的哪些表现看出来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船被撞以后，乘客们是什么表现？写乘客的表现对哈尔威船长起什么作用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22600" y="461952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危不惧，舍己救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沉着机智，指挥有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忠于职守，视死如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6286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0309"/>
                </a:solidFill>
                <a:latin typeface="黑体"/>
                <a:ea typeface="黑体"/>
              </a:rPr>
              <a:t>文章中有两个“谜”，请大家来共同揭开谜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谜一：哈尔威船长说：“必须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救出去。”文章指出：“实际上一共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，但是他把自己给忘了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船长真的把自己忘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谜二：哈尔威船长，他屹立在舰桥上，一个手势也没有做，一句话也没有说，犹如铁铸，纹丝不动，随着轮船一起沉入了深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哈尔威船长在沉没之前，就没有办法救出自己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260280"/>
            <a:ext cx="568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合作探究，体悟形象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12536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41300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谜底一：有两种可能，一是危急关头，救人至上，心中只有救人的信念，忽略了自己；二是已抱定与船共存亡的决心，只要能把他人全部救出，自己愿与心爱的轮船一起葬身大海，意念清楚明确，并未忘记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谜底二：从道理上说，哈尔威船长能把那么多人救出去，也一定能救出自己；他可以最后一个下救生艇，但决非不能上救生艇；他可以在水面上漂浮等人来救，但决非连在水面上漂浮一会儿都不可能。哈尔威已经抱定了与轮船共存亡的决心，以葬身大海作为最后归宿，所以他不想救出自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1052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26028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[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参考答案</a:t>
            </a:r>
            <a:r>
              <a:rPr b="1" lang="en-US" sz="3600" spc="-1" strike="noStrike">
                <a:solidFill>
                  <a:srgbClr val="3333cc"/>
                </a:solidFill>
                <a:latin typeface="黑体"/>
                <a:ea typeface="黑体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2060640"/>
            <a:ext cx="81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哈尔威船长，我想对你说—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260280"/>
            <a:ext cx="7993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此时此刻，你想对哈尔威船长说些什么呢？请你仿照“实话实说”节目的做法，对哈尔威船长说一句你的心里话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42920" y="364500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700280"/>
            <a:ext cx="8137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就一个英雄的“权利”人人都有，关键在于你是否“运用”这个“权利”，在灾难面前，最能够显现出人性的本色，在生死存亡关头，能够克服恐惧、镇定自若、为别人考虑的人都可以称得上是英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种精神在当今社会中有没有体现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说出现实中的一个事例吗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260280"/>
            <a:ext cx="6121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联系现实，拓展探究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692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她是中原大地上的又一个女英雄。扫恶打黑，除暴安良，她铁面无私；嘘寒问暖，扶危济困，她柔肠百转。十里长街，白花胜雪，挽幛如云，那是流动在百姓心中的丰碑！一个弱女子能赢得百姓的爱戴，是因为，在她的心里有对百姓最虔诚的尊重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07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她就是感动中国</a:t>
            </a:r>
            <a:r>
              <a:rPr b="1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2004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年的杰出人物之一，河南省登封市公安局局长，在执行任务中殉职的女警官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任长霞。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76500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鲜血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履行一个公民的责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0000" y="594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戴俊勇斗劫匪被刺身亡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174" t="5979" r="-359" b="9689"/>
          <a:stretch/>
        </p:blipFill>
        <p:spPr>
          <a:xfrm>
            <a:off x="4667400" y="343080"/>
            <a:ext cx="42354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404640"/>
            <a:ext cx="316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预习成果展示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989000"/>
            <a:ext cx="82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介绍作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展示一下自己整理的生字词、成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这篇小小说讲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213372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378936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8360" y="2924280"/>
            <a:ext cx="431640" cy="431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260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阅读赵忠祥的《岁月随想》中的一段文字，联系本文，请你谈谈对生命的认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我与杨澜主持的节目中，有一次涉及一个关于船长职守的问题，如果一条船遇到险情，只有一条救生艇，船长能否先离船去寻求外援。大家七嘴八舌地讨论，各执一端，相持不下。这时，我的脑海中浮现了两个场景：一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前的冰海沉船，“泰坦尼克号”的惨案，我看过根据这个海难拍摄的故事片《冰海沉船》，我记得最让我动心的是设计师的戏。当这艘触到冰山的客轮正在下沉，女人、孩子首先被送上救生艇时，这艘船舶的设计师，却正在船舱中沉默独坐。这时一位船员冲进来，请他上甲板，准备逃生。这位设计师平静地说：“请你转告我的家人，我没有贻笑大方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5280" y="404640"/>
            <a:ext cx="8280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没有悲壮的举动，又没有感人的言语。而身外的一切惊呼惨叫、手忙脚乱、勇敢与怯懦、献身与自私、镇定与心慌、大度与猥琐、高贵与卑贱，在死亡面前一一照见了原形、本质和道德修养。这艘前无古人的豪华游轮的设计师和所有船员乘客一样，作为首批乘客曾享受过那启航时的新鲜、愉悦和旅程的舒适，如果安全抵达目的地，每个人的一生都有了一个永远值得记忆的话题。不幸的是，这个“如果”被巨大的浮冰粉碎了。幸免遇难的人，不幸遇难的人，本人与他们的亲人，都有了更复杂、更深层的回忆，而这位设计师却决心与他的伟大作品同归于尽，因为这是他的成果，也是他的生命。他不为救生艇的不足，而舍己为人，我想即使大家都上了救生艇，他也不愿独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抓住语言，结合神态，描写本班一位具有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人格之美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的同学。（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50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字左右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260280"/>
            <a:ext cx="4105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课后作业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16000" y="476280"/>
            <a:ext cx="13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夜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50920" y="17524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遇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3657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救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2400" y="5486400"/>
            <a:ext cx="21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殉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4080" y="261144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4365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3280" y="6095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2781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上一片混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835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乘客惊恐万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49528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救援井然有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98760" y="4335480"/>
            <a:ext cx="381240" cy="677880"/>
          </a:xfrm>
          <a:prstGeom prst="upDownArrow">
            <a:avLst>
              <a:gd name="adj1" fmla="val 50000"/>
              <a:gd name="adj2" fmla="val 3556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59200" y="4437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1840" y="4411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306864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镇定沉着考虑周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246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船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70280" y="3284640"/>
            <a:ext cx="838440" cy="380880"/>
          </a:xfrm>
          <a:prstGeom prst="leftRightArrow">
            <a:avLst>
              <a:gd name="adj1" fmla="val 50000"/>
              <a:gd name="adj2" fmla="val 4402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827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35520" y="35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068640"/>
            <a:ext cx="144720" cy="2160720"/>
          </a:xfrm>
          <a:custGeom>
            <a:avLst/>
            <a:gdLst>
              <a:gd name="textAreaLeft" fmla="*/ 42480 w 144720"/>
              <a:gd name="textAreaRight" fmla="*/ 145080 w 144720"/>
              <a:gd name="textAreaTop" fmla="*/ 90000 h 2160720"/>
              <a:gd name="textAreaBottom" fmla="*/ 2070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3760" y="210024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忠于职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忘我无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56360" y="333360"/>
            <a:ext cx="2232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板书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6376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114800" y="113536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9840" y="5084640"/>
            <a:ext cx="2815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雨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802----18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476280"/>
            <a:ext cx="50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22"/>
                </a:solidFill>
                <a:latin typeface="黑体"/>
                <a:ea typeface="黑体"/>
              </a:rPr>
              <a:t>雨果是法国浪漫主义文学的旗手和领袖。 代表作有小说</a:t>
            </a:r>
            <a:r>
              <a:rPr b="1" lang="zh-CN" sz="3200" spc="-1" strike="noStrike">
                <a:solidFill>
                  <a:srgbClr val="f70309"/>
                </a:solidFill>
                <a:latin typeface="黑体"/>
                <a:ea typeface="黑体"/>
              </a:rPr>
              <a:t>《巴黎圣母院》 、《悲惨世界》、《九三年》《海上劳工》、《笑面人》</a:t>
            </a:r>
            <a:r>
              <a:rPr b="1" lang="zh-CN" sz="3200" spc="-1" strike="noStrike">
                <a:solidFill>
                  <a:srgbClr val="222222"/>
                </a:solidFill>
                <a:latin typeface="黑体"/>
                <a:ea typeface="黑体"/>
              </a:rPr>
              <a:t>等。雨果是一位高龄多产作家，在长达</a:t>
            </a:r>
            <a:r>
              <a:rPr b="1" lang="en-US" sz="3200" spc="-1" strike="noStrike">
                <a:solidFill>
                  <a:srgbClr val="222222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222222"/>
                </a:solidFill>
                <a:latin typeface="黑体"/>
                <a:ea typeface="黑体"/>
              </a:rPr>
              <a:t>多年的文学生涯中，为后人留下了</a:t>
            </a:r>
            <a:r>
              <a:rPr b="1" lang="en-US" sz="3200" spc="-1" strike="noStrike">
                <a:solidFill>
                  <a:srgbClr val="222222"/>
                </a:solidFill>
                <a:latin typeface="黑体"/>
                <a:ea typeface="黑体"/>
              </a:rPr>
              <a:t>79</a:t>
            </a:r>
            <a:r>
              <a:rPr b="1" lang="zh-CN" sz="3200" spc="-1" strike="noStrike">
                <a:solidFill>
                  <a:srgbClr val="222222"/>
                </a:solidFill>
                <a:latin typeface="黑体"/>
                <a:ea typeface="黑体"/>
              </a:rPr>
              <a:t>卷文学作品和</a:t>
            </a:r>
            <a:r>
              <a:rPr b="1" lang="en-US" sz="3200" spc="-1" strike="noStrike">
                <a:solidFill>
                  <a:srgbClr val="222222"/>
                </a:solidFill>
                <a:latin typeface="黑体"/>
                <a:ea typeface="黑体"/>
              </a:rPr>
              <a:t>4000</a:t>
            </a:r>
            <a:r>
              <a:rPr b="1" lang="zh-CN" sz="3200" spc="-1" strike="noStrike">
                <a:solidFill>
                  <a:srgbClr val="222222"/>
                </a:solidFill>
                <a:latin typeface="黑体"/>
                <a:ea typeface="黑体"/>
              </a:rPr>
              <a:t>多幅绘画作品，是法国和人类文化宝库中的一份宝贵遗产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33336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读准下面加点的字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916280"/>
            <a:ext cx="835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舰桥（        ）      弥漫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驾驶（          ）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瞬间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窟窿（          ）    湍急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推搡（          ）    震荡（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幽灵（          ）    屹立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履行（          ）    主宰（   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49228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249228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21300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321300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00536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00536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393372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472428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472428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44500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544500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16572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6165720"/>
            <a:ext cx="73080" cy="730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17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q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17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2492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ji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43640" y="249228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sh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ù</a:t>
            </a: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3284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k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ū  </a:t>
            </a: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lon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3284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t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uā</a:t>
            </a: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00720" y="400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zh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4076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s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ǎ</a:t>
            </a: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n</a:t>
            </a:r>
            <a:r>
              <a:rPr b="1" lang="en-US" sz="4000" spc="-1" strike="noStrike">
                <a:solidFill>
                  <a:srgbClr val="f70309"/>
                </a:solidFill>
                <a:latin typeface="Times New Roman"/>
              </a:rPr>
              <a:t>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72360" y="4797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y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4797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y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5516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5445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0309"/>
                </a:solidFill>
                <a:latin typeface="宋体"/>
              </a:rPr>
              <a:t>zǎ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33336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成语填空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484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人们还没来得及一一看清，就要死到临头，（      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人们奔跑着，尖叫着，哭泣着，（                     ）一片混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海水哗哗地往里灌，（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大家一窝蜂拥了上去，这股（                      ）的势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几秒钟前大家还在熟睡，而此时就要丧命，这怎么能不叫人   （                             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救援工作进行得（                  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把每件事情都考虑到了，而对（                         ）的众人，他    （            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976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葬身鱼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94320" y="2171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恐万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41760" y="3036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势不可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3760" y="350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推我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77760" y="4332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唤落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4764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井然有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97400" y="5340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失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9760" y="5700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镇定自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333360"/>
            <a:ext cx="47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成语填空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" name=""/>
          <p:cNvSpPr/>
          <p:nvPr/>
        </p:nvSpPr>
        <p:spPr>
          <a:xfrm>
            <a:off x="1728720" y="1793880"/>
            <a:ext cx="551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8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他屹立在舰桥上，一个手势也没有打，一句话也没有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                         ），（              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9.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英伦海峡上，没有任何一个海员能与他（            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01400" y="2028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犹如铁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09760" y="206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纹丝不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6840" y="238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形体并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97000"/>
            <a:ext cx="9144000" cy="22860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solidFill>
            <a:srgbClr val="3333cc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整体感知，理清情节</a:t>
            </a:r>
            <a:endParaRPr b="1" lang="en-US" sz="2400" spc="-1" strike="noStrike">
              <a:ln w="0">
                <a:noFill/>
              </a:ln>
              <a:solidFill>
                <a:srgbClr val="cc00cc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989000"/>
            <a:ext cx="777564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自己的话说说这篇小小说讲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什么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要求同桌的两个人互说一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比比看谁说得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4581360"/>
            <a:ext cx="8642160" cy="136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790" y="1804"/>
                </a:moveTo>
                <a:lnTo>
                  <a:pt x="21842" y="1804"/>
                </a:lnTo>
                <a:lnTo>
                  <a:pt x="21842" y="-18543"/>
                </a:lnTo>
                <a:lnTo>
                  <a:pt x="14867" y="-38890"/>
                </a:lnTo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10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指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341360"/>
            <a:ext cx="7775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是一两句话概括，只要说出其中的关键信息即可：时、地、人、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是比较详细地介绍，则除了“时、地、人、事”这几个关键信息外，还可简单说说事情的起因、经过、结果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581360"/>
            <a:ext cx="8642160" cy="520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示例：这篇小小说写了十九世纪一位英国船长在自己的轮船不幸被撞，即将沉没时，镇定地指挥别人逃生，自己却勇敢地与船同沉，为船负责的悲壮故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3049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这是一个宁静的夜晚，大海上夜色正浓，浓雾弥漫，诺曼底号的船长正在小心翼翼地驾驶着诺曼底号邮船，航行在南安普敦到格恩西岛的航线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由于海面上有一层浓雾，哈尔威船长无法发现前方“玛丽”号正透过浓浓的雾笔直地朝诺曼底号逼过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35280" y="5445000"/>
            <a:ext cx="2000520" cy="639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48520" y="4876920"/>
            <a:ext cx="158904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8:50:01Z</dcterms:created>
  <dc:creator>Administrator</dc:creator>
  <dc:description/>
  <dc:language>en-US</dc:language>
  <cp:lastModifiedBy/>
  <dcterms:modified xsi:type="dcterms:W3CDTF">2015-07-28T00:51:00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