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D66-5CFE-40D8-8F8C-D960AFB2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1A5-9828-4FA3-B624-DAF3BBC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BF6-3F5D-47DF-A011-8C99C6A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B38-DBDA-4663-BD4A-EADBA448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0C1-5E3C-4458-82DB-47280F1C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CDAC-42F8-4679-9020-6D5333F6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4C0F-23C2-446B-87F0-7059CFCB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F42C-93E2-4C91-94F6-3D61912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B6BA-0615-4955-A585-58C6248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F4C9-E8DC-4596-A47C-7AFA044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2F73-2A87-4112-8A5B-8585753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BEA-39A2-4E65-B495-36E65F5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C833-4971-4083-8F1E-5405E83E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D961-4DA1-4EDA-947A-14C4CA6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2E1-DB69-4A23-A9A1-3E142B0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D5F5-D8F5-4DD5-9038-784DE522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B15D-CC2F-4E91-83FF-BD288A9E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53E-2019-4631-93F7-D6094F80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D30-002B-45C3-971B-5E478B18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F0A-0525-4CDE-A0D5-87FA5F49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EA1-C585-413C-9E9A-A910E58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223-5325-4A7E-8F8D-38892660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49D-3E73-4E21-92E8-BF55936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E1E-0D4F-48EB-98AC-C11DFFC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FA81-2678-4929-BADD-67EF902DC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6E6D-CB4F-4963-9775-EF27325D7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9,4,&#24187;&#28783;&#29255; 4" TargetMode="External"/><Relationship Id="rId2" Type="http://schemas.openxmlformats.org/officeDocument/2006/relationships/hyperlink" Target="260,5,&#24187;&#28783;&#29255; 5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35280" y="2349360"/>
            <a:ext cx="523368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千里跃进大别山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81000"/>
            <a:ext cx="80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士们的“勇”表现在什么地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20500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先头部队的战士如猛虎出山，杀向敌人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6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力部队从打开的通路冲了上去，大军像决堤的洪水，向西南方向奔流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936800"/>
            <a:ext cx="690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对“狭路相逢勇者胜”这句话是怎样理解的呢，请结合课文和同学们谈一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4496040" cy="3519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16668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44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经过一年的解放战争，国民党军队已大大减少，人民解放军开始了战略进攻，刘邓大军奉命挺进大别山地区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6520" y="1627200"/>
            <a:ext cx="624816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</a:rPr>
              <a:t>生字学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课文朗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思考答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762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下列生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828800"/>
            <a:ext cx="9144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跃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u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zūn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照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r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渡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dù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 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拖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tuō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    参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mǒ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zòng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队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陪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péi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   分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析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xī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xiá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qī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     决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堤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dī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2276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布置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，摆，安排。②设立，设备。③购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叮嘱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三嘱咐。②蚊子叮咬。③追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约而同”：①约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27280" y="1052640"/>
            <a:ext cx="324180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词语解释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、把课文读通，字音读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、说说课文讲了一件什么事，是按什么顺序写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、文中出现次数最多的是哪句话，共出现几次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17080" y="105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0248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1125360"/>
            <a:ext cx="69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朗读课文，回答老师的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637000"/>
            <a:ext cx="64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文讲了一件什么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789360"/>
            <a:ext cx="68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十八旅在刘邓首长指挥下强渡汝河向南挺进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0328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刘邓首长提出了一个口号“狭路相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者胜”，这句话什么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2637000"/>
            <a:ext cx="707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在狭窄的路上两军相遇，勇敢的一方将会取得胜利。在此也表现了解放军战士不怕牺牲，顽强拼搏的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84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刘邓首长的“勇”表现在什么地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565360"/>
            <a:ext cx="7283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们要采取进攻的手段，从这里打开一条通路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管敌人有多少飞机大炮，我们一定要迅速前进，一定要实现跃进大别山的战略计划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要记住，现在是‘狭路相逢勇者胜’，要勇，要猛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5:50:42Z</dcterms:created>
  <dc:creator>lixiaolong</dc:creator>
  <dc:description/>
  <dc:language>en-US</dc:language>
  <cp:lastModifiedBy>微软用户</cp:lastModifiedBy>
  <dcterms:modified xsi:type="dcterms:W3CDTF">2015-04-29T08:33:1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e006000000000001024120</vt:lpwstr>
  </property>
</Properties>
</file>