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651-0AF9-4DCC-9AF4-8B078536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24C-72EE-4CC3-9352-46D1644A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3DD-D499-40F5-A557-F4C93A19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EF0-B146-4E33-80F8-03BD57BC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3E3-885C-437A-BCBB-08822EAD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409-BB6A-4433-9B43-47F5CC4A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0BE-5D89-432D-8B9F-B4C6785A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E6E-320B-43F4-82CE-319FCC0F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D03-008A-4276-98FF-838BE1BB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9B0-3669-463C-88F4-94CF45F7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83B-CD53-472A-982A-ABBC8D4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A8F-8736-4616-A5FF-5CBB4BFF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693E-6043-41AC-BCD1-D7666FA3F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lide0022_image088"/>
          <p:cNvPicPr/>
          <p:nvPr/>
        </p:nvPicPr>
        <p:blipFill>
          <a:blip r:embed="rId1"/>
          <a:srcRect l="3333" t="0" r="0" b="0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022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659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44792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）食物链与人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505320" y="1492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   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362320" y="20876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：什么是食物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371600" y="4800600"/>
            <a:ext cx="52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09480" y="2895480"/>
            <a:ext cx="815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地球上，各种生物之间形成了相互作用、相互依存的食物链关系，并保持整个生态系统的平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人类与大自然通过食物链紧密地联系在一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699160" y="4464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136"/>
          <p:cNvPicPr/>
          <p:nvPr/>
        </p:nvPicPr>
        <p:blipFill>
          <a:blip r:embed="rId2"/>
          <a:stretch/>
        </p:blipFill>
        <p:spPr>
          <a:xfrm>
            <a:off x="2590920" y="129528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slide0022_image088"/>
          <p:cNvPicPr/>
          <p:nvPr/>
        </p:nvPicPr>
        <p:blipFill>
          <a:blip r:embed="rId1"/>
          <a:srcRect l="3333" t="0" r="0" b="0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_9"/>
          <p:cNvPicPr/>
          <p:nvPr/>
        </p:nvPicPr>
        <p:blipFill>
          <a:blip r:embed="rId2"/>
          <a:stretch/>
        </p:blipFill>
        <p:spPr>
          <a:xfrm>
            <a:off x="-685800" y="42840"/>
            <a:ext cx="9829800" cy="70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slide0022_image088"/>
          <p:cNvPicPr/>
          <p:nvPr/>
        </p:nvPicPr>
        <p:blipFill>
          <a:blip r:embed="rId1"/>
          <a:srcRect l="3333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海豚1"/>
          <p:cNvPicPr/>
          <p:nvPr/>
        </p:nvPicPr>
        <p:blipFill>
          <a:blip r:embed="rId2"/>
          <a:stretch/>
        </p:blipFill>
        <p:spPr>
          <a:xfrm>
            <a:off x="762120" y="4114800"/>
            <a:ext cx="761976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baohu"/>
          <p:cNvPicPr/>
          <p:nvPr/>
        </p:nvPicPr>
        <p:blipFill>
          <a:blip r:embed="rId3"/>
          <a:stretch/>
        </p:blipFill>
        <p:spPr>
          <a:xfrm>
            <a:off x="4952880" y="762120"/>
            <a:ext cx="3429000" cy="271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bio00801_pic"/>
          <p:cNvPicPr/>
          <p:nvPr/>
        </p:nvPicPr>
        <p:blipFill>
          <a:blip r:embed="rId4"/>
          <a:stretch/>
        </p:blipFill>
        <p:spPr>
          <a:xfrm>
            <a:off x="762120" y="7621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slide0022_image088"/>
          <p:cNvPicPr/>
          <p:nvPr/>
        </p:nvPicPr>
        <p:blipFill>
          <a:blip r:embed="rId1"/>
          <a:srcRect l="3333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\\Data_server\原稿件\政治\初三\c3-3-1赵继红\zz-4\animal\可想9.jpg"/>
          <p:cNvPicPr/>
          <p:nvPr/>
        </p:nvPicPr>
        <p:blipFill>
          <a:blip r:embed="rId2"/>
          <a:stretch/>
        </p:blipFill>
        <p:spPr>
          <a:xfrm>
            <a:off x="4419720" y="3352680"/>
            <a:ext cx="441936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imalbe10"/>
          <p:cNvPicPr/>
          <p:nvPr/>
        </p:nvPicPr>
        <p:blipFill>
          <a:blip r:embed="rId3"/>
          <a:stretch/>
        </p:blipFill>
        <p:spPr>
          <a:xfrm>
            <a:off x="457200" y="0"/>
            <a:ext cx="4724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209680" y="1523880"/>
            <a:ext cx="729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人类的朋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09680" y="3124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一、生活的必需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133720" y="4419720"/>
            <a:ext cx="5943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二、 生存的空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65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2209680" y="5335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一、生活的必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38080" y="150804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人类的生活每时每刻都离不开自然资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371600" y="3335400"/>
            <a:ext cx="71629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活    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：什么是自然资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举：生活中我们所必需的自然资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介绍：自然资源的分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431960" y="31701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136"/>
          <p:cNvPicPr/>
          <p:nvPr/>
        </p:nvPicPr>
        <p:blipFill>
          <a:blip r:embed="rId2"/>
          <a:stretch/>
        </p:blipFill>
        <p:spPr>
          <a:xfrm>
            <a:off x="2362320" y="325908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65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219320" y="609480"/>
            <a:ext cx="7391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土地、水、能源等自然资源是人类生存的基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各种生物也是人类生存和发展的重要资源。生物多样性是自然界的重要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1240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活   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133720" y="5257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：生物的多样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136"/>
          <p:cNvPicPr/>
          <p:nvPr/>
        </p:nvPicPr>
        <p:blipFill>
          <a:blip r:embed="rId2"/>
          <a:stretch/>
        </p:blipFill>
        <p:spPr>
          <a:xfrm>
            <a:off x="2209680" y="4419720"/>
            <a:ext cx="914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65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752480" y="3049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二、生存的空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5800" y="1295280"/>
            <a:ext cx="815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自然环境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）包括地质环境、水环境、生态环境、大气环境和空间环境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429000" y="3701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  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828800" y="4343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看：绚丽多姿的大自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501336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环境是人类赖以生存和发展的空间和物质条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136"/>
          <p:cNvPicPr/>
          <p:nvPr/>
        </p:nvPicPr>
        <p:blipFill>
          <a:blip r:embed="rId2"/>
          <a:stretch/>
        </p:blipFill>
        <p:spPr>
          <a:xfrm>
            <a:off x="2438280" y="3505320"/>
            <a:ext cx="914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278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914400" y="8380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生态系统与人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09480" y="2666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）生态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6"/>
          <p:cNvGrpSpPr/>
          <p:nvPr/>
        </p:nvGrpSpPr>
        <p:grpSpPr>
          <a:xfrm>
            <a:off x="4038480" y="1219320"/>
            <a:ext cx="6096240" cy="4821840"/>
            <a:chOff x="4038480" y="1219320"/>
            <a:chExt cx="6096240" cy="4821840"/>
          </a:xfrm>
        </p:grpSpPr>
        <p:grpSp>
          <p:nvGrpSpPr>
            <p:cNvPr id="78" name="Group 25"/>
            <p:cNvGrpSpPr/>
            <p:nvPr/>
          </p:nvGrpSpPr>
          <p:grpSpPr>
            <a:xfrm>
              <a:off x="4038480" y="1219320"/>
              <a:ext cx="6096240" cy="4749120"/>
              <a:chOff x="4038480" y="1219320"/>
              <a:chExt cx="6096240" cy="4749120"/>
            </a:xfrm>
          </p:grpSpPr>
          <p:sp>
            <p:nvSpPr>
              <p:cNvPr id="79" name="Text Box 10"/>
              <p:cNvSpPr/>
              <p:nvPr/>
            </p:nvSpPr>
            <p:spPr>
              <a:xfrm>
                <a:off x="6062760" y="1219320"/>
                <a:ext cx="1990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</a:rPr>
                  <a:t>阳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1"/>
              <p:cNvSpPr/>
              <p:nvPr/>
            </p:nvSpPr>
            <p:spPr>
              <a:xfrm>
                <a:off x="7601040" y="2432160"/>
                <a:ext cx="253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66"/>
                    </a:solidFill>
                    <a:latin typeface="Arial"/>
                  </a:rPr>
                  <a:t>空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2"/>
              <p:cNvSpPr/>
              <p:nvPr/>
            </p:nvSpPr>
            <p:spPr>
              <a:xfrm>
                <a:off x="7848720" y="4385880"/>
                <a:ext cx="1990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</a:rPr>
                  <a:t>水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3"/>
              <p:cNvSpPr/>
              <p:nvPr/>
            </p:nvSpPr>
            <p:spPr>
              <a:xfrm>
                <a:off x="4038480" y="4385880"/>
                <a:ext cx="217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6600"/>
                    </a:solidFill>
                    <a:latin typeface="Arial"/>
                  </a:rPr>
                  <a:t>土壤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14"/>
              <p:cNvSpPr/>
              <p:nvPr/>
            </p:nvSpPr>
            <p:spPr>
              <a:xfrm>
                <a:off x="4343400" y="2432160"/>
                <a:ext cx="1900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5c00"/>
                    </a:solidFill>
                    <a:latin typeface="Arial"/>
                  </a:rPr>
                  <a:t>气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6"/>
              <p:cNvSpPr/>
              <p:nvPr/>
            </p:nvSpPr>
            <p:spPr>
              <a:xfrm>
                <a:off x="7148520" y="1652760"/>
                <a:ext cx="905040" cy="69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7"/>
              <p:cNvSpPr/>
              <p:nvPr/>
            </p:nvSpPr>
            <p:spPr>
              <a:xfrm>
                <a:off x="8372520" y="3124800"/>
                <a:ext cx="9360" cy="126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8"/>
              <p:cNvSpPr/>
              <p:nvPr/>
            </p:nvSpPr>
            <p:spPr>
              <a:xfrm flipV="1">
                <a:off x="7467480" y="5105160"/>
                <a:ext cx="914400" cy="86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9"/>
              <p:cNvSpPr/>
              <p:nvPr/>
            </p:nvSpPr>
            <p:spPr>
              <a:xfrm flipH="1">
                <a:off x="4572000" y="3124800"/>
                <a:ext cx="9360" cy="126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0"/>
              <p:cNvSpPr/>
              <p:nvPr/>
            </p:nvSpPr>
            <p:spPr>
              <a:xfrm flipH="1">
                <a:off x="5067000" y="1652760"/>
                <a:ext cx="904680" cy="77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23"/>
              <p:cNvSpPr/>
              <p:nvPr/>
            </p:nvSpPr>
            <p:spPr>
              <a:xfrm>
                <a:off x="5867280" y="526248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800080"/>
                    </a:solidFill>
                    <a:latin typeface="Arial"/>
                  </a:rPr>
                  <a:t>各种生物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24"/>
            <p:cNvSpPr/>
            <p:nvPr/>
          </p:nvSpPr>
          <p:spPr>
            <a:xfrm>
              <a:off x="4648320" y="5105520"/>
              <a:ext cx="838080" cy="93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7-07T01:25:15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