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1.jpeg" ContentType="image/jpeg"/>
  <Override PartName="/ppt/media/image9.gif" ContentType="image/gif"/>
  <Override PartName="/ppt/media/image17.jpeg" ContentType="image/jpeg"/>
  <Override PartName="/ppt/media/image16.gif" ContentType="image/gif"/>
  <Override PartName="/ppt/media/image14.jpeg" ContentType="image/jpeg"/>
  <Override PartName="/ppt/media/image15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8.gif" ContentType="image/gif"/>
  <Override PartName="/ppt/media/image10.jpeg" ContentType="image/jpeg"/>
  <Override PartName="/ppt/media/image6.png" ContentType="image/png"/>
  <Override PartName="/ppt/media/image5.jpeg" ContentType="image/jpeg"/>
  <Override PartName="/ppt/media/image7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B96D9-16B6-4E74-9D11-3488A39A3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120" y="11426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2590920"/>
            <a:ext cx="815328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3520" y="4262760"/>
            <a:ext cx="815328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2EA0A-89C6-40AA-92DD-B5E36DFFE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11426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2590920"/>
            <a:ext cx="397872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11680" y="2590920"/>
            <a:ext cx="397872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3520" y="4262760"/>
            <a:ext cx="397872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11680" y="4262760"/>
            <a:ext cx="397872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ED593-3A0B-42E9-BB3C-8CA7962C6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11426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520" y="2590920"/>
            <a:ext cx="262512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0400" y="2590920"/>
            <a:ext cx="262512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6920" y="2590920"/>
            <a:ext cx="262512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3520" y="4262760"/>
            <a:ext cx="262512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0400" y="4262760"/>
            <a:ext cx="262512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6920" y="4262760"/>
            <a:ext cx="262512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B1B14-851F-45EA-AB12-1A57E90AB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120" y="11426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3520" y="2590920"/>
            <a:ext cx="8153280" cy="32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73161-3ED9-440C-B6B5-2E6BC2C28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120" y="11426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3520" y="2590920"/>
            <a:ext cx="81532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67993-A567-4CBA-BF0A-6316EE23A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120" y="11426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520" y="2590920"/>
            <a:ext cx="397872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11680" y="2590920"/>
            <a:ext cx="397872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EE232-FAE2-4ADF-939F-6C2FAA86B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11426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5E98F-6813-4879-864F-E5A97EEF9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120" y="114264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D2E7C-D06A-4979-8317-610382EEC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11426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520" y="2590920"/>
            <a:ext cx="397872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11680" y="2590920"/>
            <a:ext cx="397872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3520" y="4262760"/>
            <a:ext cx="397872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8362D-1B13-4D0E-90C3-08FB26F4C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11426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2590920"/>
            <a:ext cx="397872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1680" y="2590920"/>
            <a:ext cx="397872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11680" y="4262760"/>
            <a:ext cx="397872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FA591-5846-4410-9AFA-BBD83E42E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120" y="11426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2590920"/>
            <a:ext cx="397872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1680" y="2590920"/>
            <a:ext cx="397872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3520" y="4262760"/>
            <a:ext cx="815328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C6CF7-3CBC-4D53-B9F6-1F6C01116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11426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520" y="2590920"/>
            <a:ext cx="81532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-263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-219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79840" indent="-175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31920" indent="-1756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84000" indent="-1756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584000" indent="-1756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584000" indent="-1756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283B0-7FE9-4348-86B8-733F73B07D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762120" y="1981080"/>
            <a:ext cx="8076960" cy="47466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1523880" y="838080"/>
            <a:ext cx="6096240" cy="17528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生死攸关的烛光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p:transition spd="slow"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4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-360" y="188640"/>
            <a:ext cx="5724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隶书"/>
              </a:rPr>
              <a:t>学习目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7561440" cy="229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我能了解课文的主要内容，学习母子三人对祖国的热爱和机智勇敢的高贵品质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我能学会从人物的语言、动作、表情以及心理活动体会人物的品质。</a:t>
            </a:r>
            <a:br>
              <a:rPr sz="44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　　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742840" y="1676520"/>
            <a:ext cx="5715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8000"/>
                </a:solidFill>
                <a:latin typeface="Arial"/>
                <a:ea typeface="华文中宋"/>
              </a:rPr>
              <a:t>朗读课文，思考问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057040" y="3352320"/>
            <a:ext cx="563868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Arial"/>
                <a:ea typeface="华文仿宋"/>
              </a:rPr>
              <a:t>１、课文是围绕什么事物来展开故事情节的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Arial"/>
                <a:ea typeface="华文仿宋"/>
              </a:rPr>
              <a:t>２、“生死攸关的烛光”是什么意思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1143000" y="1676520"/>
            <a:ext cx="72388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Arial"/>
                <a:ea typeface="楷体_GB2312"/>
              </a:rPr>
              <a:t>课文紧紧围绕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一根小小的蜡烛</a:t>
            </a:r>
            <a:r>
              <a:rPr b="1" lang="zh-CN" sz="3600" spc="-1" strike="noStrike">
                <a:solidFill>
                  <a:srgbClr val="008000"/>
                </a:solidFill>
                <a:latin typeface="Arial"/>
                <a:ea typeface="楷体_GB2312"/>
              </a:rPr>
              <a:t>展开了一个惊心动魄的故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133720" y="3352680"/>
            <a:ext cx="541008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Arial"/>
                <a:ea typeface="华文新魏"/>
              </a:rPr>
              <a:t>生死攸关：关系到人的生存和死亡。这一根小小的蜡烛关系到伯瑙德夫人一家３口的性命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9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748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 伯德夫人保护的是一份怎么样的情报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524720" y="260280"/>
            <a:ext cx="14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黑体"/>
              </a:rPr>
              <a:t>绝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24000" y="1268280"/>
            <a:ext cx="8351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为保护绝密情报，伯瑙德夫人想了一个怎样绝妙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办法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666880" y="2057400"/>
            <a:ext cx="6477120" cy="30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cc"/>
                </a:solidFill>
                <a:latin typeface="Arial"/>
              </a:rPr>
              <a:t>     </a:t>
            </a:r>
            <a:r>
              <a:rPr b="1" lang="zh-CN" sz="6000" spc="-1" strike="noStrike">
                <a:solidFill>
                  <a:srgbClr val="0000cc"/>
                </a:solidFill>
                <a:latin typeface="Arial"/>
              </a:rPr>
              <a:t>她</a:t>
            </a:r>
            <a:r>
              <a:rPr b="1" lang="zh-CN" sz="6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把金属管藏在半截蜡烛里，然后把烛台</a:t>
            </a:r>
            <a:r>
              <a:rPr b="1" lang="zh-CN" sz="6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摆</a:t>
            </a:r>
            <a:r>
              <a:rPr b="1" lang="zh-CN" sz="6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在显眼的桌子上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rcRect l="2468" t="3877" r="-4055" b="7512"/>
          <a:stretch/>
        </p:blipFill>
        <p:spPr>
          <a:xfrm>
            <a:off x="380880" y="2995560"/>
            <a:ext cx="2308320" cy="325440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5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1676520"/>
            <a:ext cx="5715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6600"/>
                </a:solidFill>
                <a:latin typeface="Arial"/>
                <a:ea typeface="黑体"/>
              </a:rPr>
              <a:t>再读课文，理解内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838080" y="3429000"/>
            <a:ext cx="739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000000"/>
                </a:solidFill>
                <a:latin typeface="Arial"/>
                <a:ea typeface="华文仿宋"/>
              </a:rPr>
              <a:t>　　</a:t>
            </a:r>
            <a:r>
              <a:rPr b="1" i="1" lang="zh-CN" sz="3600" spc="-1" strike="noStrike">
                <a:solidFill>
                  <a:srgbClr val="3333ff"/>
                </a:solidFill>
                <a:latin typeface="Arial"/>
                <a:ea typeface="华文仿宋"/>
              </a:rPr>
              <a:t>走进课文，关注伯瑙德夫人一家的命运。请大家看看故事情节发生了几次令人紧张的变化？请在文段中用横线划出来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7010280" y="1295280"/>
            <a:ext cx="160020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8" dur="80"/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9" dur="80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" dur="80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7086600" y="990720"/>
            <a:ext cx="914400" cy="99036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1219320" y="1371600"/>
            <a:ext cx="64008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8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三次令人紧张的变化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ff"/>
              </a:buClr>
              <a:buFont typeface="华文仿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华文仿宋"/>
                <a:ea typeface="华文仿宋"/>
              </a:rPr>
              <a:t>（</a:t>
            </a:r>
            <a:r>
              <a:rPr b="1" lang="en-US" sz="3200" spc="-1" strike="noStrike">
                <a:solidFill>
                  <a:srgbClr val="3333ff"/>
                </a:solidFill>
                <a:latin typeface="华文仿宋"/>
                <a:ea typeface="华文仿宋"/>
              </a:rPr>
              <a:t>1</a:t>
            </a:r>
            <a:r>
              <a:rPr b="1" lang="zh-CN" sz="3200" spc="-1" strike="noStrike">
                <a:solidFill>
                  <a:srgbClr val="3333ff"/>
                </a:solidFill>
                <a:latin typeface="华文仿宋"/>
                <a:ea typeface="华文仿宋"/>
              </a:rPr>
              <a:t>）“这时，那位情报部的中尉顺手拿过藏有情报的蜡烛，点燃后放到长官面前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ff"/>
              </a:buClr>
              <a:buFont typeface="华文仿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华文仿宋"/>
                <a:ea typeface="华文仿宋"/>
              </a:rPr>
              <a:t>（</a:t>
            </a:r>
            <a:r>
              <a:rPr b="1" lang="en-US" sz="3200" spc="-1" strike="noStrike">
                <a:solidFill>
                  <a:srgbClr val="3333ff"/>
                </a:solidFill>
                <a:latin typeface="华文仿宋"/>
                <a:ea typeface="华文仿宋"/>
              </a:rPr>
              <a:t>2</a:t>
            </a:r>
            <a:r>
              <a:rPr b="1" lang="zh-CN" sz="3200" spc="-1" strike="noStrike">
                <a:solidFill>
                  <a:srgbClr val="3333ff"/>
                </a:solidFill>
                <a:latin typeface="华文仿宋"/>
                <a:ea typeface="华文仿宋"/>
              </a:rPr>
              <a:t>）“那位中尉又把冒着青烟的烛芯重新点燃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ff"/>
              </a:buClr>
              <a:buFont typeface="华文仿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华文仿宋"/>
                <a:ea typeface="华文仿宋"/>
              </a:rPr>
              <a:t>（</a:t>
            </a:r>
            <a:r>
              <a:rPr b="1" lang="en-US" sz="3200" spc="-1" strike="noStrike">
                <a:solidFill>
                  <a:srgbClr val="3333ff"/>
                </a:solidFill>
                <a:latin typeface="华文仿宋"/>
                <a:ea typeface="华文仿宋"/>
              </a:rPr>
              <a:t>3</a:t>
            </a:r>
            <a:r>
              <a:rPr b="1" lang="zh-CN" sz="3200" spc="-1" strike="noStrike">
                <a:solidFill>
                  <a:srgbClr val="3333ff"/>
                </a:solidFill>
                <a:latin typeface="华文仿宋"/>
                <a:ea typeface="华文仿宋"/>
              </a:rPr>
              <a:t>）“中尉快步赶上前，厉声喝道：‘你不用灯就不行吗？’一手把烛台夺回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33520" y="1295280"/>
            <a:ext cx="1600200" cy="16002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447920" y="2362320"/>
            <a:ext cx="71625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Arial"/>
              </a:rPr>
              <a:t>　　文章情节有着如此曲折的变化，你可以用哪些成语来形容呢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295280" y="4038480"/>
            <a:ext cx="68580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Arial"/>
                <a:ea typeface="楷体_GB2312"/>
              </a:rPr>
              <a:t>一波三折、跌宕起伏、扣人心弦…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9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914040" y="1294920"/>
            <a:ext cx="48006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Arial"/>
              </a:rPr>
              <a:t>在这些危机关头，伯瑙德夫人一家是如何与德军周旋的呢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5943600" y="1371600"/>
            <a:ext cx="2286000" cy="190512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143000" y="3657600"/>
            <a:ext cx="762012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  <a:ea typeface="华文新魏"/>
              </a:rPr>
              <a:t>伯瑙德夫人：取出油灯，吹熄蜡烛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  <a:ea typeface="华文新魏"/>
              </a:rPr>
              <a:t>儿子雅克：借口搬柴，端走烛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  <a:ea typeface="华文新魏"/>
              </a:rPr>
              <a:t>小女儿杰奎琳：推说睡觉，拿走蜡烛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2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038120" y="1752480"/>
            <a:ext cx="3429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ff"/>
                </a:solidFill>
                <a:latin typeface="Arial"/>
                <a:ea typeface="华文中宋"/>
              </a:rPr>
              <a:t>选读课文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320" y="3657600"/>
            <a:ext cx="7162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楷体_GB2312"/>
              </a:rPr>
              <a:t>画出描写伯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瑙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楷体_GB2312"/>
              </a:rPr>
              <a:t>德夫人一家动作、语言的句子，认真读一读，思考：这些描写体现了这一家人的什么精神品质呢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838080" y="1066680"/>
            <a:ext cx="3048120" cy="221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733920" y="1447560"/>
            <a:ext cx="35049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ff"/>
                </a:solidFill>
                <a:latin typeface="黑体"/>
                <a:ea typeface="黑体"/>
              </a:rPr>
              <a:t>伯瑙德夫人</a:t>
            </a:r>
            <a:r>
              <a:rPr b="0" lang="en-US" sz="4400" spc="-1" strike="noStrike">
                <a:solidFill>
                  <a:srgbClr val="ff00ff"/>
                </a:solidFill>
                <a:latin typeface="黑体"/>
                <a:ea typeface="黑体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680" y="3200400"/>
            <a:ext cx="7010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Arial"/>
                <a:ea typeface="华文仿宋"/>
              </a:rPr>
              <a:t>她看着两个脸色苍白的儿女，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仿宋"/>
              </a:rPr>
              <a:t>急忙</a:t>
            </a:r>
            <a:r>
              <a:rPr b="1" lang="zh-CN" sz="3600" spc="-1" strike="noStrike">
                <a:solidFill>
                  <a:srgbClr val="3333ff"/>
                </a:solidFill>
                <a:latin typeface="Arial"/>
                <a:ea typeface="华文仿宋"/>
              </a:rPr>
              <a:t>从厨房中取出一盏油灯放在桌上。“瞧，先生们，这盏灯亮些。”说着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仿宋"/>
              </a:rPr>
              <a:t>轻轻</a:t>
            </a:r>
            <a:r>
              <a:rPr b="1" lang="zh-CN" sz="3600" spc="-1" strike="noStrike">
                <a:solidFill>
                  <a:srgbClr val="3333ff"/>
                </a:solidFill>
                <a:latin typeface="Arial"/>
                <a:ea typeface="华文仿宋"/>
              </a:rPr>
              <a:t>把蜡烛吹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371600" y="1219320"/>
            <a:ext cx="22096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2" dur="8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3" dur="8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4" dur="8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685800" y="380880"/>
            <a:ext cx="358128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华文中宋"/>
              </a:rPr>
              <a:t>读写</a:t>
            </a:r>
            <a:endParaRPr b="1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华文中宋"/>
              <a:ea typeface="华文中宋"/>
            </a:endParaRPr>
          </a:p>
        </p:txBody>
      </p:sp>
      <p:sp>
        <p:nvSpPr>
          <p:cNvPr id="44" name=""/>
          <p:cNvSpPr/>
          <p:nvPr/>
        </p:nvSpPr>
        <p:spPr>
          <a:xfrm>
            <a:off x="914400" y="1905120"/>
            <a:ext cx="1523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ff"/>
                </a:solidFill>
                <a:latin typeface="Arial"/>
                <a:ea typeface="楷体_GB2312"/>
              </a:rPr>
              <a:t>搜</a:t>
            </a:r>
            <a:r>
              <a:rPr b="1" lang="zh-CN" sz="4800" spc="-1" strike="noStrike">
                <a:solidFill>
                  <a:srgbClr val="3366ff"/>
                </a:solidFill>
                <a:latin typeface="Arial"/>
                <a:ea typeface="楷体_GB2312"/>
              </a:rPr>
              <a:t>集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38080" y="3124080"/>
            <a:ext cx="160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ff"/>
                </a:solidFill>
                <a:latin typeface="Arial"/>
                <a:ea typeface="楷体_GB2312"/>
              </a:rPr>
              <a:t>厄</a:t>
            </a:r>
            <a:r>
              <a:rPr b="1" lang="zh-CN" sz="4800" spc="-1" strike="noStrike">
                <a:solidFill>
                  <a:srgbClr val="3333ff"/>
                </a:solidFill>
                <a:latin typeface="Arial"/>
                <a:ea typeface="楷体_GB2312"/>
              </a:rPr>
              <a:t>运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038480" y="1981080"/>
            <a:ext cx="2971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ff"/>
                </a:solidFill>
                <a:latin typeface="Arial"/>
                <a:ea typeface="楷体_GB2312"/>
              </a:rPr>
              <a:t>生死</a:t>
            </a:r>
            <a:r>
              <a:rPr b="1" lang="zh-CN" sz="4800" spc="-1" strike="noStrike">
                <a:solidFill>
                  <a:srgbClr val="ff00ff"/>
                </a:solidFill>
                <a:latin typeface="Arial"/>
                <a:ea typeface="楷体_GB2312"/>
              </a:rPr>
              <a:t>攸</a:t>
            </a:r>
            <a:r>
              <a:rPr b="1" lang="zh-CN" sz="4800" spc="-1" strike="noStrike">
                <a:solidFill>
                  <a:srgbClr val="3333ff"/>
                </a:solidFill>
                <a:latin typeface="Arial"/>
                <a:ea typeface="楷体_GB2312"/>
              </a:rPr>
              <a:t>关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038480" y="3124080"/>
            <a:ext cx="2743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ff"/>
                </a:solidFill>
                <a:latin typeface="Arial"/>
                <a:ea typeface="楷体_GB2312"/>
              </a:rPr>
              <a:t>不</a:t>
            </a:r>
            <a:r>
              <a:rPr b="1" lang="zh-CN" sz="4800" spc="-1" strike="noStrike">
                <a:solidFill>
                  <a:srgbClr val="ff00ff"/>
                </a:solidFill>
                <a:latin typeface="Arial"/>
                <a:ea typeface="楷体_GB2312"/>
              </a:rPr>
              <a:t>堪</a:t>
            </a:r>
            <a:r>
              <a:rPr b="1" lang="zh-CN" sz="4800" spc="-1" strike="noStrike">
                <a:solidFill>
                  <a:srgbClr val="3333ff"/>
                </a:solidFill>
                <a:latin typeface="Arial"/>
                <a:ea typeface="楷体_GB2312"/>
              </a:rPr>
              <a:t>设想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590920" y="1981080"/>
            <a:ext cx="1218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8000"/>
                </a:solidFill>
                <a:latin typeface="宋体"/>
              </a:rPr>
              <a:t>s</a:t>
            </a:r>
            <a:r>
              <a:rPr b="1" lang="en-US" sz="4800" spc="-1" strike="noStrike">
                <a:solidFill>
                  <a:srgbClr val="008000"/>
                </a:solidFill>
                <a:latin typeface="Arial"/>
              </a:rPr>
              <a:t>ō</a:t>
            </a:r>
            <a:r>
              <a:rPr b="1" lang="en-US" sz="4800" spc="-1" strike="noStrike">
                <a:solidFill>
                  <a:srgbClr val="008000"/>
                </a:solidFill>
                <a:latin typeface="宋体"/>
              </a:rPr>
              <a:t>u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66880" y="3048120"/>
            <a:ext cx="685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8000"/>
                </a:solidFill>
                <a:latin typeface="Arial"/>
              </a:rPr>
              <a:t>è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010280" y="1981080"/>
            <a:ext cx="1219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8000"/>
                </a:solidFill>
                <a:latin typeface="宋体"/>
              </a:rPr>
              <a:t>yōu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086600" y="3048120"/>
            <a:ext cx="1447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8000"/>
                </a:solidFill>
                <a:latin typeface="宋体"/>
              </a:rPr>
              <a:t>kā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914400" y="4114800"/>
            <a:ext cx="2187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ff"/>
                </a:solidFill>
                <a:latin typeface="Arial"/>
                <a:ea typeface="楷体_GB2312"/>
              </a:rPr>
              <a:t>厨</a:t>
            </a:r>
            <a:r>
              <a:rPr b="1" lang="zh-CN" sz="4800" spc="-1" strike="noStrike">
                <a:solidFill>
                  <a:srgbClr val="3333ff"/>
                </a:solidFill>
                <a:latin typeface="Arial"/>
                <a:ea typeface="楷体_GB2312"/>
              </a:rPr>
              <a:t>房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15840" y="403848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ff"/>
                </a:solidFill>
                <a:latin typeface="Arial"/>
                <a:ea typeface="楷体_GB2312"/>
              </a:rPr>
              <a:t>盟</a:t>
            </a:r>
            <a:r>
              <a:rPr b="1" lang="zh-CN" sz="4800" spc="-1" strike="noStrike">
                <a:solidFill>
                  <a:srgbClr val="3333ff"/>
                </a:solidFill>
                <a:latin typeface="Arial"/>
                <a:ea typeface="楷体_GB2312"/>
              </a:rPr>
              <a:t>军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365200" y="4038480"/>
            <a:ext cx="1162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8000"/>
                </a:solidFill>
                <a:latin typeface="Arial"/>
              </a:rPr>
              <a:t>ch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328440" y="3962520"/>
            <a:ext cx="1703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8000"/>
                </a:solidFill>
                <a:latin typeface="Arial"/>
              </a:rPr>
              <a:t>mé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0720" y="1294920"/>
            <a:ext cx="3504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ff"/>
                </a:solidFill>
                <a:latin typeface="Arial"/>
                <a:ea typeface="黑体"/>
              </a:rPr>
              <a:t>儿子雅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66680" y="2895120"/>
            <a:ext cx="746784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  <a:ea typeface="华文仿宋"/>
              </a:rPr>
              <a:t>儿子雅克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仿宋"/>
              </a:rPr>
              <a:t>慢慢地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  <a:ea typeface="华文仿宋"/>
              </a:rPr>
              <a:t>站起来，“天真冷，我到柴房去搬些柴来生个火吧。”说着伸手端起烛台朝门口走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  <a:ea typeface="华文仿宋"/>
              </a:rPr>
              <a:t>他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仿宋"/>
              </a:rPr>
              <a:t>从容地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  <a:ea typeface="华文仿宋"/>
              </a:rPr>
              <a:t>搬回一捆木柴，生了火，默默地坐待最后的时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495680" y="1143000"/>
            <a:ext cx="213372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1" dur="1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8" dur="10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360" y="990720"/>
            <a:ext cx="380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ff"/>
                </a:solidFill>
                <a:latin typeface="Arial"/>
                <a:ea typeface="黑体"/>
              </a:rPr>
              <a:t>小女儿杰奎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8080" y="2209320"/>
            <a:ext cx="746784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</a:rPr>
              <a:t>小女儿杰奎琳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娇声地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</a:rPr>
              <a:t>对德国人说道：“司令官先生，天晚了，楼上黑，我可以拿一盏灯上楼睡觉吗？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</a:rPr>
              <a:t>杰奎琳仰起小脸，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高兴地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</a:rPr>
              <a:t>说：“那太好了……不过，司令官先生，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今晚我的头很痛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</a:rPr>
              <a:t>，我想睡觉了，下次您再给我讲好吗？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</a:rPr>
              <a:t>杰奎琳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镇定地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</a:rPr>
              <a:t>把烛台端起来，向几位军官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道过晚安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</a:rPr>
              <a:t>，上楼去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105520" y="990720"/>
            <a:ext cx="1371600" cy="10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304920" y="685800"/>
            <a:ext cx="8610480" cy="57913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09320" y="2209320"/>
            <a:ext cx="44960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ff"/>
                </a:solidFill>
                <a:latin typeface="Arial"/>
                <a:ea typeface="华文中宋"/>
              </a:rPr>
              <a:t>伯</a:t>
            </a:r>
            <a:r>
              <a:rPr b="1" lang="zh-CN" sz="4400" spc="-1" strike="noStrike">
                <a:solidFill>
                  <a:srgbClr val="3333ff"/>
                </a:solidFill>
                <a:latin typeface="Arial"/>
              </a:rPr>
              <a:t>瑙</a:t>
            </a:r>
            <a:r>
              <a:rPr b="1" lang="zh-CN" sz="4400" spc="-1" strike="noStrike">
                <a:solidFill>
                  <a:srgbClr val="3333ff"/>
                </a:solidFill>
                <a:latin typeface="Arial"/>
                <a:ea typeface="华文中宋"/>
              </a:rPr>
              <a:t>德夫人一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276360" y="3047760"/>
            <a:ext cx="327636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6600"/>
                </a:solidFill>
                <a:latin typeface="Arial"/>
                <a:ea typeface="楷体_GB2312"/>
              </a:rPr>
              <a:t>镇定从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6600"/>
                </a:solidFill>
                <a:latin typeface="Arial"/>
                <a:ea typeface="楷体_GB2312"/>
              </a:rPr>
              <a:t>勇敢机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6600"/>
                </a:solidFill>
                <a:latin typeface="Arial"/>
                <a:ea typeface="楷体_GB2312"/>
              </a:rPr>
              <a:t>热爱祖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76720" y="1447560"/>
            <a:ext cx="3200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ff00ff"/>
                </a:solidFill>
                <a:latin typeface="Arial"/>
                <a:ea typeface="黑体"/>
              </a:rPr>
              <a:t>续编故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2895480"/>
            <a:ext cx="815328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Arial"/>
                <a:ea typeface="楷体_GB2312"/>
              </a:rPr>
              <a:t>本文故事情节发展到高潮处戛然而止：当杰奎琳踏上最后一级阶梯时，蜡烛熄灭了。故事还会怎样发展呢？请你展开想象，续编故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981080" y="1447920"/>
            <a:ext cx="1371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9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2" dur="1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219320" y="3200400"/>
            <a:ext cx="6629400" cy="29718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 txBox="1"/>
          <p:nvPr/>
        </p:nvSpPr>
        <p:spPr>
          <a:xfrm>
            <a:off x="3048120" y="1981080"/>
            <a:ext cx="281916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>
                      <a:alpha val="79000"/>
                    </a:srgbClr>
                  </a:outerShdw>
                </a:effectLst>
                <a:latin typeface="华文中宋"/>
              </a:rPr>
              <a:t>再见</a:t>
            </a:r>
            <a:endParaRPr b="1" i="1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808080">
                    <a:alpha val="79000"/>
                  </a:srgbClr>
                </a:outerShdw>
              </a:effectLst>
              <a:latin typeface="华文中宋"/>
              <a:ea typeface="华文中宋"/>
            </a:endParaRPr>
          </a:p>
        </p:txBody>
      </p:sp>
    </p:spTree>
  </p:cSld>
  <p:transition spd="slow">
    <p:zoom dir="in"/>
  </p:transition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9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11426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生字词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2590920"/>
            <a:ext cx="81532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蜡烛    椅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子     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汤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锅      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闯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入     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掏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出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阅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读     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熄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灭      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厨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房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微弱    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恶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狼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-5493960"/>
            <a:ext cx="15228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你会读吗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黑体"/>
                <a:ea typeface="黑体"/>
              </a:rPr>
              <a:t> </a:t>
            </a:r>
            <a:r>
              <a:rPr b="1" lang="zh-CN" sz="4400" spc="-1" strike="noStrike">
                <a:solidFill>
                  <a:srgbClr val="333399"/>
                </a:solidFill>
                <a:latin typeface="黑体"/>
                <a:ea typeface="黑体"/>
              </a:rPr>
              <a:t>第厄普市        伯德夫人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黑体"/>
                <a:ea typeface="黑体"/>
              </a:rPr>
              <a:t>  </a:t>
            </a:r>
            <a:r>
              <a:rPr b="1" lang="zh-CN" sz="4400" spc="-1" strike="noStrike">
                <a:solidFill>
                  <a:srgbClr val="333399"/>
                </a:solidFill>
                <a:latin typeface="黑体"/>
                <a:ea typeface="黑体"/>
              </a:rPr>
              <a:t>雅克    杰奎琳    路易莎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抵抗     金属     蜡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掏出     中尉     一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不堪设想        生死攸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荷枪实弹        一筹莫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第二次世界大战发生在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1939——1945</a:t>
            </a: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年期间，是以中国、苏联、美国、英国等同盟为主的反法西斯力量与德国、意大利、日本为主的法西斯力量之间的战争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二战中德军对女红军十分残忍"/>
          <p:cNvPicPr/>
          <p:nvPr/>
        </p:nvPicPr>
        <p:blipFill>
          <a:blip r:embed="rId1"/>
          <a:srcRect l="363" t="6169" r="484" b="7501"/>
          <a:stretch/>
        </p:blipFill>
        <p:spPr>
          <a:xfrm>
            <a:off x="76320" y="304920"/>
            <a:ext cx="9067680" cy="592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二战中德军对女红军十分残忍"/>
          <p:cNvPicPr/>
          <p:nvPr/>
        </p:nvPicPr>
        <p:blipFill>
          <a:blip r:embed="rId1"/>
          <a:srcRect l="292" t="4928" r="-972" b="4683"/>
          <a:stretch/>
        </p:blipFill>
        <p:spPr>
          <a:xfrm>
            <a:off x="15840" y="338040"/>
            <a:ext cx="5600880" cy="61992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5638680" y="2438280"/>
            <a:ext cx="350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被德军处死的妇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rcRect l="0" t="0" r="-144" b="9432"/>
          <a:stretch/>
        </p:blipFill>
        <p:spPr>
          <a:xfrm>
            <a:off x="0" y="228600"/>
            <a:ext cx="5952960" cy="59961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6248520" y="2743200"/>
            <a:ext cx="3047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屠杀现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rcRect l="0" t="0" r="6178" b="7887"/>
          <a:stretch/>
        </p:blipFill>
        <p:spPr>
          <a:xfrm>
            <a:off x="304920" y="304920"/>
            <a:ext cx="8578800" cy="631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28T00:51:15Z</dcterms:created>
  <dc:creator>Administrator</dc:creator>
  <dc:description/>
  <dc:language>en-US</dc:language>
  <cp:lastModifiedBy/>
  <dcterms:modified xsi:type="dcterms:W3CDTF">2015-07-28T00:57:52Z</dcterms:modified>
  <cp:revision>106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  <property fmtid="{D5CDD505-2E9C-101B-9397-08002B2CF9AE}" pid="3" name="Version">
    <vt:r8>1</vt:r8>
  </property>
</Properties>
</file>