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F41-CCAF-4CC7-9D8C-596B1D5E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AA0-ABD0-45DD-9257-EB862707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6BE-87FD-453C-9AF4-48C5C100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A40-AD05-4255-A6A9-6073D330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F1E-2046-4FA9-812B-A55EFE99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89D-3046-44C1-8F5F-5A1094E8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436-F87D-418D-A424-A8969B63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E95-67CE-46F6-A722-FEA6E7CC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FBC-2202-46FA-B36C-D11E3F97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09D-C47C-4383-86ED-28B0C60A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1E6-B21E-4932-A061-8A158B3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274-57F9-454B-BFA5-014A852C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C97E-5544-4263-B32A-C5A91CCE25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13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" Target="slide4.xml"/><Relationship Id="rId9" Type="http://schemas.openxmlformats.org/officeDocument/2006/relationships/image" Target="../media/image5.png"/><Relationship Id="rId10" Type="http://schemas.openxmlformats.org/officeDocument/2006/relationships/slide" Target="slide11.xm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" Target="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55640" y="2133720"/>
            <a:ext cx="763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*29</a:t>
            </a: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、书的性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2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2920" y="491760"/>
            <a:ext cx="731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最喜欢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书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本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次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怎么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怎么做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怎么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57800" y="1772280"/>
            <a:ext cx="44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说话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有藏书，不亦乐乎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885080" y="333360"/>
            <a:ext cx="838080" cy="711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05440" y="1989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主摘录课文中的四字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2609280"/>
            <a:ext cx="74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仿照课文的介绍方法来为自己喜欢的书做一枚漂亮的“性格书签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24640" y="2275920"/>
            <a:ext cx="325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29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的性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1268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有藏书若干，静静搁置在几个书架上。书架倚墙伫立，丝毫显不出豪华，但是这个寓所因此不一样了。风雪夜归也罢，蛰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zh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居简出也罢，这个寓所不会让人寂寞。竖起耳朵一听，书架上藏着许多诱人的热闹。忍不住伸手取出一册，眼前立即又有了一个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8720" y="1268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有藏书若干，静静搁置在几个书架上。书架倚墙伫立，丝毫显不出豪华，但是这个寓所因此不一样了。风雪夜归也罢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zh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出也罢，这个寓所不会让人寂寞。竖起耳朵一听，书架上藏着许多诱人的热闹。忍不住伸手取出一册，眼前立即又有了一个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845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常常要用到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感觉就是矜持的，因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781360"/>
            <a:ext cx="74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读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满肚子都是一些人世间的大道理，每读一次，我就明白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觉得自己在这本书前，什么也不知道。它就像我们的家长什么都知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299736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0" y="981000"/>
            <a:ext cx="48888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021440" y="537372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954920" y="5408640"/>
            <a:ext cx="577800" cy="480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156360" y="5373720"/>
            <a:ext cx="60804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907920"/>
            <a:ext cx="72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本书不是让我读的，它只想挤入一个熙熙攘攘的书架，然后静静地歇在那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907920"/>
            <a:ext cx="72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本书不是让我读的，它只想挤入一个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熙熙攘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架，然后静静地歇在那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021440" y="537372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954920" y="5408640"/>
            <a:ext cx="577800" cy="480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6156360" y="537372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45160" y="213372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熙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1413000"/>
            <a:ext cx="69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的名字激起了购买的欲望，但我还来不及读它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954920" y="5408640"/>
            <a:ext cx="577800" cy="480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988320" y="5373720"/>
            <a:ext cx="60804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75600" y="798120"/>
            <a:ext cx="782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神情倨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性格严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性情开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趣味横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默默无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新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神态矜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神秘莫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7650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沐浴焚香，通常绕道而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148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在精力充沛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22510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信手翻阅，也可一边看电视一边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997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增加了我对文学的兴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371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我念念不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437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认真上门求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51577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我充满期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60560" y="126756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趣味横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，增加了我对文学的兴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63700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说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这本书，我觉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深吸引了我，我越来越喜欢看书，我模仿着写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尝到了阅读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6T06:23:5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