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ABE-753A-4DD8-8BD3-8720679E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E37-363F-4799-B21C-5D9C0979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1D2-3B47-493D-831F-839BFC58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7B3-5DAF-4E91-96C6-A71614DD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FEB-36C5-4A5E-A789-2281CFA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D31-DE6C-448D-86DE-19478D43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6E2-B552-4D9F-A4B3-F63EB09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2DF-D6F4-4B10-ACFA-F5784848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68D-041E-408A-AC7A-AE522E0F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4CE-E5DB-41BD-A77B-31561CE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723-F676-44A9-B739-CCE26DC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466-5C83-4847-9DEC-C79578D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0F0-C48F-4493-807B-6F7BDA84F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1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" Target="slide4.xml"/><Relationship Id="rId9" Type="http://schemas.openxmlformats.org/officeDocument/2006/relationships/image" Target="../media/image5.png"/><Relationship Id="rId10" Type="http://schemas.openxmlformats.org/officeDocument/2006/relationships/slide" Target="slide11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" Target="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2133720"/>
            <a:ext cx="76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*29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书的性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491760"/>
            <a:ext cx="731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喜欢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书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做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57800" y="1772280"/>
            <a:ext cx="44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说话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，不亦乐乎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85080" y="333360"/>
            <a:ext cx="838080" cy="71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05440" y="1989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摘录课文中的四字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609280"/>
            <a:ext cx="74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仿照课文的介绍方法来为自己喜欢的书做一枚漂亮的“性格书签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24640" y="2275920"/>
            <a:ext cx="325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29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的性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1268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若干，静静搁置在几个书架上。书架倚墙伫立，丝毫显不出豪华，但是这个寓所因此不一样了。风雪夜归也罢，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居简出也罢，这个寓所不会让人寂寞。竖起耳朵一听，书架上藏着许多诱人的热闹。忍不住伸手取出一册，眼前立即又有了一个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8720" y="1268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若干，静静搁置在几个书架上。书架倚墙伫立，丝毫显不出豪华，但是这个寓所因此不一样了。风雪夜归也罢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出也罢，这个寓所不会让人寂寞。竖起耳朵一听，书架上藏着许多诱人的热闹。忍不住伸手取出一册，眼前立即又有了一个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845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常常要用到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觉就是矜持的，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781360"/>
            <a:ext cx="74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读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满肚子都是一些人世间的大道理，每读一次，我就明白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觉得自己在这本书前，什么也不知道。它就像我们的家长什么都知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299736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48888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21440" y="53737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56360" y="5373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90792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不是让我读的，它只想挤入一个熙熙攘攘的书架，然后静静地歇在那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0792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不是让我读的，它只想挤入一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熙熙攘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架，然后静静地歇在那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021440" y="53737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156360" y="537372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45160" y="213372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熙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413000"/>
            <a:ext cx="69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的名字激起了购买的欲望，但我还来不及读它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988320" y="5373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75600" y="798120"/>
            <a:ext cx="782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情倨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性格严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性情开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趣味横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默默无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态矜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秘莫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765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沐浴焚香，通常绕道而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在精力充沛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251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信手翻阅，也可一边看电视一边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99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增加了我对文学的兴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371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我念念不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437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上门求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157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我充满期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0560" y="126756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趣味横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增加了我对文学的兴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637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说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这本书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深吸引了我，我越来越喜欢看书，我模仿着写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尝到了阅读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6T06:23:5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