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FDB54-285D-4924-A141-E6FACDDB5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C5C6F-9AB4-452F-B720-BDEDBADD7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10A89-76BA-4464-815F-1C6879A22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A7639-B0A0-40D7-A9AE-EE57F08BD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D2417-B49D-4CCE-9C30-3287FB2D3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942CE-FBA5-4C36-BF71-8EB84C781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24E9E-987C-49E4-8C8B-279D9E6D7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15E88-10B1-40C2-BB9C-157D95EB8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A4EFF-3906-49D2-9F38-20F519617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E38E7-0840-456A-B78F-0D77CC41B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0B984-6EE0-48D2-AAD5-BA35A42F8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6AB13-B278-4EDE-88DA-55AFD3CDB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9AE14-B4A9-47F2-B4D7-A407B61BF96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1569960" y="6222960"/>
            <a:ext cx="1562040" cy="63504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3"/>
          <a:stretch/>
        </p:blipFill>
        <p:spPr>
          <a:xfrm>
            <a:off x="57240" y="6222960"/>
            <a:ext cx="1562040" cy="6350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4"/>
          <a:stretch/>
        </p:blipFill>
        <p:spPr>
          <a:xfrm>
            <a:off x="3035160" y="6213600"/>
            <a:ext cx="1562400" cy="6350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5"/>
          <a:stretch/>
        </p:blipFill>
        <p:spPr>
          <a:xfrm>
            <a:off x="4548240" y="6213600"/>
            <a:ext cx="156204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6"/>
          <a:stretch/>
        </p:blipFill>
        <p:spPr>
          <a:xfrm>
            <a:off x="6039000" y="6213600"/>
            <a:ext cx="1562040" cy="6350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 txBox="1"/>
          <p:nvPr/>
        </p:nvSpPr>
        <p:spPr>
          <a:xfrm>
            <a:off x="1116000" y="2209680"/>
            <a:ext cx="6769080" cy="20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黑体"/>
              </a:rPr>
              <a:t>28</a:t>
            </a:r>
            <a:r>
              <a:rPr b="0" lang="zh-CN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黑体"/>
              </a:rPr>
              <a:t>、斯塔笛的藏书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pic>
        <p:nvPicPr>
          <p:cNvPr id="47" name="" descr=""/>
          <p:cNvPicPr/>
          <p:nvPr/>
        </p:nvPicPr>
        <p:blipFill>
          <a:blip r:embed="rId7"/>
          <a:stretch/>
        </p:blipFill>
        <p:spPr>
          <a:xfrm>
            <a:off x="7564320" y="6197760"/>
            <a:ext cx="1562040" cy="63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108000" y="6165720"/>
            <a:ext cx="749160" cy="7495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4411800" y="616572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317080" y="6165720"/>
            <a:ext cx="761760" cy="73656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900000" y="1773360"/>
            <a:ext cx="7391520" cy="21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作业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抄写词语，每个写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行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结合你对斯塔笛的了解和感受，想象一下他认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读书的镜头并试着写一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108000" y="6165720"/>
            <a:ext cx="749160" cy="7495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4411800" y="616572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317080" y="6165720"/>
            <a:ext cx="761760" cy="7365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826920" y="765000"/>
            <a:ext cx="640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教学目标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1700280"/>
            <a:ext cx="813744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在阅读中自主识字，理解“藏书、自得其乐、宝贝珍玩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油然起敬”等词语的意思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正确朗读课文，了解课文的主要内容，能简要地介绍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塔笛的藏书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体会斯塔笛对书的喜爱，感悟读书能使人知识丰富，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让人变得真诚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108000" y="6165720"/>
            <a:ext cx="749160" cy="7495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4411800" y="616572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317080" y="6165720"/>
            <a:ext cx="761760" cy="7365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476360" y="2781360"/>
            <a:ext cx="691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读了课题后，你觉得作者会写些什么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411280" y="1557360"/>
            <a:ext cx="705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ff"/>
                </a:solidFill>
                <a:latin typeface="黑体"/>
                <a:ea typeface="黑体"/>
              </a:rPr>
              <a:t>28</a:t>
            </a:r>
            <a:r>
              <a:rPr b="1" lang="zh-CN" sz="4000" spc="-1" strike="noStrike">
                <a:solidFill>
                  <a:srgbClr val="0066ff"/>
                </a:solidFill>
                <a:latin typeface="黑体"/>
                <a:ea typeface="黑体"/>
              </a:rPr>
              <a:t>、斯塔笛的藏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108000" y="6165720"/>
            <a:ext cx="749160" cy="7495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4411800" y="616572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317080" y="6165720"/>
            <a:ext cx="761760" cy="73656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684360" y="1628640"/>
            <a:ext cx="806436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打开书本，轻声地读读课文，看看大家刚才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到的这些内容作者是怎么写的，用直线划出相关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108000" y="6165720"/>
            <a:ext cx="749160" cy="7495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4411800" y="616572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172360" y="6121440"/>
            <a:ext cx="762120" cy="7365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468360" y="549360"/>
            <a:ext cx="820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轻声读读这几句话，边读边思考句中带点词让你感受到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971640" y="2060640"/>
            <a:ext cx="7345440" cy="13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他并不富有，买不起多少书，可他小心地保存着学过的所有课本和亲戚们送他的书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93080" y="2133720"/>
            <a:ext cx="114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. 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971640" y="3789360"/>
            <a:ext cx="7488000" cy="125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他用心积攒着每一个铜子儿，然后把它们全都花在书店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971640" y="4437000"/>
            <a:ext cx="114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. 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050920" y="3860640"/>
            <a:ext cx="114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. 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108000" y="6165720"/>
            <a:ext cx="749160" cy="7495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4411800" y="616572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172360" y="6121440"/>
            <a:ext cx="762120" cy="73656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971640" y="1916280"/>
            <a:ext cx="73454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书是按顺序排列的：有故事书、旅行记、诗集，还有画册，有些书里还有插图。他懂得搭配色彩：白的放在红的边上，黄的放在黑的边上，蓝的挨着白的。站在远处望过去，好看极了！他还总是自得其乐地变换排列顺序。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227640" y="3573360"/>
            <a:ext cx="172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. . .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42920" y="907920"/>
            <a:ext cx="76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为什么给书排列顺序会让斯塔笛感到快乐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108000" y="6165720"/>
            <a:ext cx="749160" cy="7495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4411800" y="616572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317080" y="6165720"/>
            <a:ext cx="761760" cy="73656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826920" y="981000"/>
            <a:ext cx="770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默读课文，思考斯塔笛的父亲是怎样评价他的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971640" y="2421000"/>
            <a:ext cx="7345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你觉得他怎么样，嗯？你觉得他这个青铜脑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怎么样？结实得很，将来可不得了！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559560" y="2421000"/>
            <a:ext cx="720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.  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9040" y="2421000"/>
            <a:ext cx="114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. 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24000" y="2924280"/>
            <a:ext cx="114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. 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108000" y="6165720"/>
            <a:ext cx="749160" cy="7495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4411800" y="616572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317080" y="6165720"/>
            <a:ext cx="761760" cy="73656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539640" y="1989000"/>
            <a:ext cx="8280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我在斯塔笛家中看到（了解到）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我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         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108000" y="6165720"/>
            <a:ext cx="749160" cy="7495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4411800" y="616572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317080" y="6165720"/>
            <a:ext cx="761760" cy="73656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1143000" y="1295280"/>
            <a:ext cx="716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476360" y="1125360"/>
            <a:ext cx="684072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解释下列词语，选择一个词语写一句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焕然一新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破烂不堪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脱口而出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油然起敬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 </dc:creator>
  <dc:description/>
  <dc:language>en-US</dc:language>
  <cp:lastModifiedBy>USER</cp:lastModifiedBy>
  <dcterms:modified xsi:type="dcterms:W3CDTF">2015-08-06T06:23:06Z</dcterms:modified>
  <cp:revision>0</cp:revision>
  <dc:subject>  </dc:subject>
  <dc:title>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