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7B6E-F411-401C-8889-8715FF84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CFD-C369-443E-905E-DFCAA292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861-DD95-4FD2-9FE3-81EB9092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3A3-5DF8-4396-8497-D77939F5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7FBB-DD60-4AD9-BB28-3D9756CB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27E9-325B-4012-AD21-BBCDEE54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C875-F8AE-4DE0-9EF2-374A3D7A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84D4-1262-478A-BD80-FF5E5429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66904-B3FE-43DF-87A8-8B56E9C1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7EA2-D114-401C-8379-2B45BA9B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F5AB-88D3-4A3C-A176-3A4427F9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B93-423D-4D55-9B91-267D7FA9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B876-4862-4A95-A4DA-FC1B9CEF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9198-CAAE-47EB-B918-919CBB6B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96F7-9D83-4094-971A-4899BF7F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350E-2795-45E6-B2D2-F9EDEF8C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6FB6-5306-4E77-B1B3-4C2F5BE6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56D87-73C9-4973-830E-1EC47ED0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42DD9-B9FD-4B3E-8AC3-98D27BA5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52C53-8B44-4FC8-9A05-05DF1E82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3542-A7D6-416D-825C-49CD9162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2DDA-7914-435F-8257-5857A32F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BF3E-FA19-4F60-8672-E7B697C0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E2EA8-43B1-4C05-9EF3-9A14157A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BD3E7-C5C5-4F7F-9043-AE0C1B9C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1900A-DDAB-406A-BB33-C880DC79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1507-DAF0-40FD-9900-687033B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653C-8BA3-4C1C-A99C-B7502846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2C35B-8E5B-4D66-B857-A59F5522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9A64F-1133-4DE1-A913-6AEC4A1AE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0314-7D1E-4DB3-80F0-B1AA6417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3F0-5843-47E9-AFF7-924113E3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9A5B-7D6A-4F41-9598-3B8A8F58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F5AA-9BF7-4970-9839-01D954A6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850-CD39-4ADD-B3FE-0DBDFB28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5880-59EC-4833-B686-B4FA28F4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9112-D556-4E3D-A5C5-A65696890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AFBA-2050-43B7-BEE9-CD419F3C25C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80" name="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79680" y="113040"/>
                  <a:ext cx="24336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0360" y="524160"/>
                  <a:ext cx="42768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08320" y="286200"/>
                  <a:ext cx="8031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2120" y="-28440"/>
                  <a:ext cx="12052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5640" y="1423080"/>
                  <a:ext cx="26856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5800" y="1277280"/>
                  <a:ext cx="28764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09920" y="330480"/>
                  <a:ext cx="28764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1600" y="221400"/>
                  <a:ext cx="28476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920F-CC6F-44CE-AF65-4570F74A46B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4720" y="4317840"/>
            <a:ext cx="981360" cy="1160640"/>
            <a:chOff x="7794720" y="4317840"/>
            <a:chExt cx="981360" cy="1160640"/>
          </a:xfrm>
        </p:grpSpPr>
        <p:sp>
          <p:nvSpPr>
            <p:cNvPr id="144" name="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3320" y="462060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4720" y="4317840"/>
              <a:ext cx="981360" cy="1160640"/>
              <a:chOff x="7794720" y="4317840"/>
              <a:chExt cx="981360" cy="116064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760" y="506052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5840" y="4650120"/>
                <a:ext cx="1058760" cy="4957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7360" y="4757040"/>
                <a:ext cx="749160" cy="2804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000" y="4557960"/>
                <a:ext cx="100080" cy="1879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1840" y="4757760"/>
                <a:ext cx="306360" cy="16596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-177" t="0" r="0" b="4743"/>
          <a:stretch/>
        </p:blipFill>
        <p:spPr>
          <a:xfrm>
            <a:off x="-15840" y="0"/>
            <a:ext cx="9159840" cy="6532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4360" y="1484280"/>
            <a:ext cx="7993080" cy="352728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探索海底世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547640" y="5445000"/>
            <a:ext cx="7596360" cy="14130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(       )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的海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56000" y="5668920"/>
            <a:ext cx="2519280" cy="1191240"/>
          </a:xfrm>
          <a:prstGeom prst="rect">
            <a:avLst/>
          </a:prstGeom>
          <a:solidFill>
            <a:srgbClr val="cc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笨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0" y="0"/>
            <a:ext cx="9144000" cy="1099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你也许会看到纤细的斑马鱼，也可能碰到庞大的鲸鱼；你也许会看到高贵的龙虾，舒展着长须，在水中婆娑起舞；也可能看到狡猾的章鱼，抖动腕足，在水藻中躲躲闪闪，伺机攻击猎物；偶尔你也会碰上笨重的海龟，看它慢条斯理地在海中游来游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56720" y="6453360"/>
            <a:ext cx="792000" cy="404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692280"/>
            <a:ext cx="9144000" cy="402516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作者是抓住哪些景物来描写海底世界的五彩缤纷和绮丽神奇的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404640"/>
            <a:ext cx="946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rcRect l="-1021" t="0" r="0" b="4854"/>
          <a:stretch/>
        </p:blipFill>
        <p:spPr>
          <a:xfrm>
            <a:off x="-36360" y="0"/>
            <a:ext cx="4690800" cy="65246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rcRect l="-775" t="0" r="0" b="5365"/>
          <a:stretch/>
        </p:blipFill>
        <p:spPr>
          <a:xfrm>
            <a:off x="4610160" y="44280"/>
            <a:ext cx="45338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620640"/>
            <a:ext cx="9144000" cy="3294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珊瑚的颜色（        ），形状（      ），把海底点缀得像（        ）；鱼群穿梭（       ），上下（      ），变幻（             ），蔚为壮观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08720" y="1125360"/>
            <a:ext cx="230508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彩缤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050920" y="2133720"/>
            <a:ext cx="230508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姿百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0920" y="2997360"/>
            <a:ext cx="230508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座花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8360" y="3933720"/>
            <a:ext cx="230508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3933720"/>
            <a:ext cx="230508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翻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95640" y="4941720"/>
            <a:ext cx="3311280" cy="70344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出千百种花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随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给加点字选择正确的读音。（用“√”标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狡猾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ú   hu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     礁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jiāo  qiào)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潜水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iǎn  qiá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  珊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hān  cè)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绮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í     qǐ)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伺机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ī      s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形近字组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鲸（      ）  猾（      ）  礁（      ）  绮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鲜（      ）  滑（      ）  瞧（      ）  倚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补全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身（    ）其（    ）   （    ）（    ）起舞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    ）条（    ）理      五彩（    ）（    ）千（    ）百（    ）  （    ）为壮观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烟波（    ）（    ）     白浪（    ）（    ）五（    ）十（    ）    各（    ）各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句子加工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人类对海底世界有兴趣。（扩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烟波浩渺、白浪滔滔的海底下是一个世界。（改为反问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珊瑚把海水点缀的很美。（改为比喻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人在水中呼吸困难，潜水成为一种艰难的事情。（用关联词语连成一句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Comic Sans MS"/>
              </a:rPr>
              <a:t>检查预习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09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鲸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鱼 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狡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猾 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机 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礁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石   鱼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鳞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携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带  </a:t>
            </a: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绮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丽  身临其境  婆娑起舞  慢条斯理    五彩缤纷  千姿百态  蔚为壮观    烟波浩渺   白浪滔滔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五光十色     各种各样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55640" y="21337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 </a:t>
            </a:r>
            <a:r>
              <a:rPr b="1" lang="zh-CN" sz="8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探索海底世界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/>
          <p:nvPr/>
        </p:nvSpPr>
        <p:spPr>
          <a:xfrm>
            <a:off x="2050920" y="5445000"/>
            <a:ext cx="1079640" cy="505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708360" y="5445000"/>
            <a:ext cx="1079640" cy="505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4000" y="5445000"/>
            <a:ext cx="1079640" cy="5050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780000" y="551664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08720" y="551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景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836640"/>
            <a:ext cx="9144000" cy="100836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）最初、后来、近代的潜水工具都有哪些？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068640"/>
            <a:ext cx="9144000" cy="19227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6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）从这些潜水工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的研究过程中，你能看出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80360" y="5373720"/>
            <a:ext cx="863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0" y="1052640"/>
            <a:ext cx="9144000" cy="439020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斑马鱼    鲸    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龙    虾    章    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海    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4000" y="1268280"/>
            <a:ext cx="3671640" cy="14346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斑马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421240" y="1341360"/>
            <a:ext cx="2686320" cy="14346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鲸    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2520" y="2637000"/>
            <a:ext cx="2686320" cy="14346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龙    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003640" y="2637000"/>
            <a:ext cx="3735720" cy="14346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章    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12520" y="4005360"/>
            <a:ext cx="2686320" cy="14346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海    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84360" y="4915080"/>
            <a:ext cx="7993080" cy="194292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(       )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的斑马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87280" y="5373720"/>
            <a:ext cx="2519640" cy="1191240"/>
          </a:xfrm>
          <a:prstGeom prst="rect">
            <a:avLst/>
          </a:prstGeom>
          <a:solidFill>
            <a:srgbClr val="cc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纤细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47640" y="5013360"/>
            <a:ext cx="7596360" cy="184464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(       )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的鲸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84360" y="5373720"/>
            <a:ext cx="2519280" cy="1191240"/>
          </a:xfrm>
          <a:prstGeom prst="rect">
            <a:avLst/>
          </a:prstGeom>
          <a:solidFill>
            <a:srgbClr val="cc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庞大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547640" y="5013360"/>
            <a:ext cx="7596360" cy="184464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(       )</a:t>
            </a: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的龙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84360" y="5373720"/>
            <a:ext cx="2519280" cy="1191240"/>
          </a:xfrm>
          <a:prstGeom prst="rect">
            <a:avLst/>
          </a:prstGeom>
          <a:solidFill>
            <a:srgbClr val="ccfff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高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26360" y="0"/>
            <a:ext cx="1399320" cy="685800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（    ）的章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811080" y="476280"/>
            <a:ext cx="2313000" cy="2421000"/>
          </a:xfrm>
          <a:prstGeom prst="rect">
            <a:avLst/>
          </a:prstGeom>
          <a:solidFill>
            <a:srgbClr val="cc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0000"/>
                </a:solidFill>
                <a:latin typeface="Arial"/>
              </a:rPr>
              <a:t>狡猾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01:40:58Z</dcterms:created>
  <dc:creator>微软用户</dc:creator>
  <dc:description/>
  <dc:language>en-US</dc:language>
  <cp:lastModifiedBy>微软用户</cp:lastModifiedBy>
  <dcterms:modified xsi:type="dcterms:W3CDTF">2015-04-29T08:08:52Z</dcterms:modified>
  <cp:revision>1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