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AAE-714B-4164-ABCD-4DBBB722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43C-DFDD-4DFB-87B9-640B3B21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922-B151-4EA8-A2F3-0338077E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B87-7B95-4BEC-8C2E-E2A4ED5F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595-9339-4053-929C-7DFB2DA5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547-1238-4E75-A283-6F19987B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4B6-C165-4D11-A275-EC3E96CE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E01-7D43-4AF6-92A1-1DAEAEC3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E76-1E1A-4097-B45D-D766E340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7EA-A3B1-42A3-AF9D-27EA5FAF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26F7-63FE-4C3D-810E-CE698779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08F-34D9-4D96-AC1A-CEB1E590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8AE8-61FF-45B9-9D50-625C9616A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628640"/>
            <a:ext cx="8675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大的错误是失败了不觉悟。——卡莱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错误是不可避免的，但是不要重复错误。——周恩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什么事也不干的人才不会犯错误。——列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错误常是最好的老师。——谚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错误可能是再一次错误的开始，失败也可能是成功之母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3573360"/>
            <a:ext cx="8210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我们犯了错误却不自知，或者不去面对，不接受教训，不去改正，那么“错误可能是再一次错误的开始”；只有我们敢于承认错误，改正错误，“失败才可能是成功之母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844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在什么情况下，“错误可能是再一次错误的开始”；在什么情况下，“失败也可能是成功之母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6409080" cy="20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怕的不是错误，可怕的是错误地对待错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3428640"/>
            <a:ext cx="806436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总是会犯错误的，错误是生活跟我们开的玩笑，所以说错误并不可怕。但是，如果我们犯了错误却不自知，或者不承认，不接受教训，不去改正，那么我们还可能会犯同样的，甚至更大的错误，那么后果就很可怕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怕的不是错误，可怕的是错误地对待错误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4176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错误是必修的一课啊，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每个人都要            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        啊，          ，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        啊，你才会成熟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上好人生这一课啊，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你将永远不会糊涂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00720" y="549000"/>
            <a:ext cx="4176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生活的常理中，错误不会像辉煌的成绩那样让人意气风发。错误总是令人讨厌，让人沮丧。但是诗人却是为错误歌唱：告诉我们应该豁达乐观的看待错误，只有这样，才能保持良好的竞技状态，才能走好今后的人生之路，这样恰恰是成功的保证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5734080"/>
            <a:ext cx="20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顶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1916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细细地研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26114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细细研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把它读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把它读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1484280"/>
            <a:ext cx="782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诗人象一位温和的长者，象一位谦和可敬的导师，用平等的身份，可亲的态度，温和、朴素而简明的语言，和我们娓娓交谈。没有居高临下的优越，没有声色俱厉的责备，他态度和蔼，委婉亲切，从各个角度讲述道理，告诫世人，给人深刻的警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我们再来读诗，读出作者的想要表达的情感，再试着把它背诵下来吧。</a:t>
            </a:r>
            <a:r>
              <a:rPr b="1" lang="en-US" sz="10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260280"/>
            <a:ext cx="633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熟读成诵，感悟诗人的心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-373" t="0" r="0" b="12854"/>
          <a:stretch/>
        </p:blipFill>
        <p:spPr>
          <a:xfrm>
            <a:off x="-36360" y="404640"/>
            <a:ext cx="9178920" cy="5977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822780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学了这篇课文，对你有什么启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你记忆最深的一次错误是什么？当时是怎样处理，学了这篇文，你觉得当时处理得好吗？今后你打算怎样面对错误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71640" y="1989000"/>
            <a:ext cx="712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我们要勇于承认和改正错误，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重新上路，成功将属于我们！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作业超市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把自己记忆最深的一次错误以及你是怎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待的写到日记中，并谈谈你今后打算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样面对错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从文中选出一句最形象的话，以《我最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欢的 一句名言》结合实际写写你对这句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体会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547640" y="3213000"/>
            <a:ext cx="6121440" cy="266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合作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再见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692360" y="2276640"/>
            <a:ext cx="5976720" cy="27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我们的错误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47640" y="1557360"/>
            <a:ext cx="6477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447920"/>
            <a:ext cx="313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们的错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2924280"/>
            <a:ext cx="69850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沙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罗伯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909—196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坦桑尼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说家、语言学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2286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国诗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5345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学习诗歌的方法步骤：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、初读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步了解诗歌的主要内容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二、品读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诗意，了解表达手法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１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抓住重点句品读诗歌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２、联系上下文，结合具体例子品读诗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诵读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读成诵，感悟诗人的情怀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四、感悟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到的启发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2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习本课生字、生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过反复吟诵，能说出诗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知道诗歌的语言风格，学习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的表达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能够正确面对错误，积极改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错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7640" y="1197000"/>
            <a:ext cx="783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漏拍            迈错           根除         舞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跌倒            研读           必修         畏缩不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436572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）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205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wè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836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à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765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dǎ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836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ò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4365720"/>
            <a:ext cx="295272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蹈  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稻  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4437000"/>
            <a:ext cx="358560" cy="79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4508640"/>
            <a:ext cx="360360" cy="792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8"/>
                </a:cubicBezTo>
                <a:lnTo>
                  <a:pt x="10800" y="8982"/>
                </a:lnTo>
                <a:cubicBezTo>
                  <a:pt x="10800" y="9891"/>
                  <a:pt x="5400" y="10800"/>
                  <a:pt x="0" y="10800"/>
                </a:cubicBezTo>
                <a:cubicBezTo>
                  <a:pt x="5400" y="10800"/>
                  <a:pt x="10800" y="11709"/>
                  <a:pt x="10800" y="12618"/>
                </a:cubicBezTo>
                <a:lnTo>
                  <a:pt x="10800" y="19782"/>
                </a:lnTo>
                <a:cubicBezTo>
                  <a:pt x="10800" y="206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会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342900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认得清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436572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喂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4797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畏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4292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舞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4724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水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07000" y="4187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7000" y="4764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44280"/>
            <a:ext cx="8820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700000" y="475920"/>
            <a:ext cx="5791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节：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每个人，特别是每个年轻人都免不了会犯错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节：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错误可能会给人带来很大的危害，但也可能会起到一定的促进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节：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错误并不可怕，天才伟人也犯错误，但他们用积极的态度去改正错误从而获得了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节：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在人生道路上正确对待错误有着很重要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956360" cy="136836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击鼓总有漏拍的时候，练习舞蹈也会迈错脚步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3789000"/>
            <a:ext cx="7704000" cy="1368360"/>
          </a:xfrm>
          <a:prstGeom prst="rect">
            <a:avLst/>
          </a:prstGeom>
          <a:gradFill rotWithShape="0">
            <a:gsLst>
              <a:gs pos="0">
                <a:srgbClr val="99cc00">
                  <a:alpha val="12156"/>
                </a:srgbClr>
              </a:gs>
              <a:gs pos="100000">
                <a:srgbClr val="465e00">
                  <a:alpha val="1215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漏拍”、“迈错脚步”用来比喻人生中的错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916280"/>
            <a:ext cx="8280360" cy="642600"/>
          </a:xfrm>
          <a:prstGeom prst="rect">
            <a:avLst/>
          </a:prstGeom>
          <a:gradFill rotWithShape="0">
            <a:gsLst>
              <a:gs pos="0">
                <a:srgbClr val="99cc00">
                  <a:alpha val="30196"/>
                </a:srgbClr>
              </a:gs>
              <a:gs pos="100000">
                <a:srgbClr val="465e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中的“漏拍”、“迈错脚步”用来比喻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3:26:43Z</dcterms:created>
  <dc:creator>Administrator</dc:creator>
  <dc:description/>
  <dc:language>en-US</dc:language>
  <cp:lastModifiedBy/>
  <dcterms:modified xsi:type="dcterms:W3CDTF">2015-07-27T09:51:25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