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380-0223-4E1A-AE9E-7DD5AC65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2BE-B715-413E-B167-5CE97D4D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8C1-C307-4E13-A622-11E40AE7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616-ABB8-4C8D-865C-E0DFE96E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733-CD3F-4C9A-B234-5DFDA9C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717-54F3-41A7-A2B8-4521FF5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BC2-39F9-4C39-B0BB-D1369CC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5AD-D23C-4E02-8021-BD54473A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0D3-00EF-4861-B96A-0024F527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9F5-D128-49F5-BFB9-44858C4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E69-0422-424B-B557-120E7DE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A66-7E16-4C5A-A79C-8BE0284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514-A7FF-449A-874E-5A198387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61928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appystar.com.cn/bbs/viewthread.php?tid=2780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j.99081.com/sqgaoshou/Web-2/yunnanhuangsuqing.html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5,&#20908;&#26085;&#26216;&#38654;&#20013;&#30340;&#38451;&#20809;" TargetMode="External"/><Relationship Id="rId2" Type="http://schemas.openxmlformats.org/officeDocument/2006/relationships/hyperlink" Target="261,6,&#22312;&#23665;&#24452;&#20013;&#34892;&#36208;" TargetMode="External"/><Relationship Id="rId3" Type="http://schemas.openxmlformats.org/officeDocument/2006/relationships/hyperlink" Target="262,7,&#22799;&#26085;&#30340;&#27704;&#26172;" TargetMode="External"/><Relationship Id="rId4" Type="http://schemas.openxmlformats.org/officeDocument/2006/relationships/hyperlink" Target="263,8,&#31179;&#39118;&#37324;&#25671;&#26355;&#30340;&#33426;&#33609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736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3429000"/>
            <a:ext cx="822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6360" y="3068640"/>
            <a:ext cx="388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我喜欢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8850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6863" b="10597"/>
          <a:stretch/>
        </p:blipFill>
        <p:spPr>
          <a:xfrm>
            <a:off x="252360" y="333360"/>
            <a:ext cx="8516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4134" t="11360" r="0" b="0"/>
          <a:stretch/>
        </p:blipFill>
        <p:spPr>
          <a:xfrm>
            <a:off x="-36360" y="549360"/>
            <a:ext cx="914076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30999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我也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梦，喜欢梦里奇异的享受。我总是梦见自己能飞，能跃过山丘和小河。我梦见棕色的骏马，发亮的的鬈毛在风中飞扬。我梦见成群的野雁在河滩的丛草中歇宿。我梦见荷花如海，完全没有边际，远远在炫耀着模糊的香红。最难忘记那次梦见在一座紫色的山峦前看日出——它原来必定不是紫色的，只是翠岚映着初升的红日，遂在梦中幻出那样奇特的山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3200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梦中的美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773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989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37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荷花如海，完全没有边际，远远在炫耀着模糊的香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587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初升的红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棕色的骏马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发亮的鬃毛在风中飞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91280" y="24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奇特的山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405960"/>
            <a:ext cx="69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还喜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，不管是哪一种，我喜欢清瘦的秋菊，浓郁的玫瑰，孤洁的百合，以及幽闲的素馨。我也喜欢开在深山里不知名的小野花，十字形的、斛形的、星形的、球形的，我认为它们享有同样的尊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0920" y="40464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自然的花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4221000"/>
            <a:ext cx="288720" cy="720720"/>
          </a:xfrm>
          <a:prstGeom prst="upDownArrow">
            <a:avLst>
              <a:gd name="adj1" fmla="val 50000"/>
              <a:gd name="adj2" fmla="val 4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084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清瘦的秋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2592360" cy="287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95640" y="4221000"/>
            <a:ext cx="216000" cy="720720"/>
          </a:xfrm>
          <a:prstGeom prst="upDownArrow">
            <a:avLst>
              <a:gd name="adj1" fmla="val 50000"/>
              <a:gd name="adj2" fmla="val 667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5157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浓郁的玫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2237040" cy="2879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84720" y="4292640"/>
            <a:ext cx="216000" cy="647640"/>
          </a:xfrm>
          <a:prstGeom prst="upDownArrow">
            <a:avLst>
              <a:gd name="adj1" fmla="val 50000"/>
              <a:gd name="adj2" fmla="val 59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1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孤洁的百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1341360"/>
            <a:ext cx="183528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172360" y="4292640"/>
            <a:ext cx="216000" cy="576360"/>
          </a:xfrm>
          <a:prstGeom prst="upDownArrow">
            <a:avLst>
              <a:gd name="adj1" fmla="val 50000"/>
              <a:gd name="adj2" fmla="val 533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5157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幽静的素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27133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另一种花儿，是绽开在人们笑颊上的。当寒冷的早晨我走在巷子里，对门那位清瘦的太太笑着说：“早！”我就忽然觉得世界是这样的亲切，我缩在皮手套里的指头不再感觉发僵。空气里充满了和善。到了车站开始等车的时候，我喜欢看见短发齐耳的中学生。我喜欢她们美好宽阔又明净的额头，以及活泼清澈的眼神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28299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信。我喜欢弟弟妹妹的信，那些幼稚纯朴的句子，总使我在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泪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重新看见南方那燃遍凤凰花的小城。最不能忘记那年夏天，他从最高的山上为我寄来一片蕨类植物的叶子。在那样酷暑的气候中，我忽然感到甜蜜而又沁人的清凉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700280"/>
            <a:ext cx="93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从哪几个方面抒写自己喜欢的情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364500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喜欢四季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5897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喜欢社会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4581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喜欢自然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我会猜"/>
          <p:cNvPicPr/>
          <p:nvPr/>
        </p:nvPicPr>
        <p:blipFill>
          <a:blip r:embed="rId2"/>
          <a:stretch/>
        </p:blipFill>
        <p:spPr>
          <a:xfrm>
            <a:off x="324000" y="189000"/>
            <a:ext cx="1619280" cy="150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50920" y="6206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2700000"/>
            <a:ext cx="72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还喜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书，特别是在夜晚。在书籍里面，我不能自抑地要喜爱那些泛黄的线装书，握着它就觉得握着一脉优美的传统，那涩黯的纸面蕴含着一种古典的美。我很自然的想到，有几个人执过它，读过它，他们也许都过去了。历史的兴亡、人物的迭代本是这样虚幻，唯有书中的智慧永远长存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21261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朋友，喜欢在出其不意的时候去拜访他们，尤其喜欢在雨中去叩湿湿的大门。当她连跑带跳地来迎接我，雨后的阳光就似乎忽然炽然起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1484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了张晓风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喜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感受颇多。那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把你喜欢事物写下来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924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喜欢 …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. 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……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7242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也喜欢…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…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589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789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喜欢 …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. 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……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2448000"/>
            <a:ext cx="79218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喜欢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冬天的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迷茫的晨雾中展开。我喜欢那分宁静淡远，我喜欢那没有喧哗的光和热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喜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春风中踏过窄窄的山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草莓像个精致的红灯笼，一路殷勤地张结着。我喜欢抬头看树梢尖尖的小芽儿，极嫩的黄绿色里透着一派天真的粉红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⒊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喜欢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夏日的永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喜欢在多风的黄昏独坐在傍山的阳台上。小山谷里稻浪推涌，美好的稻香翻腾着。慢慢地，绚丽的云霞被浣净了，柔和的晚星一一就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⒋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喜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秋风里摇曳的芒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山坡上，在水边上，白得那样凄凉，美而孤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32000" y="836640"/>
            <a:ext cx="2643480" cy="80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季景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8000" y="2349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冬天的阳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2036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春风中的山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19640" y="4076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夏日的永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32000" y="49417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秋风里的芒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冬日晨雾中的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384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宁静淡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没有喧哗的光和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0"/>
            <a:ext cx="27432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为什么喜欢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8317080" y="6093000"/>
            <a:ext cx="647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-20052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在山径中行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864" t="11482" r="0" b="0"/>
          <a:stretch/>
        </p:blipFill>
        <p:spPr>
          <a:xfrm>
            <a:off x="179280" y="1052640"/>
            <a:ext cx="5194440" cy="267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1989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像红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324" t="15174" r="0" b="0"/>
          <a:stretch/>
        </p:blipFill>
        <p:spPr>
          <a:xfrm>
            <a:off x="252360" y="4149720"/>
            <a:ext cx="527544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80000" y="4724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树梢尖尖的小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56360" y="40464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喜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647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17360"/>
            <a:ext cx="8737560" cy="6553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夏日的永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1916280"/>
            <a:ext cx="54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3480" y="192240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稻浪推涌，稻香翻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285000">
            <a:off x="2843280" y="2492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492280"/>
            <a:ext cx="433440" cy="936720"/>
          </a:xfrm>
          <a:custGeom>
            <a:avLst/>
            <a:gdLst>
              <a:gd name="textAreaLeft" fmla="*/ 57960 w 433440"/>
              <a:gd name="textAreaRight" fmla="*/ 375480 w 43344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动态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60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喜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8317080" y="6093000"/>
            <a:ext cx="647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315280" cy="623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秋风里摇曳的芒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3860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凄凉 孤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喜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647640" cy="504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669" t="0" r="0" b="9294"/>
          <a:stretch/>
        </p:blipFill>
        <p:spPr>
          <a:xfrm>
            <a:off x="108000" y="117360"/>
            <a:ext cx="8991720" cy="622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35:54Z</dcterms:created>
  <dc:creator>Administrator</dc:creator>
  <dc:description/>
  <dc:language>en-US</dc:language>
  <cp:lastModifiedBy/>
  <dcterms:modified xsi:type="dcterms:W3CDTF">2015-07-27T09:36:42Z</dcterms:modified>
  <cp:revision>105</cp:revision>
  <dc:subject/>
  <dc:title>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