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D33-3CEE-402E-8715-41F3E42B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A79-D42C-4011-BA9A-F1C0379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4AB-A3D8-4FCF-A028-07EA97B5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7B3-51E5-4CE6-907E-5EA47599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8B1-037E-4A73-A78D-8FF6848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D1A-F41C-4CD4-9E36-061B698A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B7B-4CE4-4169-B225-E860022A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8F8-4509-4430-A536-79A7059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CD2-5EEE-4292-A462-EC8DC8AB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652-AB14-47C9-96B0-883B833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99F-40E1-4966-815D-F34A58DD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A83-A6A7-4708-8921-4559755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5BC4-F3FB-4FD4-B064-0BE468D14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7"/>
          <p:cNvSpPr/>
          <p:nvPr/>
        </p:nvSpPr>
        <p:spPr>
          <a:xfrm>
            <a:off x="2627280" y="2421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是爱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68360" y="147780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，比一比，说说自己喜欢哪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两只体态、羽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截然不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母鸟都在窝中产卵、孵小鸟，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相容相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互侵互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两只体态、羽毛一点儿也不相同的母鸟都在窝中产卵、孵小鸟，但它们相处在一起，平平安安，从来不你斗我，我斗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想一想，说说句中带点的词语是什么意思，能相互调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母狗无法近前，但看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儿女安然地扑到白猫的怀里，它也就安静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179960" y="53737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3821040" y="53737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485040" y="49417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6140520" y="49417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1701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拓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像摄像机，记录了两个真实而感人的镜头。你觉得这样写有什么好处？你在日常生活、电视或报刊中也看到过这样的镜头吗？请你记录其中的一个镜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b1"/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6"/>
          <p:cNvPicPr/>
          <p:nvPr/>
        </p:nvPicPr>
        <p:blipFill>
          <a:blip r:embed="rId3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b2"/>
          <p:cNvPicPr/>
          <p:nvPr/>
        </p:nvPicPr>
        <p:blipFill>
          <a:blip r:embed="rId4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b3"/>
          <p:cNvPicPr/>
          <p:nvPr/>
        </p:nvPicPr>
        <p:blipFill>
          <a:blip r:embed="rId5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b4"/>
          <p:cNvPicPr/>
          <p:nvPr/>
        </p:nvPicPr>
        <p:blipFill>
          <a:blip r:embed="rId6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5"/>
          <p:cNvPicPr/>
          <p:nvPr/>
        </p:nvPicPr>
        <p:blipFill>
          <a:blip r:embed="rId7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8" descr=""/>
          <p:cNvPicPr/>
          <p:nvPr/>
        </p:nvPicPr>
        <p:blipFill>
          <a:blip r:embed="rId8"/>
          <a:stretch/>
        </p:blipFill>
        <p:spPr>
          <a:xfrm>
            <a:off x="963720" y="2481120"/>
            <a:ext cx="747864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读准字音，读通句子，把课文读流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试着将文章里的两个镜头向大家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468360" y="156312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描绘了（   ）个感人的镜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镜头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狗满院子乱跑，母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白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　　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镜头二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麻雀和另一种比它身体大两三倍的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　　　　　　　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5780880" y="278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绕圈狂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1891440" y="3212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衔来小狗，喂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2164680" y="5012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共同衔草造窝，不分彼此，喂养儿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第一个故事，想想镜头里的爱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着划出体现母狗与花猫爱的句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6"/>
          <p:cNvSpPr/>
          <p:nvPr/>
        </p:nvSpPr>
        <p:spPr>
          <a:xfrm>
            <a:off x="684360" y="895320"/>
            <a:ext cx="77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971640" y="17704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狗满院子乱跑，母狗急得在树下        ，小狗却        ，散开去往草丛里钻。母狗的叫声更见焦虑，不住地用力，也挣脱不了套着它的绳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绕圈狂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198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而不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39640" y="127836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比较句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母狗急得在树下        ，小狗却        ，散开去往草丛里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母狗急得在树下              ，小狗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散开去往草丛里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03840" y="4724280"/>
            <a:ext cx="21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42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绕圈子汪汪直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133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绕圈狂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3429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见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93372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像没听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2133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而不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826920" y="2054160"/>
            <a:ext cx="741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鸟儿看中了这幽美别致的建筑，因为它前檐宽大，檐下有精美的相互交叉的木栏，上面盖有透明的玻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3836880" y="245124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405240" y="245124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125960" y="177336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3765600" y="177336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539640" y="1619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比较句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体大的幼鸟嘴巴也大，每次从麻雀嘴中取食，把麻雀连嘴带头都含在自己的口中，而麻雀送下食物，把头从它口中拔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没有一点痛苦的样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次次都是如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体大的幼鸟嘴巴也大，每次从麻雀嘴中取食，把麻雀连嘴带头都含在自己的口中，而麻雀送下食物，把头从它口中拔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没有一点痛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次次都是如此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84360" y="105264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而不闻  焦虑  安详  温馨  稀稀疏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络绎不绝  相亲相爱   幽美  截然不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5T22:28:4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