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4998-712E-4B58-A121-7045FAF02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670D-958B-4053-BB9E-5B22368E4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F7C2-7EA3-4C7B-B409-CDAA034E8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90C3-3F5F-48BB-A84D-4F069B138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6695-6D7E-4CFE-937E-6B3B8D175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796C-7E61-478D-AC6A-24BC7BD4C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D9A3-BFB6-44D3-AF36-A1CFAB539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C3F7-9618-4D1D-8D15-F18D81AF2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435C-5C4F-4AFB-8A07-16C1983C1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8CF8-4F6D-4F8A-AC41-4D7F60A3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77E1-E0D2-4476-82D5-DE880A3E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DC3B-E66D-4415-B2B0-475B1DE4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12993-5B34-4F48-A3CC-BBA01671E4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b1"/>
          <p:cNvPicPr/>
          <p:nvPr/>
        </p:nvPicPr>
        <p:blipFill>
          <a:blip r:embed="rId2"/>
          <a:stretch/>
        </p:blipFill>
        <p:spPr>
          <a:xfrm>
            <a:off x="1569960" y="622296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b2"/>
          <p:cNvPicPr/>
          <p:nvPr/>
        </p:nvPicPr>
        <p:blipFill>
          <a:blip r:embed="rId3"/>
          <a:stretch/>
        </p:blipFill>
        <p:spPr>
          <a:xfrm>
            <a:off x="57240" y="622296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b3"/>
          <p:cNvPicPr/>
          <p:nvPr/>
        </p:nvPicPr>
        <p:blipFill>
          <a:blip r:embed="rId4"/>
          <a:stretch/>
        </p:blipFill>
        <p:spPr>
          <a:xfrm>
            <a:off x="3035160" y="6213600"/>
            <a:ext cx="1562400" cy="63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b4"/>
          <p:cNvPicPr/>
          <p:nvPr/>
        </p:nvPicPr>
        <p:blipFill>
          <a:blip r:embed="rId5"/>
          <a:stretch/>
        </p:blipFill>
        <p:spPr>
          <a:xfrm>
            <a:off x="4548240" y="621360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b5"/>
          <p:cNvPicPr/>
          <p:nvPr/>
        </p:nvPicPr>
        <p:blipFill>
          <a:blip r:embed="rId6"/>
          <a:stretch/>
        </p:blipFill>
        <p:spPr>
          <a:xfrm>
            <a:off x="6039000" y="6213600"/>
            <a:ext cx="1562040" cy="635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b6"/>
          <p:cNvPicPr/>
          <p:nvPr/>
        </p:nvPicPr>
        <p:blipFill>
          <a:blip r:embed="rId7"/>
          <a:stretch/>
        </p:blipFill>
        <p:spPr>
          <a:xfrm>
            <a:off x="7564320" y="6197760"/>
            <a:ext cx="1562040" cy="634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611280" y="2133720"/>
            <a:ext cx="799308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*25</a:t>
            </a: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黑体"/>
              </a:rPr>
              <a:t>、小鸟，请原谅我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back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up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next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468360" y="765000"/>
            <a:ext cx="8136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作业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684360" y="1484280"/>
            <a:ext cx="7416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读读西班牙著名诗人迦尔洛的一首小诗，尝试把它改写成一个故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猎  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设计一个树立在树林和公园里的护鸟标牌，写上保护鸟类的公益广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287600" y="2852640"/>
            <a:ext cx="354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松林上，四只鸽子在空中飞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四只鸽子在盘旋，在飞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掉下四个影子，都受了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松林里，四只鸽子躺在地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back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up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next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539640" y="83664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教学目标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684360" y="1916280"/>
            <a:ext cx="81356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有感情地朗读课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解每节诗歌的主要内容，体会作者的内心情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懂得要珍爱生命，善待动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back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up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next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476360" y="2133720"/>
            <a:ext cx="9070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5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谁请求小鸟原谅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什么要请求小鸟原谅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back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up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next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0"/>
          <p:cNvSpPr/>
          <p:nvPr/>
        </p:nvSpPr>
        <p:spPr>
          <a:xfrm>
            <a:off x="826920" y="2060640"/>
            <a:ext cx="7345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71640" y="1781640"/>
            <a:ext cx="72723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节：“我”打死了美丽的小鸟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节：大家都感到伤心难过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节：所有的生命都向“我”抗议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四节：“我”请求小鸟的原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back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up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next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23"/>
          <p:cNvSpPr/>
          <p:nvPr/>
        </p:nvSpPr>
        <p:spPr>
          <a:xfrm>
            <a:off x="1908000" y="1350000"/>
            <a:ext cx="81360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你静静地躺在我的手上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才发现你是那样的美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颈上的羽毛比雪花还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翅膀的羽毛比小草更绿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金黄的小嘴半张着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好像还在唱那未完的歌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942160" y="47242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back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up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next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258920" y="629280"/>
            <a:ext cx="67896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啊，大森林少了一名歌手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鸟妈妈失去了一个好闺女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村谢了一朵会飞的鲜花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树失去了一位亲爱的伴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看，草地上洒满了水珠儿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是小草痛心的泪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84000" y="5083920"/>
            <a:ext cx="88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想一想小鸟活着的时候给我们带来了哪些乐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81800" y="270828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back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up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next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7"/>
          <p:cNvSpPr/>
          <p:nvPr/>
        </p:nvSpPr>
        <p:spPr>
          <a:xfrm>
            <a:off x="1835280" y="1205640"/>
            <a:ext cx="813564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啊，远处有百鸟在叫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声声，仿佛向我抗议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花儿收起微笑，树举起长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切美丽的生命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好像都要离开我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我孤零零丢在这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05440" y="45561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86520" y="26370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back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up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next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7"/>
          <p:cNvSpPr/>
          <p:nvPr/>
        </p:nvSpPr>
        <p:spPr>
          <a:xfrm>
            <a:off x="2050920" y="989640"/>
            <a:ext cx="81360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鸟，请原谅我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已把弹弓扔进深深的谷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鸟，你要是能原谅我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在坟头长出一棵小树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一定天天来浇水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绿叶会成为迎你回来的彩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73800" y="4365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back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108000" y="6165720"/>
            <a:ext cx="749160" cy="749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up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4411800" y="6165720"/>
            <a:ext cx="736560" cy="736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next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317080" y="6165720"/>
            <a:ext cx="761760" cy="736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038"/>
          <p:cNvSpPr/>
          <p:nvPr/>
        </p:nvSpPr>
        <p:spPr>
          <a:xfrm>
            <a:off x="611280" y="263700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想一想小鸟活着的时候给我们带来了哪些乐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dc:language>en-US</dc:language>
  <cp:lastModifiedBy>User</cp:lastModifiedBy>
  <dcterms:modified xsi:type="dcterms:W3CDTF">2015-08-05T22:28:46Z</dcterms:modified>
  <cp:revision>0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