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307-D71E-4B69-ABC4-7EEC215F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F18-1F9F-42E4-80C7-6926865A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30D-9458-4BC6-BC0F-282248C5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2AB8-9D1A-4686-AE01-66F87851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A36-46D3-4BB1-AFB2-5193E05B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F78-FD9F-45B0-BA62-BB65D2BB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479-08BE-40C1-95D8-A1B7A2D2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861-618B-4417-9A10-7E34F639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2F4-A77B-49DA-8A71-588CE6A9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5094-2F05-45E8-90E6-4DEBE695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422-CB5D-41E3-BEA1-886F22C1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47B-1CD5-42D0-8041-BB5FCC6A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21C6-B7F0-4C84-B629-A2E9E985F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11280" y="47628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诺千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 flipV="1">
            <a:off x="2895480" y="2854080"/>
            <a:ext cx="369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09480" y="28954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意思：许下一个诺言有千金的价值。比喻说话算数，极有信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39640" y="2708280"/>
            <a:ext cx="770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50920" y="40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可以回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04920" y="1143000"/>
            <a:ext cx="8305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少年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概括其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信守承诺，不畏惧困难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80880" y="35053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的女友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信守承诺，畏惧困难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333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作者写两少年雨中赴约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什么？从全文来看，这运用了什么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写作手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57200" y="1676520"/>
            <a:ext cx="807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和下文中我的女友风雨中失约，不信守承诺构成对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突出（赞扬）两少年的真诚守信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含蓄批评女友的失信，不守承诺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突出文章的中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的重要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33520" y="46483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写作手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对比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684360" y="836640"/>
            <a:ext cx="42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忆学过的文章所运用的写作手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范进中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自己下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为什么拿这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阿长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219640" y="155736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   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364000" y="2349360"/>
            <a:ext cx="22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076720" y="2276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小见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716360" y="299736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先抑后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26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文中有许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值得品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句子，请摘抄一句谈谈你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理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68360" y="1628640"/>
            <a:ext cx="8353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值得品味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写景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修辞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描写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哲理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含义深刻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50920" y="486900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762120" y="0"/>
            <a:ext cx="77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那是去年秋天的一个傍晚，天降大雨，那是场罕见的倾盆大雨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0880" y="1676520"/>
            <a:ext cx="835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理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渲染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了天气的恶劣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衬托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两少年不畏困难，信守承诺的美好品质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52280" y="3505320"/>
            <a:ext cx="8534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析环境描写的作用：可以从以下几点考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渲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气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衬托人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心情（品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推动故事情节的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为下文的故事情节作铺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8"/>
          <p:cNvSpPr/>
          <p:nvPr/>
        </p:nvSpPr>
        <p:spPr>
          <a:xfrm>
            <a:off x="250920" y="476280"/>
            <a:ext cx="86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把拳头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窗台上，然后松开，手心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开了花似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展开了两元钱纸币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24000" y="278136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理解：运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动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描写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比喻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修辞方法，把松开的手心比喻成花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生动形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写出了男生攒足了两元钱，能够信守承若，如期还钱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喜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心情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11280" y="404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的脸上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汗，紧紧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攥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拳头，哑着喉咙喊：“看我变戏法！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39640" y="198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理解：运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动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描写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和语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描写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生动形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写出了男生信守承若，如期归还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急切和喜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心情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以后再看到“优秀”“守信用”之类的字眼，总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联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他，因为他身上奔腾着一种感人的一诺千金的严谨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68360" y="306864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句话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赞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了男生信守承诺的美好品质。也写出了这种品质带给我的巨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震撼和深远影响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95280" y="549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想说：约定时为何要说风雨无阻，完全可以说大雨取消；既然已说了风雨无阻，区区风雨又何足畏惧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33520" y="2895480"/>
            <a:ext cx="798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运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心理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描写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动形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写出了我因女友失约，不重视承诺的行为，表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气愤不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心理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68360" y="306864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422100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50920" y="476280"/>
            <a:ext cx="8497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个并不怎么重诺言的人，她会找出一千条为自己开脱的理由；而我，更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腾出时间想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两个相会在暴雨中的少年。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2708280"/>
            <a:ext cx="8893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含义：委婉含蓄地写出了写出了作者对不守承诺的人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不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对信守承诺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赞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作用：交代了我什么也没说，只是轻轻地挂断了电话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原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2280" y="152280"/>
            <a:ext cx="876312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秦朝末年，在楚地有一个叫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季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人，性情耿直，为人侠义好助。只要是他答应过的事情，无论有多大困难，都设法办到，受到大家的赞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楚汉相争时，季布是项羽的部下，曾几次献策，使刘邦的军队吃了败仗。刘邦当了皇帝后，想起这事，就气恨不已，下令通缉季布。 这时敬慕季布为人的人，都在暗中帮助他。不久，季布经过化装，到山东一家姓朱的人家当佣工。朱家明知他是季布，仍收留了他。后来，朱家又到洛阳去找刘邦的老朋友夏侯婴说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50920" y="404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假如你是文中的“我”的女友，看到此文后，你会有怎样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心理活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请描写出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左右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79280" y="2349360"/>
            <a:ext cx="8713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心理描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完你的文字，我的心久久不能不平静，我不信守承诺，让你在风雨中白白等了我那么久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对不起了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真的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愧疚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连个孩子都不如。现在我懂得了一诺千金的真正含义。以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会信守承诺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24000" y="260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我对女友失约持什么态度？你对此有什么看法？理由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95280" y="148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态度：责备 （不满 批评  埋怨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79280" y="2133720"/>
            <a:ext cx="813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认同作者的态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由是：人应该信守承若，这是做人最基本的准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3789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我否定作者的态度。应该宽容的对待别人，不要过于苛责别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52280" y="51814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可以辩证的看待作者的态度。自己应该信守承若，但不必对别人求全责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80880" y="228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刘邦在夏侯婴的劝说下撤消了对季布的通缉令，还封季布做了郎中，不久又改做河东太守。 有一个季布的同乡人曹邱生，专爱结交有权势的官员，借以炫耀和抬高自己，季布一向看不起他。听说季布又做了大官，他就马上去见季布。 季布听说曹邱生要来，就虎着脸，准备发落几句话，让他下不了台。谁知曹邱生一进厅堂，不管季布的脸色多么阴沉，话语多么难听，立即对着季布又是打躬，又是作揖，要与季布拉家常叙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80880" y="762120"/>
            <a:ext cx="8153640" cy="17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吹捧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听到楚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到处流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得黄金千两，不如得季布一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样的话，您怎么能够有这样的好名声传扬在梁、楚两地的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既是同乡，我又到处宣扬你的好名声，你为什么不愿见到我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季布听了曹邱生的这番话，心里顿时高兴起来，留下他住几个月，作为贵客招待。临走，还送给他一笔厚礼。 后来，曹邱生又继续替季布到处宣扬，季布的名声也就越来越大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533520"/>
            <a:ext cx="8229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教学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培养认真审题，按要求答题的好习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学会抓住答题要点，摸索答题规律，总结积累答题方法，从而培养阅读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做一个诚实守信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28600" y="685800"/>
            <a:ext cx="8305920" cy="27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重点字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犹豫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蹒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难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恍恍惚惚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震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撼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攥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着         拂晓       流淌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罕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见         畏惧         灵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3886200"/>
            <a:ext cx="7238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蹒跚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腿脚不灵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走路缓慢摇摆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罕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见：很少见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28600" y="15228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整体感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课文，请你完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把重点词语在文中勾画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文章写了几件事？分别概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28600" y="3276720"/>
            <a:ext cx="8610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概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男生信手承诺，按期归还我向我借的两元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两少年信守承诺，风雨赴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我的女友不守信用，因风雨而失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3520" y="304920"/>
            <a:ext cx="83055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细节研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见练习题 ，共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小题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95280" y="404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“借钱男生”“两少年”以及“我”的女友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印象最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人物是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简要概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特点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5280" y="18446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借钱男生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信守承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孝敬父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勤劳、有吃苦精神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79280" y="3581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简要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52280" y="411480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信守承诺 ： 男生如期归还借款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孝敬父母：借钱是为了给患低血糖的母亲买葡萄糖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勤劳、有吃苦精神。他天天到北站下的旱桥帮人家推车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13:10:40Z</dcterms:created>
  <dc:creator/>
  <dc:description/>
  <dc:language>en-US</dc:language>
  <cp:lastModifiedBy>Administrator</cp:lastModifiedBy>
  <dcterms:modified xsi:type="dcterms:W3CDTF">2016-01-06T09:12:24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