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laser.wav" ContentType="audio/x-wav"/>
  <Override PartName="/ppt/media/image4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5.jpeg" ContentType="image/jpeg"/>
  <Override PartName="/ppt/media/image13.jpeg" ContentType="image/jpeg"/>
  <Override PartName="/ppt/media/image5.png" ContentType="image/png"/>
  <Override PartName="/ppt/media/image2.jpeg" ContentType="image/jpeg"/>
  <Override PartName="/ppt/media/image16.jpeg" ContentType="image/jpeg"/>
  <Override PartName="/ppt/media/chimes.wav" ContentType="audio/x-wav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418C-48FF-488D-967A-00EB61B1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DF1-3F33-49DB-8E52-67485B3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AF5-D85E-4C49-95E3-A3FFB6DB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FC9-5533-4DD3-A719-D75B66FE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B30-04ED-45EE-A413-7A17A5F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EAB-FF9D-4EC6-950C-3A806167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509-4B07-42CA-9E3F-3B5B832C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F34-B3F5-4231-8C09-5B97DA94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4AD-3382-46FC-B6A6-FD7A04CD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B62-31A3-49B1-AB86-6F7A0B0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AC2-CB6D-48B4-94FE-C6DF2B6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5B7-B39D-4D95-A13E-17E7491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FFC9-75BA-440F-94DD-31D87E51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图片1"/>
          <p:cNvPicPr/>
          <p:nvPr/>
        </p:nvPicPr>
        <p:blipFill>
          <a:blip r:embed="rId1"/>
          <a:stretch/>
        </p:blipFill>
        <p:spPr>
          <a:xfrm>
            <a:off x="5292720" y="3284640"/>
            <a:ext cx="3594240" cy="2749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95280" y="692280"/>
            <a:ext cx="8352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的人活着，他已经死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的人死了，他还活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　－－臧克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9810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初读课文，周总理给你留下了怎样的印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116000" y="3716280"/>
            <a:ext cx="7272360" cy="1523880"/>
          </a:xfrm>
          <a:prstGeom prst="cloudCallout">
            <a:avLst>
              <a:gd name="adj1" fmla="val 13787"/>
              <a:gd name="adj2" fmla="val -988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请用一个词语来概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91628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中哪句话，能概括周总理的一夜的工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07960" y="1628640"/>
            <a:ext cx="84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他是多么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劳苦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，多么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简朴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981000"/>
            <a:ext cx="83059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１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画出描写周总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工作劳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活简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２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关键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会其中的含义，做好批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53216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隶书"/>
              </a:rPr>
              <a:t>再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9280" y="191628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一间高大的宫殿式的房子，室内陈设极其简单，一张不大的写字台，两把小转椅，一盏台灯，如此而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5373720"/>
            <a:ext cx="8496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你抓住了哪些关键词来体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95280" y="1238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交流分享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文中哪些句子能体现总理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生活简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4000" y="1125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大的宫殿式的房子，室内陈设极其简单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大的写字台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转椅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台灯，如此而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081015030337473"/>
          <p:cNvPicPr/>
          <p:nvPr/>
        </p:nvPicPr>
        <p:blipFill>
          <a:blip r:embed="rId1"/>
          <a:stretch/>
        </p:blipFill>
        <p:spPr>
          <a:xfrm>
            <a:off x="611280" y="534960"/>
            <a:ext cx="4176720" cy="335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1"/>
          <p:cNvPicPr/>
          <p:nvPr/>
        </p:nvPicPr>
        <p:blipFill>
          <a:blip r:embed="rId2"/>
          <a:stretch/>
        </p:blipFill>
        <p:spPr>
          <a:xfrm>
            <a:off x="4427640" y="2708280"/>
            <a:ext cx="453708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836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一间高大的宫殿式的房子，室内陈设极其简单，一张不大的写字台，两把小转椅，一盏台灯，如此而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55640" y="4797360"/>
            <a:ext cx="770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你还抓住了哪些关键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19280" y="404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是一间高大的宫殿式的房子，室内陈设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极其简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张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写字台，两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椅，一盏台灯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如此而已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95280" y="481500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总理的办公室内还有没有其它的摆设</a:t>
            </a: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111760" y="40053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极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单改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非常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单行不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678200" y="5334120"/>
            <a:ext cx="4999320" cy="1523880"/>
          </a:xfrm>
          <a:prstGeom prst="cloudCallout">
            <a:avLst>
              <a:gd name="adj1" fmla="val -27532"/>
              <a:gd name="adj2" fmla="val -1388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条件简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170028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生米并不多，可以数得清颗数，好像并没有因为多了一个人而增加了分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2384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你还找到哪些句子能体现总理的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生活非常简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692360" y="4653000"/>
            <a:ext cx="4319640" cy="1523880"/>
          </a:xfrm>
          <a:prstGeom prst="cloudCallout">
            <a:avLst>
              <a:gd name="adj1" fmla="val 39046"/>
              <a:gd name="adj2" fmla="val -988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饮食简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zhou en lai"/>
          <p:cNvPicPr/>
          <p:nvPr/>
        </p:nvPicPr>
        <p:blipFill>
          <a:blip r:embed="rId1"/>
          <a:stretch/>
        </p:blipFill>
        <p:spPr>
          <a:xfrm>
            <a:off x="179280" y="333360"/>
            <a:ext cx="326556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203640" y="0"/>
            <a:ext cx="5940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周恩来同志是中国人民的忠实儿子和优秀代表，是中国共产党的杰出领袖和中国革命的主要领导人之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新中国成立之后，他担任政府总理，为中国革命和建设日理万机，鞠躬尽瘁，无私地奉献了自己的一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>
            <a:hlinkClick r:id="" action="ppaction://hlinkshowjump?jump=firstslide"/>
          </p:cNvPr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WordArt 3" descr=""/>
          <p:cNvPicPr/>
          <p:nvPr/>
        </p:nvPicPr>
        <p:blipFill>
          <a:blip r:embed="rId1"/>
          <a:stretch/>
        </p:blipFill>
        <p:spPr>
          <a:xfrm>
            <a:off x="993600" y="219240"/>
            <a:ext cx="1743120" cy="920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0" y="141300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的同学认为，“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花生米并不多，可以数得清颗数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好像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并没有因为多了一个人而增加了分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这句话，意思是花生米跟平时一样多，没有增加分量。你同意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9280" y="90792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较下面两个句子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花生米并不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数得清颗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好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并没有因为多了一个人而增加了分量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花生米并不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可以数得清颗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并没有因为多了一个人而增加了分量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24000" y="170028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理见了我，指着写字台上一尺来高的一叠文件，说：“我今晚要批这些文件。你们送来的稿子，我放在最后。你到隔壁值班室去睡一觉，到时候叫你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55640" y="5661000"/>
            <a:ext cx="7920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要抓住哪些关键词来体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04760" y="176040"/>
            <a:ext cx="87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文中哪些句子体现总理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工作劳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11280" y="620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理见了我，指着写字台上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高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件，说：“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今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批这些文件。你们送来的稿子，我放在最后。你到隔壁值班室去睡一觉，到时候叫你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419640" y="4797360"/>
            <a:ext cx="4824360" cy="1524240"/>
          </a:xfrm>
          <a:prstGeom prst="cloudCallout">
            <a:avLst>
              <a:gd name="adj1" fmla="val -4592"/>
              <a:gd name="adj2" fmla="val -12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工作量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一句一句地审阅，看完一句就用笔在那一句后面画一个小圆圈。他不是浏览一遍就算了，而是一边看一边思索，有时停笔想一想，有时问我一两句。夜很静，经过相当长的时间总理才审阅完，把稿子交给了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4000" y="5661000"/>
            <a:ext cx="8569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姚体"/>
              </a:rPr>
              <a:t>你抓住了哪些关键词来体会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68360" y="26028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句一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审阅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看完一句就用笔在那一句后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一个小圆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不是浏览一遍就算了，而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边看一边思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有时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停笔想一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有时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问我一两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夜很静，经过相当长的时间总理才审阅完，把稿子交给了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5076720" y="5334120"/>
            <a:ext cx="4284720" cy="1523880"/>
          </a:xfrm>
          <a:prstGeom prst="cloudCallout">
            <a:avLst>
              <a:gd name="adj1" fmla="val -34143"/>
              <a:gd name="adj2" fmla="val -1603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工作认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24000" y="20606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句一句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审阅，看完一句就用笔在那一句后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一个小圆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他不是浏览一遍就算了，而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边看一边思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有时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停笔想一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35600" y="33336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幕降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很深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方破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468360" y="0"/>
            <a:ext cx="5398920" cy="1484280"/>
          </a:xfrm>
          <a:prstGeom prst="cloudCallout">
            <a:avLst>
              <a:gd name="adj1" fmla="val 36856"/>
              <a:gd name="adj2" fmla="val 11352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725120" y="1347840"/>
            <a:ext cx="542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　　这样的好总理，怎能不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们感动和赞叹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回来的路上，我不断地想，不断地对自己说：“这就是我们的总理。我看见了他一夜的工作。他是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多么劳苦，多么简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3108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以后的日子里，我经常这样想，我想高声对全世界说，好像全世界都能听见我的声音：“看啊，这就是我们中华人民共和国的总理。我看见了他一夜的工作。他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每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夜晚都是这样工作的。你们看见过这样的总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007360" y="1257480"/>
            <a:ext cx="514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周总理啊，人民的好总理，大江南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长城内外，处处留下您忙碌的身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60480"/>
            <a:ext cx="8443800" cy="633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7"/>
          <p:cNvPicPr/>
          <p:nvPr/>
        </p:nvPicPr>
        <p:blipFill>
          <a:blip r:embed="rId2"/>
          <a:stretch/>
        </p:blipFill>
        <p:spPr>
          <a:xfrm>
            <a:off x="0" y="60480"/>
            <a:ext cx="8443800" cy="6438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200303040776_267396"/>
          <p:cNvPicPr/>
          <p:nvPr/>
        </p:nvPicPr>
        <p:blipFill>
          <a:blip r:embed="rId3"/>
          <a:stretch/>
        </p:blipFill>
        <p:spPr>
          <a:xfrm>
            <a:off x="0" y="60480"/>
            <a:ext cx="8443800" cy="609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3"/>
          <p:cNvPicPr/>
          <p:nvPr/>
        </p:nvPicPr>
        <p:blipFill>
          <a:blip r:embed="rId4"/>
          <a:stretch/>
        </p:blipFill>
        <p:spPr>
          <a:xfrm>
            <a:off x="0" y="60480"/>
            <a:ext cx="8643960" cy="653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4"/>
          <p:cNvPicPr/>
          <p:nvPr/>
        </p:nvPicPr>
        <p:blipFill>
          <a:blip r:embed="rId5"/>
          <a:stretch/>
        </p:blipFill>
        <p:spPr>
          <a:xfrm>
            <a:off x="0" y="60480"/>
            <a:ext cx="8677440" cy="639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5"/>
          <p:cNvPicPr/>
          <p:nvPr/>
        </p:nvPicPr>
        <p:blipFill>
          <a:blip r:embed="rId6"/>
          <a:stretch/>
        </p:blipFill>
        <p:spPr>
          <a:xfrm>
            <a:off x="0" y="60480"/>
            <a:ext cx="9144000" cy="653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200303040973_267585"/>
          <p:cNvPicPr/>
          <p:nvPr/>
        </p:nvPicPr>
        <p:blipFill>
          <a:blip r:embed="rId7"/>
          <a:stretch/>
        </p:blipFill>
        <p:spPr>
          <a:xfrm>
            <a:off x="0" y="60480"/>
            <a:ext cx="8443800" cy="676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303040777_267403"/>
          <p:cNvPicPr/>
          <p:nvPr/>
        </p:nvPicPr>
        <p:blipFill>
          <a:blip r:embed="rId8"/>
          <a:stretch/>
        </p:blipFill>
        <p:spPr>
          <a:xfrm>
            <a:off x="0" y="60480"/>
            <a:ext cx="8443800" cy="6797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50920" y="476280"/>
            <a:ext cx="88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　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要写周总理如何日夜操劳，日理万机，作者本来可以选取那些</a:t>
            </a:r>
            <a:r>
              <a:rPr b="1" lang="zh-CN" sz="4800" spc="-1" strike="noStrike">
                <a:solidFill>
                  <a:srgbClr val="009999"/>
                </a:solidFill>
                <a:latin typeface="黑体"/>
                <a:ea typeface="黑体"/>
              </a:rPr>
              <a:t>万众睹目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或是</a:t>
            </a:r>
            <a:r>
              <a:rPr b="1" lang="zh-CN" sz="4800" spc="-1" strike="noStrike">
                <a:solidFill>
                  <a:srgbClr val="009999"/>
                </a:solidFill>
                <a:latin typeface="黑体"/>
                <a:ea typeface="黑体"/>
              </a:rPr>
              <a:t>感人肺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事迹来写，但是作者在这篇文章中，却只选取了非常普通，非常平凡的一夜来写。这种写作方法我们都知道，叫作：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_______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3520" y="0"/>
            <a:ext cx="71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病重的周总理忙碌的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24000" y="692280"/>
            <a:ext cx="8001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起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与尼雷尔总统会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    陪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  政治局会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凌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半      约民航局同志开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    办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去东郊迎接西哈努克亲王和王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      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24000" y="256536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这就是我们的总理。我看见了他一夜的工作。他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多么劳苦，多么简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-828720" y="0"/>
            <a:ext cx="9972720" cy="836640"/>
          </a:xfrm>
          <a:prstGeom prst="cloudCallout">
            <a:avLst>
              <a:gd name="adj1" fmla="val 2083"/>
              <a:gd name="adj2" fmla="val 2401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此刻，你的心情怎样？大声地通过朗读告诉大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0920" y="170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“看啊，这就是我们中华人民共和国的总理。我看见了他一夜的工作。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每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夜晚都是这样工作的。你们看见过这样的总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-757080" y="333360"/>
            <a:ext cx="10658160" cy="836640"/>
          </a:xfrm>
          <a:prstGeom prst="cloudCallout">
            <a:avLst>
              <a:gd name="adj1" fmla="val -1263"/>
              <a:gd name="adj2" fmla="val 2401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此刻，你的心情怎么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68360" y="62064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结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　　　　　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夜的工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676520" y="1828800"/>
            <a:ext cx="62481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工作       劳苦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生活       简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33920" y="26668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黑体"/>
              </a:rPr>
              <a:t>多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3200400" y="2362320"/>
            <a:ext cx="609480" cy="3808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3200400" y="3200400"/>
            <a:ext cx="609480" cy="3808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4952880" y="2286000"/>
            <a:ext cx="609840" cy="6094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4952880" y="3124080"/>
            <a:ext cx="609840" cy="38124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5300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所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1844640"/>
            <a:ext cx="115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所见所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692360" y="5229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自豪　　激动　　敬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2752560" y="1219320"/>
            <a:ext cx="535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有的人活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　他已经死了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　有的人死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　他还活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节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周总理的吃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跟随周总理几十年，他非常多的时候是不能坐在餐桌旁正经吃饭的，至少是有三分之一以上是在汽车上、会场休息室或匆匆的走路中吃饭的。在汽车上的饭，最多的时候喝一杯玉米面糊糊，吃两片面包。面包里和几片香肠，或抹些果酱。有时也喝杯麦片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遇上突然的情况，临时增加活动，总理吃不上面包、素馅包子，吃不上玉米面糊糊或面包，那就用糖充饥，他多次用两块糖当作一顿饭，或要一把花生米或煮黄豆当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80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周总理的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像许多用脑过度的人一样，总理入睡困难，他常常离不开安眠药。总理平时几乎没有自己自然睡醒的时候，都是到钟点由我们叫醒他，叫不醒就摇醒，摇不醒就两人一架，把总理从床上搀扶起来，“强行”在屋里转几圈，直到把他弄醒。他事情太多太多，工作太忙太忙，想多睡也不能啊。他几十年中，每天多则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时，每天睡不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时的时候很多、很平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0"/>
            <a:ext cx="946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周总理在病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确定总理患膀胱癌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实际患癌自然早于此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，总理的病情已相当严重。毛主席写信给他，说：“请恩来同志节劳，不可大意。”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7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这住院前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月，除了到医院检查病情和治疗外，他总共抱病工作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。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中，工作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小时以上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！剩下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，每天工作也都超过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1" lang="zh-CN" sz="2800" spc="-1" strike="noStrike">
                <a:solidFill>
                  <a:srgbClr val="f57174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11280" y="105264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本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写自己的所见所闻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后写自己的所感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这种写作方法我们要很好地掌握，灵活地运用到今后的写作中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2139480"/>
            <a:ext cx="946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，周总理被确诊患了癌症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，周总理的病情开始恶化，但他仍然拖着只剩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斤的重病之躯继续顽强的工作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他会见了菲律宾总统马克斯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他在医院会见柬甫寨首相西哈努克亲王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他不顾病情的严重恶化，与医务人员的一再劝阻，坚持会见罗马尼亚党政代表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他做第四次大手术，在进入手术室前一刻，他握住小平同志的手，鼓励他把工作做好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842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看一看总理生命的最后一段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395280" y="404640"/>
          <a:ext cx="842472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04640"/>
                    <a:ext cx="842472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3"/>
          <p:cNvSpPr/>
          <p:nvPr/>
        </p:nvSpPr>
        <p:spPr>
          <a:xfrm>
            <a:off x="3924360" y="476280"/>
            <a:ext cx="475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一夜的工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909360"/>
            <a:ext cx="91440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他做了第五次大手术，这次手术后，他一再叮嘱邓颖超死后不要保留骨灰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生命已经处于垂危状态的周总理，向前来的罗长青询问台湾的近况，说话不到十五分钟，他就昏迷了过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深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总理从昏迷中苏醒，用微弱的声音对身边的医生说，我这里没什么，你们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去照顾别的生病的同志，那里更需要你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周总理活着的时候说的最后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上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，我们敬爱的周总理永远地离开了我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042440" y="84240"/>
            <a:ext cx="119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看一看总理生命的最后一段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10"/>
          <p:cNvPicPr/>
          <p:nvPr/>
        </p:nvPicPr>
        <p:blipFill>
          <a:blip r:embed="rId2"/>
          <a:stretch/>
        </p:blipFill>
        <p:spPr>
          <a:xfrm>
            <a:off x="4457880" y="0"/>
            <a:ext cx="46861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4500720" y="5734080"/>
            <a:ext cx="446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周总理，我们永远怀念您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684360" y="11970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完这篇文章，你一定有许多心里话想对周总理说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那就写下来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901080" cy="7018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250920" y="33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周总理，我想对您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572000" y="981000"/>
            <a:ext cx="4103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　　  阅读有关周总理的书籍，结合课文，写一篇读后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10"/>
          <p:cNvPicPr/>
          <p:nvPr/>
        </p:nvPicPr>
        <p:blipFill>
          <a:blip r:embed="rId1"/>
          <a:stretch/>
        </p:blipFill>
        <p:spPr>
          <a:xfrm>
            <a:off x="179280" y="0"/>
            <a:ext cx="46864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611280" y="5516640"/>
            <a:ext cx="3960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周总理，我们永远怀念您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200303040973_267585"/>
          <p:cNvPicPr/>
          <p:nvPr/>
        </p:nvPicPr>
        <p:blipFill>
          <a:blip r:embed="rId1"/>
          <a:stretch/>
        </p:blipFill>
        <p:spPr>
          <a:xfrm>
            <a:off x="0" y="0"/>
            <a:ext cx="9144000" cy="73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16000" y="-27000"/>
            <a:ext cx="7416720" cy="68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周总理办公室的灯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夜呀，静悄悄，静悄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祖国度过了沸腾的白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人们在梦中发出甜蜜的微笑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熟睡的婴儿脸上现出幸福的酒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晶莹的露珠挂上嫩绿的幼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啊！同志呵，你可知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敬爱的周总理的办公室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灯光又亮了通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啊！春风知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夏雨知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秋霜知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冬雪知道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敬爱的周总理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几十年如一日，昼夜为我们操劳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世界上真有不知疲倦的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我们敬爱的周总理呀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生睡得最少，最少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看，周总理办公室的灯光呵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就是最好的写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1125360"/>
            <a:ext cx="856908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回来的路上，我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,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是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,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好像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啊，这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看见了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你们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2240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课堂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84360" y="1052640"/>
            <a:ext cx="8134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选词填空　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简易　 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简陋　 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简单　 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简朴</a:t>
            </a:r>
            <a:r>
              <a:rPr b="0" lang="zh-CN" sz="2400" spc="-1" strike="noStrike">
                <a:solidFill>
                  <a:srgbClr val="ff0000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　　爷爷前几年一直住在（　  ）的木板房中，现在的住所也很（ 　 ），屋里的陈设十分（  　）。他的一生一直就这样过着（  ）的生活。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 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368160" y="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辨析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11280" y="335772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　　　　　积　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问题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摆设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备（简陋），房屋（简陋），条件（简陋）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简单粗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穿戴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　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简朴与品格有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句（简练）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简易）的工棚，（简易）的木板房　　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常指建筑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简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地提出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0" b="11162"/>
          <a:stretch/>
        </p:blipFill>
        <p:spPr>
          <a:xfrm>
            <a:off x="0" y="32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684360" y="1989000"/>
            <a:ext cx="777528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在课文前面的自学提示中，已经告诉我们怎样来学好这篇文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611280" y="189000"/>
            <a:ext cx="7273800" cy="1484280"/>
          </a:xfrm>
          <a:prstGeom prst="cloudCallout">
            <a:avLst>
              <a:gd name="adj1" fmla="val 19425"/>
              <a:gd name="adj2" fmla="val 11352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你找出来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900000" y="18900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学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90792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１自由读课文，想一想，作者是从哪些方面写周总理一夜的工作情况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你感受最深的地方多读一读，再标注，在不懂的地方做上记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403280" y="4724280"/>
            <a:ext cx="7272360" cy="1524240"/>
          </a:xfrm>
          <a:prstGeom prst="cloudCallout">
            <a:avLst>
              <a:gd name="adj1" fmla="val 9833"/>
              <a:gd name="adj2" fmla="val -8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很期待和你一起分享你的阅读体会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9280" y="2492280"/>
            <a:ext cx="8317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宫殿　　　蒙 眬　　　咨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一盏　　　浏览　　　一小碟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9640" y="1628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à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484360" y="170028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méng ló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56360" y="155736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ī xú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3789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iú lǎ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020000" y="3716280"/>
            <a:ext cx="15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é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240200" y="333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我会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50920" y="378936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hǎ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方正舒体"/>
              </a:rPr>
              <a:t>词语积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鞠躬尽瘁  死而后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任劳任怨  夜以继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精益求精  无微不至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细致入微  一丝不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10-20T16:39:4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