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breeze.wav" ContentType="audio/x-wav"/>
  <Override PartName="/ppt/media/image6.jpeg" ContentType="image/jpeg"/>
  <Override PartName="/ppt/media/image28.jpeg" ContentType="image/jpeg"/>
  <Override PartName="/ppt/media/image2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11.jpeg" ContentType="image/jpeg"/>
  <Override PartName="/ppt/media/image29.jpeg" ContentType="image/jpeg"/>
  <Override PartName="/ppt/media/image8.jpeg" ContentType="image/jpeg"/>
  <Override PartName="/ppt/media/image33.gif" ContentType="image/gif"/>
  <Override PartName="/ppt/media/image34.gif" ContentType="image/gif"/>
  <Override PartName="/ppt/media/image7.jpeg" ContentType="image/jpeg"/>
  <Override PartName="/ppt/media/image5.gif" ContentType="image/gif"/>
  <Override PartName="/ppt/media/image12.jpeg" ContentType="image/jpeg"/>
  <Override PartName="/ppt/media/image4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4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7FB-2641-4EB5-89BB-6F5F6ED7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426-F8ED-4B8C-BEBA-A485F803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57F-EE2C-47DC-8DE6-04A66F95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387-0AF7-4639-A99A-4A715D46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C35B-932B-485F-85A3-3D09C969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769-435B-469E-BA1E-8A7AA1ED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8389-FAD3-4D40-9B43-2AC27441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8B2-5F39-436C-8E39-05843F06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25F2-FCD5-4810-AAA1-1E305DBF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065-3129-4BF1-ACC4-794903A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8E9-C10C-4BA2-8E6F-0B4557A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451-2E84-4877-BA74-63A69BB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BA02-B1A9-4C0A-8045-C3F5ED5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903-4B76-4D66-B535-32E31ADD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A2D6-B5B2-4DBB-9F06-E11AF655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B44A-74E4-4EBA-A701-C2C6803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17BC-2272-4DB2-A1A0-B4359971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16D7-0F4A-4E7F-A114-1E13E18A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8BB9-46F3-43FC-AA7B-DB08E769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1B4D-D8FC-490E-BA7B-A04C413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6A17-78E3-4768-8623-C75ABC6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DF8D-D195-4EC9-8CA4-4DFF87C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058-3413-4971-945B-1E6E2ED3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00B0-C71C-4CF7-9F17-8AC13D8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F0FE-1AA3-4D33-95C4-871F1AC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65DF-F857-4BFB-8452-FBCEFA5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0BFC-83BC-4E70-B50A-DE8E548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429E-94B8-4D7D-90FB-B1E5174F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4B98-136D-4069-BF4E-5207A127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1D48-9692-45B6-9CFC-E3D14E67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98B9-0C25-4DE0-822B-FDCA02EE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A342-7C3E-44F4-8920-02008EE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C962-BB15-4BC7-8DB0-9F190EEE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D68-EFDC-4DBC-9877-0BDFA11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3B9D-334A-4C6C-906D-86B451D0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954F-AFEA-45C4-9764-AEE859F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743E-127D-4CFC-9D2F-68D104E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FBB9-45DC-4A02-B179-0AFA583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9F48-E881-4442-95C9-BD4D7CF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7389-0745-49F1-BEE8-2C65A91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DC3C-7227-4BDE-9F47-C3CBBA4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3AD9-DB6B-4755-84A0-ED48516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E6B5-5760-4F2F-B1C8-01CA979D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D52-F0E7-44A7-9F47-537E8D9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442-C056-440C-BFEB-949AA63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432-BA9E-4855-B8A7-DC83076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E97-11BB-4D84-82F8-399371B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4E6-0E86-43C5-AB98-7012868F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AF5-C6B0-48A9-A7AF-0BDEAE921F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295C-7B56-41DC-A717-D8C618F39B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103" name="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695-4E4E-4C32-B5C8-34E8C8E35C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2E1-BAA2-4E3C-8A84-07C9BD2973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0,11,&#24187;&#28783;&#29255; 11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../../../../Local Settings/Temporary Internet Files/Content.IE5/SXABW5M7/&#35838;&#20214;&#26448;&#26009;/&#27468;&#35789;.doc" TargetMode="External"/><Relationship Id="rId2" Type="http://schemas.openxmlformats.org/officeDocument/2006/relationships/hyperlink" Target="../../../../Local Settings/Temporary Internet Files/Content.IE5/SXABW5M7/&#35838;&#20214;&#26448;&#26009;/&#37011;&#23567;&#24179;.doc" TargetMode="External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1763" t="0" r="0" b="5888"/>
          <a:stretch/>
        </p:blipFill>
        <p:spPr>
          <a:xfrm>
            <a:off x="34920" y="189000"/>
            <a:ext cx="8983800" cy="6454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76360" y="1484280"/>
            <a:ext cx="2158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3507"/>
                </a:solidFill>
                <a:latin typeface="楷体_GB2312"/>
                <a:ea typeface="楷体_GB2312"/>
              </a:rPr>
              <a:t>这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3507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989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d3507"/>
                </a:solidFill>
                <a:latin typeface="Arial"/>
              </a:rPr>
              <a:t>原来是一座村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6" descr="large_lTIR_3253p1320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昨天，这儿是一座村庄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生活，多少年来一个模样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贫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落后</a:t>
            </a: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困扰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着人们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现代文明是那样</a:t>
            </a: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遥远、渺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昨天，这儿是一座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贫穷落后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村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5" descr="large_1xX3_3273a1320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晨曦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中阿爸在田间劳作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烟雾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里阿妈煮饭在灶旁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小孩子在</a:t>
            </a: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稻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堆里打滚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姑娘从溪边挑回一担担摇晃的夕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——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大人们在村庄中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劳动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孩子们尽情地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玩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0" name="内容占位符 3" descr="500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2" name="内容占位符 3" descr="untitled.bmp"/>
          <p:cNvPicPr/>
          <p:nvPr/>
        </p:nvPicPr>
        <p:blipFill>
          <a:blip r:embed="rId1"/>
          <a:stretch/>
        </p:blipFill>
        <p:spPr>
          <a:xfrm>
            <a:off x="539640" y="189000"/>
            <a:ext cx="824868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8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14200" y="1071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呵，只不过短短的</a:t>
            </a: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几年时光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变化超出了人们的想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祖国</a:t>
            </a: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边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这座村庄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46c0a"/>
                </a:solidFill>
                <a:latin typeface="Arial"/>
              </a:rPr>
              <a:t>奇迹般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地改变了自己的模样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村庄在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短短几年间奇迹般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的改变了模样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b0f0"/>
                </a:solidFill>
                <a:latin typeface="Arial"/>
              </a:rPr>
              <a:t>高速公路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代替了泥泞的古道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破旧的土屋变成了</a:t>
            </a:r>
            <a:r>
              <a:rPr b="1" lang="zh-CN" sz="3400" spc="-1" strike="noStrike">
                <a:solidFill>
                  <a:srgbClr val="00b0f0"/>
                </a:solidFill>
                <a:latin typeface="Arial"/>
              </a:rPr>
              <a:t>厂房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幢幢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b0f0"/>
                </a:solidFill>
                <a:latin typeface="Arial"/>
              </a:rPr>
              <a:t>儿童乐园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充满着欢声笑语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彩灯喷泉装点得像</a:t>
            </a:r>
            <a:r>
              <a:rPr b="1" lang="zh-CN" sz="3400" spc="-1" strike="noStrike">
                <a:solidFill>
                  <a:srgbClr val="00b0f0"/>
                </a:solidFill>
                <a:latin typeface="Arial"/>
              </a:rPr>
              <a:t>仙境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一样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小小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村庄已经变成像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仙境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一样的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大都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8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64260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人们呢？我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熟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乡亲们呢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难道离开了世代居住的地方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不，他们没有离开故土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在特区，到处可以看到那些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熟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面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人们并没有离开故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8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6429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他们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开着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卡车，运送水泥、钢材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提着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皮包，和外商谈判办厂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伴着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灯光，在知识的海洋里遨游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和着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乐曲，翩翩起舞放声歌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人们在特区努力的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工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快乐的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生活和学习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再不是只求三餐眼看脚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探寻的目光已</a:t>
            </a:r>
            <a:r>
              <a:rPr b="1" lang="zh-CN" sz="3000" spc="-1" strike="noStrike">
                <a:solidFill>
                  <a:srgbClr val="e46c0a"/>
                </a:solidFill>
                <a:latin typeface="Arial"/>
              </a:rPr>
              <a:t>越出国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射向四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从仪表到心灵都</a:t>
            </a:r>
            <a:r>
              <a:rPr b="1" lang="zh-CN" sz="3000" spc="-1" strike="noStrike">
                <a:solidFill>
                  <a:srgbClr val="e46c0a"/>
                </a:solidFill>
                <a:latin typeface="Arial"/>
              </a:rPr>
              <a:t>焕然一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就像那彩色的特区新城一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们开始走出国门，放眼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这就是昔日面向黄土背朝天的农民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改革开放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给他们插上翅膀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似春燕在田野上飞起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传递着新的信息，描画着美好春光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正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改革开放使得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昔日的村庄变成了现在的国际化大都市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38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·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读课题理解题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21" t="0" r="0" b="10018"/>
          <a:stretch/>
        </p:blipFill>
        <p:spPr>
          <a:xfrm>
            <a:off x="539640" y="981000"/>
            <a:ext cx="80470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三、细读感悟，理解文本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cc"/>
                </a:solidFill>
                <a:latin typeface="Garamond"/>
                <a:ea typeface="华文中宋"/>
              </a:rPr>
              <a:t>昨天的村庄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朗读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1-2</a:t>
            </a: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节，请大家说一说：这座村庄原来是什么样子的？你能用一个词语概括一下村庄原来的样子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6188040"/>
            <a:ext cx="1395360" cy="669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98764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荒芜的深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63528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终于有了人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32000" y="602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要修深南大道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124000" y="6237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杂闹的市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逐渐出现了城市的面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042920" y="6165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深圳的速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天一个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带动了城市的全面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深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圳市，又称为“鹏城”，是中国南部海滨城市，位于中国南方珠江三角洲东岸，与香港一水之隔。改革开放前的深圳是一个小小的渔村，是南国常见的平常无比偏远荒凉小镇。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中国第一个经济特区在深圳设立。随着蛇口区一声惊天动地的巨响，深圳特区拉开了改革开放的大幕。从此，这个昔日的小小渔村发生了翻天覆地的变化。仅仅两，三年的时间，原本荒凉的土地上神话般的崛起一座座高楼大厦。从此，深圳速度成了快速建设的代名词。如今，深圳已成为中国金融中心、信息中心和华南商贸中心、运输中心及旅游胜地，一座名副其实的现代化的国际性城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《昨天，这儿是一座怎样的村庄》正是描绘的改革开放最初两，三年深圳的巨大变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154160" y="4556160"/>
            <a:ext cx="69897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贫穷落后、一贫如洗、偏远闭塞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28526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朗读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-2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节，请大家说一说：这座村庄原来是什么样子的？你能用一个词语概括一下村庄原来的样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190476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2692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50920" y="620640"/>
            <a:ext cx="856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思考</a:t>
            </a:r>
            <a:r>
              <a:rPr b="0" lang="en-US" sz="54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   </a:t>
            </a: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昨天的深圳是什么样的</a:t>
            </a: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3860640"/>
            <a:ext cx="6265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imes New Roman"/>
                <a:ea typeface="隶书"/>
              </a:rPr>
              <a:t>       </a:t>
            </a:r>
            <a:r>
              <a:rPr b="1" lang="zh-CN" sz="5400" spc="-1" strike="noStrike">
                <a:solidFill>
                  <a:srgbClr val="ff66ff"/>
                </a:solidFill>
                <a:latin typeface="Times New Roman"/>
                <a:ea typeface="隶书"/>
              </a:rPr>
              <a:t>贫穷，落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再读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小节体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6188040"/>
            <a:ext cx="1395360" cy="6699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54936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昨天，这儿是一座村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生活，多少年来一个模样。</a:t>
            </a:r>
            <a:r>
              <a:rPr b="1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181080" y="328464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这句话写出了人们多少年来过的是一种传统的、封闭的农村田园生活，对外面的世界没有一点了解。“一个模样”，说明人们只沿用一种模式生活，固守着陈旧、落后的观念。作者用简练的一句话反映了村庄从前的贫穷落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16360" y="6165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是还是很荒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8280" y="152352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ff"/>
                </a:solidFill>
                <a:latin typeface="Garamond"/>
              </a:rPr>
              <a:t>2.</a:t>
            </a:r>
            <a:r>
              <a:rPr b="1" i="1" lang="zh-CN" sz="3400" spc="-1" strike="noStrike">
                <a:solidFill>
                  <a:srgbClr val="0000ff"/>
                </a:solidFill>
                <a:latin typeface="Garamond"/>
              </a:rPr>
              <a:t>你怎么理解“姑娘从溪边挑回一担担摇晃的夕阳”这句话？“一担担摇晃的夕阳”指的是什么？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52400" y="3373200"/>
            <a:ext cx="76104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华文仿宋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华文仿宋"/>
              </a:rPr>
              <a:t>摇晃的”写出了挑水路途的遥远，“夕阳”既交代时间，也象征了贫穷落后的生活。这句话写出了过去人们生活的艰辛以及由此带给人们的困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152532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ff"/>
                </a:solidFill>
                <a:latin typeface="Garamond"/>
              </a:rPr>
              <a:t>3.</a:t>
            </a:r>
            <a:r>
              <a:rPr b="1" i="1" lang="zh-CN" sz="2900" spc="-1" strike="noStrike">
                <a:solidFill>
                  <a:srgbClr val="0000ff"/>
                </a:solidFill>
                <a:latin typeface="Garamond"/>
              </a:rPr>
              <a:t>第</a:t>
            </a:r>
            <a:r>
              <a:rPr b="1" i="1" lang="en-US" sz="2900" spc="-1" strike="noStrike">
                <a:solidFill>
                  <a:srgbClr val="0000ff"/>
                </a:solidFill>
                <a:latin typeface="Garamond"/>
              </a:rPr>
              <a:t>2</a:t>
            </a:r>
            <a:r>
              <a:rPr b="1" i="1" lang="zh-CN" sz="2900" spc="-1" strike="noStrike">
                <a:solidFill>
                  <a:srgbClr val="0000ff"/>
                </a:solidFill>
                <a:latin typeface="Garamond"/>
              </a:rPr>
              <a:t>节中的省略号后面省略了什么内容？这个省略号起到了什么作用？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76000" y="3040200"/>
            <a:ext cx="59562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省略的内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当时村庄贫穷落后的面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省略号的作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体现了人们对贫困生活的无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46440" y="560520"/>
            <a:ext cx="3973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Garamond"/>
                <a:ea typeface="华文中宋"/>
              </a:rPr>
              <a:t>现在的村庄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5120" y="1863720"/>
            <a:ext cx="704844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</a:t>
            </a:r>
            <a:r>
              <a:rPr b="1" lang="en-US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-7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节，请大家说一说：现在的村庄是什么样子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3429000"/>
            <a:ext cx="7010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华文仿宋"/>
              </a:rPr>
              <a:t>高速公路代替了泥泞的古道，破旧的土屋变成了厂房幢幢。儿童乐园充满着欢声笑语，彩灯喷泉装点得像仙境一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0" y="5105520"/>
            <a:ext cx="2209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前后对比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0" r="67" b="89"/>
          <a:stretch/>
        </p:blipFill>
        <p:spPr>
          <a:xfrm>
            <a:off x="609480" y="685800"/>
            <a:ext cx="44989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611280" y="1036800"/>
            <a:ext cx="8456040" cy="5218560"/>
            <a:chOff x="611280" y="1036800"/>
            <a:chExt cx="8456040" cy="5218560"/>
          </a:xfrm>
        </p:grpSpPr>
        <p:sp>
          <p:nvSpPr>
            <p:cNvPr id="244" name=""/>
            <p:cNvSpPr/>
            <p:nvPr/>
          </p:nvSpPr>
          <p:spPr>
            <a:xfrm>
              <a:off x="5257440" y="1036800"/>
              <a:ext cx="3809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79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6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，在邓小平爷爷的策划下，第五次全国人大常委会第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次会议，决定批准在深圳市境内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1280" y="4190760"/>
              <a:ext cx="80640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9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9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公里地域设置经济特区。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8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全国人大常委会颁布了《广东省经济特区条例》，深圳经济特区正式成立，地域包括今罗湖、福田、南山三个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00000" y="6021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济继续发展的深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沿着深南大道继续繁华的深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692360" y="6165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右边的河就是深圳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山的那边就是香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19564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里便成了深圳的金融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737000" y="616572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时候的深圳就是罗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罗湖就是深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时没有地王大厦的罗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708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楼拨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68360" y="544500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时的深圳已经不满足于罗湖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始沿着深南大道向西扩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到之处便带来了新的生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~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1268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今天的特区新城是什么样的？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2852640"/>
            <a:ext cx="88203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的特区新城面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焕然一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村变成了仙境一样的城市，农民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新城的主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42920" y="19861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诗人开篇为什么用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昨天，这儿是一座村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而不说“过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89160" y="3170160"/>
            <a:ext cx="68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80c06"/>
                </a:solidFill>
                <a:latin typeface="Arial"/>
              </a:rPr>
              <a:t>说明深圳、祖国“变化”的时间之快，变化之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华文仿宋"/>
                <a:ea typeface="华文仿宋"/>
              </a:rPr>
              <a:t>3.</a:t>
            </a:r>
            <a:r>
              <a:rPr b="1" lang="zh-CN" sz="3400" spc="-1" strike="noStrike">
                <a:solidFill>
                  <a:srgbClr val="0000ff"/>
                </a:solidFill>
                <a:latin typeface="华文仿宋"/>
                <a:ea typeface="华文仿宋"/>
              </a:rPr>
              <a:t>诗人是怀着什么样的心情写这首诗的？你从文中哪些地方可以看出来？请找出相关的词句并加以分析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89120" y="2936880"/>
            <a:ext cx="58737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楷体_GB2312"/>
              </a:rPr>
              <a:t>诗人的心情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ff"/>
                </a:solidFill>
                <a:latin typeface="Arial"/>
                <a:ea typeface="楷体_GB2312"/>
              </a:rPr>
              <a:t>对村庄变化的惊喜、赞叹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ff"/>
                </a:solidFill>
                <a:latin typeface="Arial"/>
                <a:ea typeface="楷体_GB2312"/>
              </a:rPr>
              <a:t>呵”、 “只不过”、 “超出”、“奇迹般”…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799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新宋体"/>
                <a:ea typeface="新宋体"/>
              </a:rPr>
              <a:t>   </a:t>
            </a:r>
            <a:r>
              <a:rPr b="0" lang="en-US" sz="3400" spc="-1" strike="noStrike">
                <a:solidFill>
                  <a:srgbClr val="006633"/>
                </a:solidFill>
                <a:latin typeface="新宋体"/>
                <a:ea typeface="新宋体"/>
              </a:rPr>
              <a:t>1</a:t>
            </a:r>
            <a:r>
              <a:rPr b="0" lang="zh-CN" sz="3400" spc="-1" strike="noStrike">
                <a:solidFill>
                  <a:srgbClr val="006633"/>
                </a:solidFill>
                <a:latin typeface="新宋体"/>
                <a:ea typeface="新宋体"/>
              </a:rPr>
              <a:t>、自由读课文，注意读准字音，读通句子。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7128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3507"/>
                </a:solidFill>
                <a:latin typeface="Arial"/>
              </a:rPr>
              <a:t>二、初读课文，整体感知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6840" y="2421000"/>
            <a:ext cx="1299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6633"/>
                </a:solidFill>
                <a:latin typeface="Arial"/>
              </a:rPr>
              <a:t>、</a:t>
            </a:r>
            <a:r>
              <a:rPr b="0" lang="zh-CN" sz="4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检查生字、词语的掌握情况</a:t>
            </a:r>
            <a:r>
              <a:rPr b="0" lang="zh-CN" sz="4000" spc="-1" strike="noStrike">
                <a:solidFill>
                  <a:srgbClr val="006633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306864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6633"/>
                </a:solidFill>
                <a:latin typeface="Arial"/>
              </a:rPr>
              <a:t>、思考：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   （</a:t>
            </a: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6633"/>
                </a:solidFill>
                <a:latin typeface="Arial"/>
              </a:rPr>
              <a:t>）这首诗写的是什么？可以分为几部分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8920" y="49370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(2)</a:t>
            </a:r>
            <a:r>
              <a:rPr b="0" lang="zh-CN" sz="4000" spc="-1" strike="noStrike">
                <a:solidFill>
                  <a:srgbClr val="006633"/>
                </a:solidFill>
                <a:latin typeface="Arial"/>
              </a:rPr>
              <a:t>你有什么不明白的吗？默读诗歌，做上批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breez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680" y="1447920"/>
            <a:ext cx="4648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华文仿宋"/>
                <a:ea typeface="华文仿宋"/>
              </a:rPr>
              <a:t>4.</a:t>
            </a:r>
            <a:r>
              <a:rPr b="1" lang="zh-CN" sz="3400" spc="-1" strike="noStrike">
                <a:solidFill>
                  <a:srgbClr val="0000ff"/>
                </a:solidFill>
                <a:latin typeface="华文仿宋"/>
                <a:ea typeface="华文仿宋"/>
              </a:rPr>
              <a:t>诗人为什么把今天的农民比作“春燕”？为什么说他们在“描画着美好春光”？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5640" y="386064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诗人把今天的农民比作“春燕”，表现了他们的勤劳。他们“描画着美好春光”是说他们正满怀希望地建设着美好生活。这句诗表达诗人对农民的赞美，对未来美好生活的憧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048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760" y="407520"/>
            <a:ext cx="60372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四、回顾总结，拓展延伸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7360" y="1844640"/>
            <a:ext cx="81536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0" lang="en-US" sz="47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zh-CN" sz="4700" spc="-1" strike="noStrike">
                <a:solidFill>
                  <a:srgbClr val="ff33cc"/>
                </a:solidFill>
                <a:latin typeface="Arial"/>
              </a:rPr>
              <a:t>、 是什么使这座小村庄发生了如此翻天覆地的变化？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6200" y="44370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33"/>
                </a:solidFill>
                <a:latin typeface="Arial"/>
              </a:rPr>
              <a:t>（改革开放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58920" y="19058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改革开放如春风拂过，神州大地似春潮滚动。祖国的建设迈开了气壮山河的新步伐；华夏故园将会展开了一幅新画卷。那同学们知道改革开放的政策谁提出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19280" y="3900960"/>
            <a:ext cx="6121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那么一首歌——《春天的故事》，歌曲唱的就是           改革开放的政策。</a:t>
            </a:r>
            <a:r>
              <a:rPr b="0" lang="zh-CN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歌曲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4200" y="414972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19280" y="333360"/>
            <a:ext cx="7524720" cy="1150920"/>
          </a:xfrm>
          <a:prstGeom prst="wedgeEllipseCallout">
            <a:avLst>
              <a:gd name="adj1" fmla="val -59787"/>
              <a:gd name="adj2" fmla="val 548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想一想，说一说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0" lang="zh-CN" sz="4300" spc="-1" strike="noStrike">
                <a:solidFill>
                  <a:srgbClr val="ff0066"/>
                </a:solidFill>
                <a:latin typeface="Arial"/>
              </a:rPr>
              <a:t>因为改革开放，我们的生活还有了哪些变化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5280" y="3429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节诗是对全诗的总结，讲了两层意思：一是点出了特区飞速发展的原因是“改革开放给他们插上翅膀”，二是改革开放为特区开辟了更加美好的远景，特区发生了奇迹般的巨大变化，特区的人们好似春燕在田野上飞起。昔日的农民还在不断地努力，描画着更美好的蓝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这就是昔日面向黄土背朝天的农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改革开放给他们插上翅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似春燕在田野上飞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传递着新的信息，描画着美好春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95280" y="1125360"/>
            <a:ext cx="8532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思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明天的深圳又会是什么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47640" y="371628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更加繁荣富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-108000" y="-9828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47640" y="15955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74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文中“这儿”指的是＿＿＿，“昨天”指的是＿＿＿＿＿，是一座＿＿＿＿＿＿＿   ，“今天”指的是＿＿＿＿＿＿＿，已变成一座＿＿＿＿＿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文中的比喻句和拟人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以“家乡的变化”为题，写一篇作文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14920" y="17254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华文中宋"/>
              </a:rPr>
              <a:t>深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34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华文中宋"/>
              </a:rPr>
              <a:t>改革开放以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48000" y="23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华文中宋"/>
              </a:rPr>
              <a:t>贫穷落后的小村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5640" y="29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华文中宋"/>
              </a:rPr>
              <a:t>改革开放以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6000" y="29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华文中宋"/>
              </a:rPr>
              <a:t>现代化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3200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困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3213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3213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晨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32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03280" y="45813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面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458136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翩起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4581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然一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25653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r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2565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m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2492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24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chu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393372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p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38606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p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378936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h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908000" y="981000"/>
            <a:ext cx="4419720" cy="1081080"/>
            <a:chOff x="1908000" y="981000"/>
            <a:chExt cx="4419720" cy="1081080"/>
          </a:xfrm>
        </p:grpSpPr>
        <p:sp>
          <p:nvSpPr>
            <p:cNvPr id="267" name=""/>
            <p:cNvSpPr txBox="1"/>
            <p:nvPr/>
          </p:nvSpPr>
          <p:spPr>
            <a:xfrm>
              <a:off x="3203280" y="1285920"/>
              <a:ext cx="3124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8000"/>
                      </a:srgbClr>
                    </a:outerShdw>
                  </a:effectLst>
                  <a:latin typeface="华文中宋"/>
                </a:rPr>
                <a:t>会读会写</a:t>
              </a:r>
              <a:endParaRPr b="1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908000" y="981000"/>
              <a:ext cx="1219320" cy="10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7885080" y="5877000"/>
            <a:ext cx="863640" cy="682560"/>
          </a:xfrm>
          <a:custGeom>
            <a:avLst/>
            <a:gdLst>
              <a:gd name="textAreaLeft" fmla="*/ 42480 w 863640"/>
              <a:gd name="textAreaRight" fmla="*/ 821160 w 863640"/>
              <a:gd name="textAreaTop" fmla="*/ 42480 h 682560"/>
              <a:gd name="textAreaBottom" fmla="*/ 640080 h 682560"/>
            </a:gdLst>
            <a:ahLst/>
            <a:rect l="textAreaLeft" t="textAreaTop" r="textAreaRight" b="textAreaBottom"/>
            <a:pathLst>
              <a:path w="27327" h="21600">
                <a:moveTo>
                  <a:pt x="0" y="0"/>
                </a:moveTo>
                <a:lnTo>
                  <a:pt x="27327" y="0"/>
                </a:lnTo>
                <a:lnTo>
                  <a:pt x="27327" y="21600"/>
                </a:lnTo>
                <a:lnTo>
                  <a:pt x="0" y="21600"/>
                </a:lnTo>
                <a:close/>
              </a:path>
              <a:path fill="lightenLess" w="27327" h="21600">
                <a:moveTo>
                  <a:pt x="0" y="0"/>
                </a:moveTo>
                <a:lnTo>
                  <a:pt x="27327" y="0"/>
                </a:lnTo>
                <a:lnTo>
                  <a:pt x="25977" y="1350"/>
                </a:lnTo>
                <a:lnTo>
                  <a:pt x="1350" y="1350"/>
                </a:lnTo>
                <a:close/>
              </a:path>
              <a:path fill="darken" w="27327" h="21600">
                <a:moveTo>
                  <a:pt x="27327" y="0"/>
                </a:moveTo>
                <a:lnTo>
                  <a:pt x="27327" y="21600"/>
                </a:lnTo>
                <a:lnTo>
                  <a:pt x="25977" y="20250"/>
                </a:lnTo>
                <a:lnTo>
                  <a:pt x="25977" y="1350"/>
                </a:lnTo>
                <a:close/>
              </a:path>
              <a:path fill="darkenLess" w="27327" h="21600">
                <a:moveTo>
                  <a:pt x="2732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977" y="20250"/>
                </a:lnTo>
                <a:close/>
              </a:path>
              <a:path fill="lighten" w="2732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327" h="21600">
                <a:moveTo>
                  <a:pt x="6620" y="3756"/>
                </a:moveTo>
                <a:lnTo>
                  <a:pt x="20707" y="10800"/>
                </a:lnTo>
                <a:lnTo>
                  <a:pt x="6620" y="1784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14200" y="2858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0000"/>
                </a:solidFill>
                <a:latin typeface="Arial"/>
              </a:rPr>
              <a:t>模样  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困扰  </a:t>
            </a:r>
            <a:r>
              <a:rPr b="1" lang="zh-CN" sz="4700" spc="-1" strike="noStrike">
                <a:solidFill>
                  <a:srgbClr val="ff0000"/>
                </a:solidFill>
                <a:latin typeface="Arial"/>
              </a:rPr>
              <a:t>渺茫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  焕然一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夕阳  探寻  </a:t>
            </a:r>
            <a:r>
              <a:rPr b="1" lang="zh-CN" sz="4700" spc="-1" strike="noStrike">
                <a:solidFill>
                  <a:srgbClr val="ff0000"/>
                </a:solidFill>
                <a:latin typeface="Arial"/>
              </a:rPr>
              <a:t>晨曦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  欢声笑语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传递  摇晃  </a:t>
            </a:r>
            <a:r>
              <a:rPr b="1" lang="zh-CN" sz="4700" spc="-1" strike="noStrike">
                <a:solidFill>
                  <a:srgbClr val="ff0000"/>
                </a:solidFill>
                <a:latin typeface="Arial"/>
              </a:rPr>
              <a:t>边陲  翩翩起舞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6633"/>
                </a:solidFill>
                <a:latin typeface="Garamond"/>
              </a:rPr>
              <a:t>深圳的昨天和今天是怎样的？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83296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昨天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，指的是（   ）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昨天的深圳是一座（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今天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，指的是（   ）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今天的深圳是一座（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思考问题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昨天的深圳是怎样的村庄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从诗中找出相关的词语，句子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3:00:53Z</dcterms:created>
  <dc:creator>Administrator</dc:creator>
  <dc:description/>
  <dc:language>en-US</dc:language>
  <cp:lastModifiedBy/>
  <dcterms:modified xsi:type="dcterms:W3CDTF">2015-07-27T09:14:41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