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330-8E0C-41E1-91AA-8798106D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C19-1DB2-412A-A6B5-68E5B72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9EC-DBB2-4B66-9124-435DDAAC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C23-26AF-4015-B65D-3D3BF726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4925-51C6-4CD2-8275-898DA2B6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C70-4A89-4B95-9905-5CF46F02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30B-3FB8-4D70-9151-EEA8BA6A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5A5-D58E-4337-ACF1-B68CED4E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E89-C855-4E07-880D-07B0B40D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683-7D19-4E14-8CE7-61A6A7F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39DB-4A10-4A29-BB31-9B0FC29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4C2-1378-4032-930A-81AF57A8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3496-A15C-4DDA-A125-18753B9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B4B-FE78-4649-91E1-899BB09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ECA-C087-47C7-8912-40C7E9D2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0A36-DCA0-4C4E-A6AE-3AC8B919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6B0E-EA15-46A5-ADC6-30126BC0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0653-C530-4D9A-8D23-7B83B999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BAB4-61C1-4F49-A595-22CD6865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3AD5-6F19-4331-B669-43D3A76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0513-B5DF-4487-99A6-3FE3AE6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61CE-47C6-4E0E-AFC9-4228AAE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B58-B0B9-4D3E-A57C-A84BD5FB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227D-C8E5-4FBE-A395-88C28B9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9410-F9CF-488C-9C27-F543F22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F81B-26C4-4BAE-8EDE-2C99FB5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9EBB-8AA5-4984-865B-A747EE9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73F7-9279-49BF-B2A5-A728B23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2C83-DE02-431E-BA6E-C4837C66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C6A8-90A7-4737-B033-3BACBEE4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87E-D63F-418E-8D19-786857E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6F9-C156-42A0-B1C8-2E6ABE81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170-883F-47C3-90F2-7441EE9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B2B-0A78-4E13-A298-A4A3754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2CF-0988-4568-BA43-79F7D39C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3D6-8F85-4296-A861-AC01219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000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3" marL="12430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4" marL="15858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5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6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F3D-DFD7-4169-A24C-2ACBF441BC9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C17-C812-473B-9F78-3A99F76631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ksoSlideStyle" hidden="1"/>
          <p:cNvSpPr/>
          <p:nvPr/>
        </p:nvSpPr>
        <p:spPr>
          <a:xfrm>
            <a:off x="0" y="0"/>
            <a:ext cx="12600" cy="12600"/>
          </a:xfrm>
          <a:prstGeom prst="rect">
            <a:avLst/>
          </a:prstGeom>
          <a:solidFill>
            <a:srgbClr val="cfdef3"/>
          </a:solidFill>
          <a:ln w="9360">
            <a:solidFill>
              <a:srgbClr val="7a0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marL="3240" indent="-32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-70200" y="2185920"/>
            <a:ext cx="9035280" cy="4672080"/>
            <a:chOff x="-70200" y="2185920"/>
            <a:chExt cx="9035280" cy="4672080"/>
          </a:xfrm>
        </p:grpSpPr>
        <p:sp>
          <p:nvSpPr>
            <p:cNvPr id="43" name="弧形 17"/>
            <p:cNvSpPr/>
            <p:nvPr/>
          </p:nvSpPr>
          <p:spPr>
            <a:xfrm flipH="1" flipV="1">
              <a:off x="-60120" y="2185920"/>
              <a:ext cx="9025200" cy="4672080"/>
            </a:xfrm>
            <a:custGeom>
              <a:avLst/>
              <a:gdLst/>
              <a:ahLst/>
              <a:rect l="l" t="t" r="r" b="b"/>
              <a:pathLst>
                <a:path stroke="0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  <a:lnTo>
                    <a:pt x="1689652" y="1494228"/>
                  </a:lnTo>
                  <a:lnTo>
                    <a:pt x="1689652" y="0"/>
                  </a:lnTo>
                  <a:close/>
                </a:path>
                <a:path fill="none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44" name="弧形 17"/>
            <p:cNvSpPr/>
            <p:nvPr/>
          </p:nvSpPr>
          <p:spPr>
            <a:xfrm flipH="1" flipV="1">
              <a:off x="-70560" y="2878560"/>
              <a:ext cx="6090840" cy="3259800"/>
            </a:xfrm>
            <a:custGeom>
              <a:avLst/>
              <a:gdLst/>
              <a:ahLst/>
              <a:rect l="l" t="t" r="r" b="b"/>
              <a:pathLst>
                <a:path stroke="0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  <a:lnTo>
                    <a:pt x="1689652" y="1494228"/>
                  </a:lnTo>
                  <a:lnTo>
                    <a:pt x="1689652" y="0"/>
                  </a:lnTo>
                  <a:close/>
                </a:path>
                <a:path fill="none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45" name="弧形 17"/>
            <p:cNvSpPr/>
            <p:nvPr/>
          </p:nvSpPr>
          <p:spPr>
            <a:xfrm flipH="1" flipV="1">
              <a:off x="-70560" y="3506040"/>
              <a:ext cx="4511880" cy="2095560"/>
            </a:xfrm>
            <a:custGeom>
              <a:avLst/>
              <a:gdLst/>
              <a:ahLst/>
              <a:rect l="l" t="t" r="r" b="b"/>
              <a:pathLst>
                <a:path stroke="0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  <a:lnTo>
                    <a:pt x="1689652" y="1494228"/>
                  </a:lnTo>
                  <a:lnTo>
                    <a:pt x="1689652" y="0"/>
                  </a:lnTo>
                  <a:close/>
                </a:path>
                <a:path fill="none" w="3379304" h="2988455">
                  <a:moveTo>
                    <a:pt x="1689652" y="0"/>
                  </a:moveTo>
                  <a:cubicBezTo>
                    <a:pt x="2566100" y="0"/>
                    <a:pt x="3297046" y="592647"/>
                    <a:pt x="3372955" y="136481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555920" y="3556080"/>
            <a:ext cx="5722920" cy="360"/>
            <a:chOff x="1555920" y="3556080"/>
            <a:chExt cx="5722920" cy="360"/>
          </a:xfrm>
        </p:grpSpPr>
        <p:sp>
          <p:nvSpPr>
            <p:cNvPr id="47" name="Line 7"/>
            <p:cNvSpPr/>
            <p:nvPr/>
          </p:nvSpPr>
          <p:spPr>
            <a:xfrm>
              <a:off x="1555920" y="3556080"/>
              <a:ext cx="572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555920" y="3556080"/>
              <a:ext cx="572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7370640" y="168120"/>
            <a:ext cx="1649520" cy="2220840"/>
            <a:chOff x="7370640" y="168120"/>
            <a:chExt cx="1649520" cy="2220840"/>
          </a:xfrm>
        </p:grpSpPr>
        <p:sp>
          <p:nvSpPr>
            <p:cNvPr id="50" name="Oval 12"/>
            <p:cNvSpPr/>
            <p:nvPr/>
          </p:nvSpPr>
          <p:spPr>
            <a:xfrm>
              <a:off x="7720560" y="632160"/>
              <a:ext cx="984600" cy="13114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240" indent="-3240"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370640" y="1076040"/>
              <a:ext cx="985320" cy="1312920"/>
            </a:xfrm>
            <a:prstGeom prst="ellips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240" indent="-3240"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034840" y="1076040"/>
              <a:ext cx="985320" cy="1312920"/>
            </a:xfrm>
            <a:prstGeom prst="ellips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240" indent="-3240"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7370640" y="177840"/>
              <a:ext cx="985320" cy="1313280"/>
            </a:xfrm>
            <a:prstGeom prst="ellips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240" indent="-3240"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034840" y="168120"/>
              <a:ext cx="985320" cy="1312200"/>
            </a:xfrm>
            <a:prstGeom prst="ellips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240" indent="-3240"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000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3" marL="12430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4" marL="15858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5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6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6D62-A457-4C35-B712-26CDCB18C17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A93E-C0B8-47B1-B323-26E67AA3DC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"/>
          <p:cNvGrpSpPr/>
          <p:nvPr/>
        </p:nvGrpSpPr>
        <p:grpSpPr>
          <a:xfrm>
            <a:off x="3570120" y="1238040"/>
            <a:ext cx="2003760" cy="2670120"/>
            <a:chOff x="3570120" y="1238040"/>
            <a:chExt cx="2003760" cy="2670120"/>
          </a:xfrm>
        </p:grpSpPr>
        <p:sp>
          <p:nvSpPr>
            <p:cNvPr id="97" name="Oval 3"/>
            <p:cNvSpPr/>
            <p:nvPr/>
          </p:nvSpPr>
          <p:spPr>
            <a:xfrm>
              <a:off x="3731760" y="1542960"/>
              <a:ext cx="1662120" cy="2214720"/>
            </a:xfrm>
            <a:prstGeom prst="ellipse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98" name="空心弧 9"/>
            <p:cNvSpPr/>
            <p:nvPr/>
          </p:nvSpPr>
          <p:spPr>
            <a:xfrm rot="10800000">
              <a:off x="3570120" y="1238040"/>
              <a:ext cx="2003760" cy="2670120"/>
            </a:xfrm>
            <a:custGeom>
              <a:avLst/>
              <a:gdLst/>
              <a:ahLst/>
              <a:rect l="l" t="t" r="r" b="b"/>
              <a:pathLst>
                <a:path w="1623849" h="1623849">
                  <a:moveTo>
                    <a:pt x="0" y="811925"/>
                  </a:moveTo>
                  <a:cubicBezTo>
                    <a:pt x="0" y="513567"/>
                    <a:pt x="163637" y="239245"/>
                    <a:pt x="426170" y="97492"/>
                  </a:cubicBezTo>
                  <a:cubicBezTo>
                    <a:pt x="688703" y="-44262"/>
                    <a:pt x="1007831" y="-30607"/>
                    <a:pt x="1257296" y="133053"/>
                  </a:cubicBezTo>
                  <a:cubicBezTo>
                    <a:pt x="1506761" y="296713"/>
                    <a:pt x="1646368" y="584010"/>
                    <a:pt x="1620883" y="881278"/>
                  </a:cubicBezTo>
                  <a:lnTo>
                    <a:pt x="1616351" y="880889"/>
                  </a:lnTo>
                  <a:cubicBezTo>
                    <a:pt x="1641693" y="585286"/>
                    <a:pt x="1502868" y="299598"/>
                    <a:pt x="1254800" y="136855"/>
                  </a:cubicBezTo>
                  <a:cubicBezTo>
                    <a:pt x="1006732" y="-25889"/>
                    <a:pt x="689391" y="-39467"/>
                    <a:pt x="428328" y="101493"/>
                  </a:cubicBezTo>
                  <a:cubicBezTo>
                    <a:pt x="167265" y="242453"/>
                    <a:pt x="4545" y="515238"/>
                    <a:pt x="4545" y="811925"/>
                  </a:cubicBezTo>
                  <a:lnTo>
                    <a:pt x="0" y="811925"/>
                  </a:lnTo>
                  <a:close/>
                </a:path>
              </a:pathLst>
            </a:custGeom>
            <a:solidFill>
              <a:srgbClr val="262626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000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3" marL="124308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4" marL="1585800" indent="-214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5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6" marL="1585800" indent="-214200">
              <a:buClr>
                <a:srgbClr val="7a0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7a0f99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31A7-0ED3-4785-BFAE-FBD883AB5815}" type="datetime">
              <a:rPr b="0" lang="zh-CN" sz="1000" spc="-1" strike="noStrike">
                <a:solidFill>
                  <a:srgbClr val="7a0f99"/>
                </a:solidFill>
                <a:latin typeface="Arial"/>
                <a:ea typeface="黑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7a0f9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63CA-5620-43EB-B809-A69EBDB117A4}" type="slidenum">
              <a:rPr b="0" lang="zh-CN" sz="1000" spc="-1" strike="noStrike">
                <a:solidFill>
                  <a:srgbClr val="7a0f99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6%D0%C7%EF%BD%DA%D4&#177;%FD%B6%AF&#812;&#892;&#428;&amp;in=10538&amp;cl=2&amp;lm=-1&amp;pn=4&amp;rn=1&amp;di=21416956110&amp;ln=651&amp;fr=ala1&amp;fmq=&amp;ic=&amp;s=&amp;se=&amp;sme=0&amp;tab=&amp;width=&amp;height=&amp;face=&amp;is=&amp;istype=2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5"/>
          <p:cNvSpPr txBox="1"/>
          <p:nvPr/>
        </p:nvSpPr>
        <p:spPr>
          <a:xfrm>
            <a:off x="3635280" y="1916280"/>
            <a:ext cx="180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ff00"/>
                </a:solidFill>
                <a:latin typeface="楷体"/>
              </a:rPr>
              <a:t>第四课</a:t>
            </a:r>
            <a:endParaRPr b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ff00"/>
              </a:solidFill>
              <a:latin typeface="楷体"/>
              <a:ea typeface="楷体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340000" y="3068640"/>
            <a:ext cx="446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ff00"/>
                </a:solidFill>
                <a:latin typeface="楷体"/>
              </a:rPr>
              <a:t>中 秋 节</a:t>
            </a:r>
            <a:endParaRPr b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ff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64880" y="628200"/>
            <a:ext cx="56055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_GB2312"/>
              </a:rPr>
              <a:t>中秋节简介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000" y="155736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99cc00"/>
                </a:solidFill>
                <a:latin typeface="楷体"/>
                <a:ea typeface="楷体"/>
              </a:rPr>
              <a:t>每年农历八月十五日，是传统的中秋佳节。这时是一年秋季的中期，所以被称为中秋。在中国的农历里，一年分为四季，每季又分为孟、仲、季三个部分，因而中秋也称仲秋。八月十五的月亮比其他几个月的满月更圆，更明亮，所以又叫做“月夕”，“八月节”。此夜，人们仰望天空如玉如盘的朗朗明月，自然会期盼家人团聚。远在他乡的游子，也借此寄托自己对故乡和亲人的思念之情。所以，中秋又称“团圆节”。 </a:t>
            </a:r>
            <a:endParaRPr b="0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44" name="Picture 4" descr="u=1960983904,1759608380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5084640"/>
            <a:ext cx="2303640" cy="177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1009131024e70da595fc6c1e62"/>
          <p:cNvPicPr/>
          <p:nvPr/>
        </p:nvPicPr>
        <p:blipFill>
          <a:blip r:embed="rId1"/>
          <a:stretch/>
        </p:blipFill>
        <p:spPr>
          <a:xfrm>
            <a:off x="914400" y="0"/>
            <a:ext cx="6553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69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871380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2780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通读全文，了解大意。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分段读，找出各段关键词 。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用上关键词，一两句话概括全段内容。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整理完善。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10920" y="8180280"/>
            <a:ext cx="73080" cy="144720"/>
            <a:chOff x="610920" y="8180280"/>
            <a:chExt cx="73080" cy="144720"/>
          </a:xfrm>
        </p:grpSpPr>
        <p:sp>
          <p:nvSpPr>
            <p:cNvPr id="150" name="Line 4"/>
            <p:cNvSpPr/>
            <p:nvPr/>
          </p:nvSpPr>
          <p:spPr>
            <a:xfrm flipH="1" flipV="1">
              <a:off x="610920" y="8180280"/>
              <a:ext cx="73080" cy="144720"/>
            </a:xfrm>
            <a:prstGeom prst="line">
              <a:avLst/>
            </a:prstGeom>
            <a:ln w="9360">
              <a:solidFill>
                <a:srgbClr val="7a0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610920" y="8180280"/>
              <a:ext cx="7308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84360" y="3933720"/>
            <a:ext cx="215640" cy="360"/>
            <a:chOff x="684360" y="3933720"/>
            <a:chExt cx="215640" cy="360"/>
          </a:xfrm>
        </p:grpSpPr>
        <p:sp>
          <p:nvSpPr>
            <p:cNvPr id="153" name="Line 5"/>
            <p:cNvSpPr/>
            <p:nvPr/>
          </p:nvSpPr>
          <p:spPr>
            <a:xfrm>
              <a:off x="684360" y="3933720"/>
              <a:ext cx="215640" cy="0"/>
            </a:xfrm>
            <a:prstGeom prst="line">
              <a:avLst/>
            </a:prstGeom>
            <a:ln w="9360">
              <a:solidFill>
                <a:srgbClr val="7a0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84360" y="393372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5445000"/>
            <a:ext cx="71280" cy="360"/>
            <a:chOff x="684360" y="5445000"/>
            <a:chExt cx="71280" cy="360"/>
          </a:xfrm>
        </p:grpSpPr>
        <p:sp>
          <p:nvSpPr>
            <p:cNvPr id="156" name="Line 6"/>
            <p:cNvSpPr/>
            <p:nvPr/>
          </p:nvSpPr>
          <p:spPr>
            <a:xfrm flipH="1">
              <a:off x="684360" y="5445000"/>
              <a:ext cx="71280" cy="0"/>
            </a:xfrm>
            <a:prstGeom prst="line">
              <a:avLst/>
            </a:prstGeom>
            <a:ln w="9360">
              <a:solidFill>
                <a:srgbClr val="7a0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84360" y="54450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4360" y="5445000"/>
            <a:ext cx="287280" cy="360"/>
            <a:chOff x="684360" y="5445000"/>
            <a:chExt cx="287280" cy="360"/>
          </a:xfrm>
        </p:grpSpPr>
        <p:sp>
          <p:nvSpPr>
            <p:cNvPr id="159" name="Line 7"/>
            <p:cNvSpPr/>
            <p:nvPr/>
          </p:nvSpPr>
          <p:spPr>
            <a:xfrm>
              <a:off x="684360" y="5445000"/>
              <a:ext cx="287280" cy="0"/>
            </a:xfrm>
            <a:prstGeom prst="line">
              <a:avLst/>
            </a:prstGeom>
            <a:ln w="9360">
              <a:solidFill>
                <a:srgbClr val="7a0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84360" y="544500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a0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2780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、段：中秋节的时间及在人们心中的地位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段：中秋节人们的活动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段： 赏月习俗的由来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段：与月亮有关的传说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段：吃月饼这一习俗的悠久历史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段：引用诗句，抒发美好情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楷体"/>
              </a:rPr>
              <a:t>听读文章，回答问题：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267920"/>
            <a:ext cx="7986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中秋节时间是什么时候？第几自然段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2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中秋节有哪些活动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3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赏月的习俗是怎么由来的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4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月亮的传说是什么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5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象征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美好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、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团圆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的东西是什么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6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楷体"/>
              </a:rPr>
              <a:t>文章中运用了谁的古诗来思念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692280"/>
            <a:ext cx="785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7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运用诗句，表达人们怎样的情感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Q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：本文的主题思想？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marL="3240" indent="-3240"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楷体"/>
              </a:rPr>
              <a:t>课文向我们介绍了中秋节的由来及人们举行的相关活动，说明了中秋节是一个象征团圆与回归的重大传统节日，阐明了中秋节的传统意义。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81e24053cda1cb1a1138c25f"/>
          <p:cNvPicPr/>
          <p:nvPr/>
        </p:nvPicPr>
        <p:blipFill>
          <a:blip r:embed="rId1"/>
          <a:stretch/>
        </p:blipFill>
        <p:spPr>
          <a:xfrm>
            <a:off x="0" y="549360"/>
            <a:ext cx="8636040" cy="5765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539640" y="1197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a0f99"/>
                </a:solidFill>
                <a:latin typeface="Arial"/>
              </a:rPr>
              <a:t>举头望明月，低头思故乡。 </a:t>
            </a: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1773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a0f99"/>
                </a:solidFill>
                <a:latin typeface="Arial"/>
              </a:rPr>
              <a:t>露从今夜白，月是故乡明。 </a:t>
            </a: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9640" y="24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a0f99"/>
                </a:solidFill>
                <a:latin typeface="Arial"/>
              </a:rPr>
              <a:t>但愿人长久，千里共婵娟。 </a:t>
            </a: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68360" y="3068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a0f99"/>
                </a:solidFill>
                <a:latin typeface="Arial"/>
              </a:rPr>
              <a:t>春风又绿江南岸，明月何时照我还。 </a:t>
            </a: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39640" y="36583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a0f99"/>
                </a:solidFill>
                <a:latin typeface="Arial"/>
              </a:rPr>
              <a:t>海上升明月，天涯共此时。 </a:t>
            </a:r>
            <a:endParaRPr b="0" lang="en-US" sz="1800" spc="-1" strike="noStrike">
              <a:solidFill>
                <a:srgbClr val="7a0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12:51:01Z</dcterms:created>
  <dc:creator/>
  <dc:description/>
  <dc:language>en-US</dc:language>
  <cp:lastModifiedBy>Administrator</cp:lastModifiedBy>
  <dcterms:modified xsi:type="dcterms:W3CDTF">2016-04-08T12:52:0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