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283-F9ED-486E-886F-1CC6BF3D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0D4-0777-4C84-B706-67410EC9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D80-F6B7-4782-BDF0-B5F9ABD1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CD55-C10A-420A-9F95-49E7F607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FAA6-FF5E-491E-9BC2-72B0DF40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FD31-E91C-45FF-9595-A24232F3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51DA-5D5C-4D8C-A9C3-C863B464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3995-1047-4B28-B163-89CCD1F9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7627-67D4-447B-9C4B-742786D9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25D7-A057-4FBF-94C9-BC7AFB49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CC6C-62A8-4B58-A065-BC5327EA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093-BB67-4EFA-B9D9-0DF49661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43F6-991A-4A6F-93C7-F6B284D6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54D5-7EE6-4ACE-BD1C-0E43B434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FAB5-F921-4FBC-92F5-B3EBCD99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868D-B05C-4288-9960-915DC118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6E47-20EB-4CB3-8915-40233E7E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A77-0CA0-453A-9511-95FE5166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377-74A3-49E7-9671-0BDF100A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520-38EF-4931-9885-8D583369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71B-5860-4C03-A640-81F95D6D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843-199C-48C0-92EC-0381A843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F71-477C-4FA2-9387-3A92F250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2F8-B24A-4FE2-BEBA-007A5895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F57B-D39F-4C6A-8C6F-D303794C8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BAEA-8737-46B5-A717-D59C9459C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D:\&#37041;&#33487;&#21033;\&#26539;&#21494;&#22914;&#20025;&#19987;&#29992;&#22841;\&#26539;&#21494;&#22914;&#20025; &#35828;&#35838;&#35774;&#35745;1 .ppt" TargetMode="External"/><Relationship Id="rId2" Type="http://schemas.openxmlformats.org/officeDocument/2006/relationships/hyperlink" Target="D:\&#37041;&#33487;&#21033;\&#26539;&#21494;&#22914;&#20025;&#19987;&#29992;&#22841;\&#26539;&#21494;&#22914;&#20025; &#35828;&#35838;&#35774;&#35745;1 .ppt" TargetMode="External"/><Relationship Id="rId3" Type="http://schemas.openxmlformats.org/officeDocument/2006/relationships/hyperlink" Target="D:\&#37041;&#33487;&#21033;\&#26539;&#21494;&#22914;&#20025;&#19987;&#29992;&#22841;\&#26539;&#21494;&#22914;&#20025; &#35828;&#35838;&#35774;&#35745;1 .ppt" TargetMode="External"/><Relationship Id="rId4" Type="http://schemas.openxmlformats.org/officeDocument/2006/relationships/hyperlink" Target="D:\&#37041;&#33487;&#21033;\&#26539;&#21494;&#22914;&#20025;&#19987;&#29992;&#22841;\&#26539;&#21494;&#22914;&#20025; &#35828;&#35838;&#35774;&#35745;1 .ppt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D:\&#37041;&#33487;&#21033;\&#26539;&#21494;&#22914;&#20025;&#19987;&#29992;&#22841;\&#26539;&#21494;&#22914;&#20025;&#35838;&#20214;14.ppt" TargetMode="External"/><Relationship Id="rId2" Type="http://schemas.openxmlformats.org/officeDocument/2006/relationships/hyperlink" Target="D:%5C&#37041;&#33487;&#21033;%5C&#26539;&#21494;&#22914;&#20025;&#19987;&#29992;&#22841;%5C&#26539;&#21494;&#22914;&#20025;%20&#35828;&#35838;&#35774;&#35745;1%20.ppt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D:\&#37041;&#33487;&#21033;\&#26539;&#21494;&#22914;&#20025;&#19987;&#29992;&#22841;\&#26539;&#21494;&#22914;&#20025;&#35838;&#20214;14.p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D:\&#37041;&#33487;&#21033;\&#26539;&#21494;&#22914;&#20025;&#19987;&#29992;&#22841;\&#26539;&#21494;&#22914;&#20025;&#35838;&#20214;14.ppt" TargetMode="External"/><Relationship Id="rId2" Type="http://schemas.openxmlformats.org/officeDocument/2006/relationships/image" Target="../media/image2.jpeg"/><Relationship Id="rId3" Type="http://schemas.openxmlformats.org/officeDocument/2006/relationships/hyperlink" Target="D:%5C&#37041;&#33487;&#21033;%5C&#26539;&#21494;&#22914;&#20025;&#19987;&#29992;&#22841;%5C&#26539;&#21494;&#22914;&#20025;%20&#35828;&#35838;&#35774;&#35745;1%20.ppt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D:\&#37041;&#33487;&#21033;\&#26539;&#21494;&#22914;&#20025;&#19987;&#29992;&#22841;\&#26539;&#21494;&#22914;&#20025;&#35838;&#20214;14.ppt" TargetMode="External"/><Relationship Id="rId2" Type="http://schemas.openxmlformats.org/officeDocument/2006/relationships/hyperlink" Target="D:\&#37041;&#33487;&#21033;\&#26539;&#21494;&#22914;&#20025;&#19987;&#29992;&#22841;\&#26539;&#21494;&#22914;&#20025;&#35838;&#20214;14.ppt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D:\&#37041;&#33487;&#21033;\&#26539;&#21494;&#22914;&#20025;&#19987;&#29992;&#22841;\&#26539;&#21494;&#22914;&#20025;&#35838;&#20214;14.p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D:\&#37041;&#33487;&#21033;\&#26539;&#21494;&#22914;&#20025;&#19987;&#29992;&#22841;\&#26539;&#21494;&#22914;&#20025;&#35838;&#20214;14.ppt" TargetMode="External"/><Relationship Id="rId2" Type="http://schemas.openxmlformats.org/officeDocument/2006/relationships/hyperlink" Target="D:\&#37041;&#33487;&#21033;\&#26539;&#21494;&#22914;&#20025;&#19987;&#29992;&#22841;\&#26539;&#21494;&#22914;&#20025;&#35838;&#20214;14.ppt" TargetMode="External"/><Relationship Id="rId3" Type="http://schemas.openxmlformats.org/officeDocument/2006/relationships/hyperlink" Target="D:\&#37041;&#33487;&#21033;\&#26539;&#21494;&#22914;&#20025;&#19987;&#29992;&#22841;\&#26539;&#21494;&#22914;&#20025;&#35838;&#20214;14.ppt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D:\&#37041;&#33487;&#21033;\&#26539;&#21494;&#22914;&#20025;&#19987;&#29992;&#22841;\&#26539;&#21494;&#22914;&#20025;&#35838;&#20214;14.p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D:\&#37041;&#33487;&#21033;\&#26539;&#21494;&#22914;&#20025;&#19987;&#29992;&#22841;\&#26539;&#21494;&#22914;&#20025;&#35838;&#20214;14.ppt" TargetMode="External"/><Relationship Id="rId2" Type="http://schemas.openxmlformats.org/officeDocument/2006/relationships/hyperlink" Target="D:\&#37041;&#33487;&#21033;\&#26539;&#21494;&#22914;&#20025;&#19987;&#29992;&#22841;\&#26539;&#21494;&#22914;&#20025;&#35838;&#20214;14.ppt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D:%5C&#37041;&#33487;&#21033;%5C&#26539;&#21494;&#22914;&#20025;&#19987;&#29992;&#22841;%5C&#26539;&#21494;&#22914;&#20025;%20&#35828;&#35838;&#35774;&#35745;1%20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D:\&#37041;&#33487;&#21033;\&#26539;&#21494;&#22914;&#20025;&#19987;&#29992;&#22841;\&#26539;&#21494;&#22914;&#20025; &#35828;&#35838;&#35774;&#35745;1 .ppt" TargetMode="External"/><Relationship Id="rId2" Type="http://schemas.openxmlformats.org/officeDocument/2006/relationships/hyperlink" Target="D:\&#37041;&#33487;&#21033;\&#26539;&#21494;&#22914;&#20025;&#19987;&#29992;&#22841;\&#26539;&#21494;&#22914;&#20025; &#35828;&#35838;&#35774;&#35745;1 .ppt" TargetMode="External"/><Relationship Id="rId3" Type="http://schemas.openxmlformats.org/officeDocument/2006/relationships/hyperlink" Target="D:\&#37041;&#33487;&#21033;\&#26539;&#21494;&#22914;&#20025;&#19987;&#29992;&#22841;\&#26539;&#21494;&#22914;&#20025; &#35828;&#35838;&#35774;&#35745;1 .ppt" TargetMode="External"/><Relationship Id="rId4" Type="http://schemas.openxmlformats.org/officeDocument/2006/relationships/hyperlink" Target="D:\&#37041;&#33487;&#21033;\&#26539;&#21494;&#22914;&#20025;&#19987;&#29992;&#22841;\&#26539;&#21494;&#22914;&#20025; &#35828;&#35838;&#35774;&#35745;1 .ppt" TargetMode="External"/><Relationship Id="rId5" Type="http://schemas.openxmlformats.org/officeDocument/2006/relationships/hyperlink" Target="D:\&#37041;&#33487;&#21033;\&#26539;&#21494;&#22914;&#20025;&#19987;&#29992;&#22841;\&#26539;&#21494;&#22914;&#20025; &#35828;&#35838;&#35774;&#35745;1 .ppt" TargetMode="External"/><Relationship Id="rId6" Type="http://schemas.openxmlformats.org/officeDocument/2006/relationships/hyperlink" Target="D:\&#37041;&#33487;&#21033;\&#26539;&#21494;&#22914;&#20025;&#19987;&#29992;&#22841;\&#26539;&#21494;&#22914;&#20025; &#35828;&#35838;&#35774;&#35745;1 .ppt" TargetMode="External"/><Relationship Id="rId7" Type="http://schemas.openxmlformats.org/officeDocument/2006/relationships/hyperlink" Target="D:%5C&#37041;&#33487;&#21033;%5C&#26539;&#21494;&#22914;&#20025;&#19987;&#29992;&#22841;%5C&#26539;&#21494;&#22914;&#20025;%20&#35828;&#35838;&#35774;&#35745;1%20.ppt" TargetMode="External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D:%5C&#37041;&#33487;&#21033;%5C&#26539;&#21494;&#22914;&#20025;&#19987;&#29992;&#22841;%5C&#26539;&#21494;&#22914;&#20025;%20&#35828;&#35838;&#35774;&#35745;1%20.ppt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D:%5C&#37041;&#33487;&#21033;%5C&#26539;&#21494;&#22914;&#20025;&#19987;&#29992;&#22841;%5C&#26539;&#21494;&#22914;&#20025;%20&#35828;&#35838;&#35774;&#35745;1%20.ppt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D:%5C&#37041;&#33487;&#21033;%5C&#26539;&#21494;&#22914;&#20025;&#19987;&#29992;&#22841;%5C&#26539;&#21494;&#22914;&#20025;%20&#35828;&#35838;&#35774;&#35745;1%20.pp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D:%5C&#37041;&#33487;&#21033;%5C&#26539;&#21494;&#22914;&#20025;&#19987;&#29992;&#22841;%5C&#26539;&#21494;&#22914;&#20025;%20&#35828;&#35838;&#35774;&#35745;1%20.ppt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1773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6600" spc="-1" strike="noStrike">
                <a:solidFill>
                  <a:srgbClr val="0000ff"/>
                </a:solidFill>
                <a:latin typeface="宋体"/>
              </a:rPr>
              <a:t>枫叶如丹》说课设计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五    说教学过程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cc"/>
                </a:solidFill>
                <a:uFillTx/>
                <a:latin typeface="黑体"/>
                <a:ea typeface="黑体"/>
                <a:hlinkClick r:id="rId1"/>
              </a:rPr>
              <a:t>（一）、激情谈话，导入新课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cc"/>
                </a:solidFill>
                <a:uFillTx/>
                <a:latin typeface="黑体"/>
                <a:ea typeface="黑体"/>
                <a:hlinkClick r:id="rId2"/>
              </a:rPr>
              <a:t>（二）、初读课文，整体感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cc"/>
                </a:solidFill>
                <a:uFillTx/>
                <a:latin typeface="黑体"/>
                <a:ea typeface="黑体"/>
                <a:hlinkClick r:id="rId3"/>
              </a:rPr>
              <a:t>（三）、精读课文，理解感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cc"/>
                </a:solidFill>
                <a:uFillTx/>
                <a:latin typeface="黑体"/>
                <a:ea typeface="黑体"/>
                <a:hlinkClick r:id="rId4"/>
              </a:rPr>
              <a:t>（四）、作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．物华天宝，斗转星移，转眼已是秋天。秋天是萧瑟的季节，也是丰收的季节；是成熟的季节，也是获取的季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２．唐代诗人杜牧有首关于秋天枫叶的古诗，谁能背诵？请看这首诗</a:t>
            </a:r>
            <a:r>
              <a:rPr b="0" lang="zh-CN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：（山行  “远上寒山石径斜，白云深处有人家。停车坐爱枫林晚，霜叶红于二月花。”）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这首诗为我们描绘了一幅夕阳夕照，枫叶流丹，层林尽染的秋天美景。秋之霜叶经历了夏秋两季风霜的锤打考验，因而它的生命力更加饱满而茁壮，所以才比二月花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、陈毅元帅诗云：“西山红叶好，霜重色欲浓。” 漫山遍野皆是红叶，在风霜洗礼下红色更鲜艳了。在秋日，枫叶如丹。（板书课题“枫叶如丹”）这“丹”究竟指什么？ （明确：一种红色，在“丹”字下板书“红色”）红色给人以什么样的感觉？（强烈，鲜明，有活力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ree">
            <a:hlinkClick r:id="rId2"/>
          </p:cNvPr>
          <p:cNvSpPr/>
          <p:nvPr/>
        </p:nvSpPr>
        <p:spPr>
          <a:xfrm>
            <a:off x="6110280" y="6208560"/>
            <a:ext cx="3033720" cy="6494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．学生初读课文，借助工具书，解决本课生字难词</a:t>
            </a:r>
            <a:r>
              <a:rPr b="0" lang="zh-CN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。（重点理解：至理名言 心旷神怡   绚烂 静憩等词语的意思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设计意图：让学生通过自学生字词，扫除阅读障碍，为后面学习文章做好充分的准备。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．再读课文。思考：这篇课文分为几部分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这篇文章以空行为标志，把文章分成两部分。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设计意图：让学生从整体上把握文章的结构，对课文有个初步的认识。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8604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．默读课文，划出含义深刻的句子或找出不懂的问题。（学生先自己学习，然后全班交流讨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学生通过讨论难解决的问题有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）为什么说“自然与人世，处处相通？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）“也就在这一刹那间，我恍然明白”了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）什么是“真正的成熟，真正的美”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设计意图：培养学生质疑问难的能力，让学生养成用心读书的习惯，同时老师可以根据学生的问题，有的放矢的展开教学。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8604000" cy="1700280"/>
          </a:xfrm>
          <a:prstGeom prst="rect">
            <a:avLst/>
          </a:prstGeom>
          <a:ln w="0">
            <a:noFill/>
          </a:ln>
        </p:spPr>
      </p:pic>
      <p:sp>
        <p:nvSpPr>
          <p:cNvPr id="156" name="Tree">
            <a:hlinkClick r:id="rId3"/>
          </p:cNvPr>
          <p:cNvSpPr/>
          <p:nvPr/>
        </p:nvSpPr>
        <p:spPr>
          <a:xfrm>
            <a:off x="5508720" y="3716280"/>
            <a:ext cx="2889000" cy="1081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．学习第一部分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在枫叶如丹之前，它曾经是一抹嫩绿。（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播放课件展示“绿的世界”）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朗读关于“绿的世界”的文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“于是，凉风起了，秋天到了。”（引读）“万山红遍，枫叶如丹。丹是成熟的颜色，是果实的颜色，是收获者的颜色，又是孕育着新的生命的颜色。”（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播放课件展示“丹的天地”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春去秋来，自然界也由绿的世界变为丹的天地，这需要一个过程，自然界万物都要经历这个过程，它是（学生接着说）撒种、发芽、吐叶、开花、结实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枫叶如丹，由最初的嫩绿到后来的嫣红，不知经过了多少暴雨的袭打，不知经历了多少风霜的洗礼。这“丹”仅仅是普普通通的红色吗？“丹”是一种蕴含了什么意义的颜色？（让学生再读“丹是成熟的颜色，是果实的颜色，是收获者的颜色，又是孕育着新的生命的颜色。”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自然界植物都要经历“撒种、发芽、吐叶、开花、结实”的过程。那么我们人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自然界植物要“撒种、发芽、吐叶、开花、结实”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人生也如此，它要经历（学生接着说）孕育、诞生、长大、挫折、成熟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所以天地万物、人间万事，（引导学生齐读第一部分最后一段：天地万物，人间万事，无一不贯穿这个共同的过程。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而且，自然与人世处处相通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。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时间就像一位魔法师，以绿叶为底料，加上狂风、暴雨和寒霜为佐料，精心酿制出了一坛颜色深红香气扑鼻的葡萄酒，酿出的是枫叶如丹般的色泽。枫叶如丹，这“丹”代表了一种颜色，更蕴含了一个过程。枫叶如丹的历程是一种怎样的历程？谁给我们读读？（个别读后再引导学生齐读“孕育、诞生、长大、挫折、成熟”）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8893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学习第二部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）自然界的变化是枫叶如丹的历程，人世间的变化是否也是这样？自然与人世，真的处处相通吗？下面我们带着好奇一起看看第二部分。看看作者亲身经历了一件什么事，从中他体会到了什么。快速默读课文，思考两个问题</a:t>
            </a:r>
            <a:r>
              <a:rPr b="0" lang="zh-CN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（课件出示自读提示）：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①第二部分叙述了一件什么事？（写照相的经过）②第二部分与第一部分内容有何不同？如何衔接起来？（过渡段衔接抒情与叙事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设计意图：让学生对这一部分有一个整体的感悟，同时培养学生的概括能力。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）讨论：作者对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R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先生家的枫树的印象，有几次变化？（指导朗读）</a:t>
            </a:r>
            <a:r>
              <a:rPr b="0" lang="zh-CN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课件出示：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①红艳艳的枫叶，挂满一树，铺满一地。②再望望那株枫树，竟如一位凄苦的老人在晨风中垂头无语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）作者为什么要用一位凄苦的老人来比喻枫树呢？（</a:t>
            </a:r>
            <a:r>
              <a:rPr b="0" lang="zh-CN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学生讨论交流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师小结：老人的心态是孤独、凄凉的，这株枫树与老人的相似之处是一样的孤独寂寞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就在这一刹那间，我按动了快门，“这一刹那”指哪个时刻？作者为什么要在那一刹那按动快门呢？（让学生畅所欲言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设计意图；通过这一环节的设计，激起学生对生命的热爱。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师进一步引导、读：“刹那间，小木门开了……”（引读关于小女孩出现的文字，指导朗读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）莉贝卡“蹦”、“跑”、“跳跃”、“哼”。一段文字中，既有动作又有声音，真是绘声绘色啊！充满活力的莉贝卡的出现为这幅寂寥的秋日图景补充了什么色彩？（莉贝卡的出现打破了画面清冷的状况，使画面有了动感。这个八九岁的小女孩就像一片初生的绿叶，她一出现，一股鲜活的生命的气息扑面而来，作者的心灵深处斗然一震，灵感如泉水般汩汩涌出，所以迅速按下快门，拍下一张很具艺术气息的照片，并命名为“秋之生命”。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）于是，就在“刹那间，我按下快门……”（引读关于作者照相和为之命名的文字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那么，请你们思考：这张照片为什么命名为“秋之生命”？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如果给你这张照片，你会取怎样的名字呢？（生命之树，秋之枫叶等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设计意图：培养学生的语言概括能力，深化文章主题。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8604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）秋季是个无比美好的季节，在秋季我们有着丰富多采的活动，去郊外采摘红彤彤的苹果，在校园里拾起金黄的落叶，与同学结伴去秋游……你们就像莉贝卡一样，为秋天注入了无限的生命活力。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请用下面的句式说说你喜欢的秋季活动：秋天真是美好，天空是那么蓝，我喜欢（                   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设计意图：培养学生的语言概括能力、积累运用能力，让生切实感受生命给予秋天的美。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）你们是秋天中最鲜活的生命，你们的跳跃是秋天里最动人的风景，你们的笑脸是秋天里最美丽的果实。因为有了生命的跳动，秋天不再萧瑟，不再冷清，不再寂寥，而是积蓄了生命的内在力量、喷薄欲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）当作者看到如同你们一样鲜活的生命——莉贝卡时，在那一刹那间，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作者到底恍然明白了什么？（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引读“枫叶如丹，也许由于有跳跃的、欢乐的生命，也许它本身正是有丰富内涵的生命，才更使人感到真、善、美，感到它的真正价值，而且感受得那么真切”。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有感情的朗读这一段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设计意图：通过设计这一问题，让学生对文章内容有更深层次的理解和认识。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）枫叶如丹，这“丹”是热烈的红色，是血液的颜色，是生命的颜色。当我们的血管里不再流淌着如丹的血液，当我们的一片丹心停止了跳动，生命也就走到了尽头。枫叶如丹，“丹”即是什么？（秋天的生命，跳跃的、欢乐的生命，有丰富内涵的生命）（板书“生命”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设计意图：通过设计这一问题，让学生对文章内容有更深层次的理解和认识。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）“落红不是无情物，化作春泥更护花。”这些如丹的枫叶，有天秋风会带走它们，使它们悄然飘落在泥土里。它们在土壤里静静地为来年孕育了新的生命。它们的生命是不死的，等到春天，他们又开始“发芽吐叶”，又探上枝头向我们绽开笑颜。年年岁岁，周而复始，始而复周。生命就在这四季的轮回中繁衍不息，我们人类也在历史的长河中代代相传。枫叶如丹，它所显示的生命活力是短暂脆弱的吗？是昙花一现的吗？（待学生回答“不是”）那么枫叶如丹显示的是一种怎样的生命力啊？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引读：枫叶如丹，显示着长久的生命力。“霜叶红于二月花”，经历了这个境界，才是真正的成熟，真正的美。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（在“生命”二字前板书“长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设计意图；让学生树立正确的人生观及价值观，从而理解了文章的中心。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]”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）有感情的朗读课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设计意图：通过有感情的朗读课文，让学生进一步体会文章的中心，感受散文的语言美，从而积累语言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ree">
            <a:hlinkClick r:id="rId1"/>
          </p:cNvPr>
          <p:cNvSpPr/>
          <p:nvPr/>
        </p:nvSpPr>
        <p:spPr>
          <a:xfrm>
            <a:off x="7885080" y="5300640"/>
            <a:ext cx="1809720" cy="8175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一、说教材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5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（一）教材简析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5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（二）教育目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5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（三）</a:t>
            </a:r>
            <a:r>
              <a:rPr b="0" lang="zh-CN" sz="5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教学重点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5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（四）</a:t>
            </a:r>
            <a:r>
              <a:rPr b="0" lang="zh-CN" sz="5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教学难点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ree">
            <a:hlinkClick r:id="rId7"/>
          </p:cNvPr>
          <p:cNvSpPr/>
          <p:nvPr/>
        </p:nvSpPr>
        <p:spPr>
          <a:xfrm>
            <a:off x="6588000" y="4221000"/>
            <a:ext cx="1809720" cy="1810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四、作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、选择你最喜欢的一段熟读背诵，体会语言的韵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关于秋天的树叶，有一本著名的关于生命的童话书，叫做《一片叶子落下来》。可以找来读读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六   说板书设计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我的板书设计简洁明晰，展现了重难点突破的过程， 渗透了对作者感悟的体会，充分体现了此文读中感悟的要求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                          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枫叶如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                                     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红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                     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长久             生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042920" y="2133720"/>
            <a:ext cx="506880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谢谢大家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77336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教材简析</a:t>
            </a:r>
            <a:br>
              <a:rPr sz="40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本课是当代著名作家袁鹰的作品</a:t>
            </a:r>
            <a:r>
              <a:rPr b="1" lang="en-US" sz="3600" spc="-1" strike="noStrike">
                <a:solidFill>
                  <a:srgbClr val="0099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这是一篇叙事散文。作者通过记叙访问澳大利亚时，照一张照片的经过这样一个小故事，表达了对自然界及人世的态度和看法</a:t>
            </a:r>
            <a:r>
              <a:rPr b="1" lang="en-US" sz="3600" spc="-1" strike="noStrike">
                <a:solidFill>
                  <a:srgbClr val="0099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即“枫叶如丹，显示着长久的生命力”；“‘霜叶红于二月花’，经历了这个境界，才是真正的成熟，真正的美。” </a:t>
            </a:r>
            <a:r>
              <a:rPr b="1" lang="en-US" sz="3600" spc="-1" strike="noStrike">
                <a:solidFill>
                  <a:srgbClr val="009900"/>
                </a:solidFill>
                <a:latin typeface="宋体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1700280"/>
          </a:xfrm>
          <a:prstGeom prst="rect">
            <a:avLst/>
          </a:prstGeom>
          <a:ln w="0">
            <a:noFill/>
          </a:ln>
        </p:spPr>
      </p:pic>
      <p:sp>
        <p:nvSpPr>
          <p:cNvPr id="127" name="Tree">
            <a:hlinkClick r:id="rId2"/>
          </p:cNvPr>
          <p:cNvSpPr/>
          <p:nvPr/>
        </p:nvSpPr>
        <p:spPr>
          <a:xfrm>
            <a:off x="6877080" y="6381720"/>
            <a:ext cx="1809720" cy="4762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教育目标</a:t>
            </a:r>
            <a:br>
              <a:rPr sz="4000"/>
            </a:b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　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、学会本课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个生字，理解“至理名言、 心旷神怡 、绚烂、静憩”等重点词语的意思。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、熟读课文，了解作者照照片的经过，以及对自然界与人世的看法，体会作者的感悟。</a:t>
            </a:r>
            <a:br>
              <a:rPr sz="2800"/>
            </a:b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、培养积累语言，体味语言的情趣，树立正确的人生观、价值观。</a:t>
            </a:r>
            <a:br>
              <a:rPr sz="3200"/>
            </a:b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、理解关键句子在文章结构中起到的作用；学会如何领悟作者思想感情发展的脉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ree">
            <a:hlinkClick r:id="rId1"/>
          </p:cNvPr>
          <p:cNvSpPr/>
          <p:nvPr/>
        </p:nvSpPr>
        <p:spPr>
          <a:xfrm>
            <a:off x="6588000" y="5634000"/>
            <a:ext cx="1809720" cy="1224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Times New Roman"/>
              </a:rPr>
              <a:t>教学重点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         </a:t>
            </a:r>
            <a:r>
              <a:rPr b="0" lang="zh-CN" sz="6600" spc="-1" strike="noStrike">
                <a:solidFill>
                  <a:srgbClr val="00cc00"/>
                </a:solidFill>
                <a:latin typeface="Times New Roman"/>
              </a:rPr>
              <a:t>借物喻理的写作手法；秋天的文化含义与品读。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ree">
            <a:hlinkClick r:id="rId1"/>
          </p:cNvPr>
          <p:cNvSpPr/>
          <p:nvPr/>
        </p:nvSpPr>
        <p:spPr>
          <a:xfrm>
            <a:off x="4859280" y="4437000"/>
            <a:ext cx="2673360" cy="13669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教学难点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00"/>
                </a:solidFill>
                <a:latin typeface="Times New Roman"/>
              </a:rPr>
              <a:t>：引导学生理解秋天的意蕴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248000" cy="4365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0" t="0" r="666" b="2662"/>
          <a:stretch/>
        </p:blipFill>
        <p:spPr>
          <a:xfrm>
            <a:off x="4572000" y="2492280"/>
            <a:ext cx="4541760" cy="4249800"/>
          </a:xfrm>
          <a:prstGeom prst="rect">
            <a:avLst/>
          </a:prstGeom>
          <a:ln w="0">
            <a:noFill/>
          </a:ln>
        </p:spPr>
      </p:pic>
      <p:sp>
        <p:nvSpPr>
          <p:cNvPr id="138" name="Tree">
            <a:hlinkClick r:id="rId3"/>
          </p:cNvPr>
          <p:cNvSpPr/>
          <p:nvPr/>
        </p:nvSpPr>
        <p:spPr>
          <a:xfrm>
            <a:off x="7334280" y="0"/>
            <a:ext cx="1809720" cy="2205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二说学情</a:t>
            </a:r>
            <a:br>
              <a:rPr sz="48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五年级的学生，对于生字、词已经有了很强的自学能力。所以，教师应放手让学生自学。对于散文这种体裁，学生在以前的学习中已经有所接触。但是，这篇课文语言简练，含义深刻，字里行间无不充盈着作者对自然界及人世的热爱，包蕴了作者的人生观，价值观。学生由于年龄及阅历所限，对此，可能不易理解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三    说教法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　　《语文课程标准》中指出：阅读是学生的个性化行为，应让学生在主动、积极的思维和情感活动中，加深理解和体验，有所感悟和思考。倡导“自主、合作、探究”的学习方式。因此，在教学中，我采用以下方法。①  从兴趣入手，对学生进行听、说、读、写的语言文字训练；②运用情景教学法，通过课件，使学生进入情景，了解枫叶如丹的秋天的确很美，然而有了跳跃、欢乐的生命，有了真正丰富的内涵，才是更完美的。③运用启发式教学，精心设计富有启发性，针对性，层次性的问题；④训练以读为本，以学为主，精心选择运用与读书相关的演示，讲解、提问、议论等方法，使学生以读促写，以读学写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四   说学法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、充分运用读、思、议、练的方法学习课文，做到以读为本，注重读的效果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、通过学习课文的语言文字，了解“枫叶如丹，显示着长久的生命力”等句子的含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、注重课堂交流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做到师生间交流，学生间交流，充分尊重个体差异，让每一位同学投入到交流中，共同体验成功的欢乐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7:34:43Z</dcterms:created>
  <dc:creator>Toy</dc:creator>
  <dc:description/>
  <dc:language>en-US</dc:language>
  <cp:lastModifiedBy>User</cp:lastModifiedBy>
  <dcterms:modified xsi:type="dcterms:W3CDTF">2015-06-30T07:46:25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