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5D80-8EEF-4962-A410-8765616F8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F175-1CC8-4F33-A5C3-A3927ADF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BC83-303F-433C-8D84-E5B13CAE3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2B96-1AF3-44F4-958C-A03482CD4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39DA-90D3-450A-B6A6-4C11DB521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36F6-B882-48C5-936A-080B3B3D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1203-EABF-40E5-8CEB-A582890F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49EE-44E9-4C93-83F8-0041EA2B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4318-E6D1-4AC6-A46C-21EF8377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4DE6-D22F-42E5-974D-29600D07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17F7-C5B9-491E-A084-A86680E0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4351-3F83-4550-B94D-0EDA967B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7B59-4F33-47D7-9170-556F1325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759DA-0BA4-4776-B953-538BBC6D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2DB1-BB5F-4BA6-89DE-42EC5E5D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8154-2BD0-4B6C-A334-DC70469F6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D20EC-F715-4F78-8208-ECC2075CF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D845-EBDC-4437-8DF6-BC8C7565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7A62-0088-4678-879F-66A2769C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BF13-75F5-49AF-8B53-5FCC1705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AC93-61EB-4F8B-B8A9-448B1DC9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287E-AC36-4C8E-996E-C5FB5524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0AD1-1E81-4CFB-A8AE-028D5895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CFCE-086F-49E1-9393-50FB61EC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B091-EE31-488F-AD66-654328CD6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14A7-E503-4B35-A703-9A28A2DED927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4" name="Picture 5" descr="2005041012551710087"/>
          <p:cNvPicPr/>
          <p:nvPr/>
        </p:nvPicPr>
        <p:blipFill>
          <a:blip r:embed="rId1"/>
          <a:stretch/>
        </p:blipFill>
        <p:spPr>
          <a:xfrm>
            <a:off x="0" y="-385920"/>
            <a:ext cx="9540720" cy="72439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0" y="0"/>
            <a:ext cx="61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语文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版五年级语文上册第八单元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何"/>
          <p:cNvPicPr/>
          <p:nvPr/>
        </p:nvPicPr>
        <p:blipFill>
          <a:blip r:embed="rId1"/>
          <a:stretch/>
        </p:blipFill>
        <p:spPr>
          <a:xfrm>
            <a:off x="0" y="0"/>
            <a:ext cx="9144000" cy="7047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42560" y="764640"/>
            <a:ext cx="7201080" cy="55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奥斯卡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·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王尔德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(1854—1900)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，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19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世纪末英国唯美主义的代表作家、诗人、剧作家和童话作家。生于首都柏林的一个家世卓越的家庭。曾在英国牛津大学攻读古希腊的经典著作，并开始文学创作活动。二十四岁，他的诗作就荣获大奖。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1888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年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月，他的第一部童话集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快乐王子及其它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出版，立刻轰动一时。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1891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年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12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月，他的另一部童话集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石榴之屋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问世。英国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典雅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杂志将他和安徒生相提并论，说他的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自私的巨人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堪称“完美之作”。</a:t>
            </a:r>
            <a:endParaRPr b="0" lang="en-US" sz="1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042920" y="1125360"/>
            <a:ext cx="30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9900"/>
                </a:solidFill>
                <a:latin typeface="Arial"/>
              </a:rPr>
              <a:t>作者简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2000" y="1125000"/>
            <a:ext cx="6408720" cy="359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自读要求：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读通课文，读准字音，不懂的词语查字典或问同学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想想课文讲了一件什么事？</a:t>
            </a:r>
            <a:endParaRPr b="0" lang="en-US" sz="32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个在"/>
          <p:cNvPicPr/>
          <p:nvPr/>
        </p:nvPicPr>
        <p:blipFill>
          <a:blip r:embed="rId1"/>
          <a:srcRect l="0" t="0" r="0" b="1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79280" y="1557000"/>
            <a:ext cx="698508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穷妇人      红宝石             </a:t>
            </a:r>
            <a:br>
              <a:rPr sz="4000"/>
            </a:b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穷学生      一只眼睛            </a:t>
            </a:r>
            <a:br>
              <a:rPr sz="4000"/>
            </a:b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小女孩      另一只眼睛             </a:t>
            </a:r>
            <a:br>
              <a:rPr sz="4000"/>
            </a:b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乞丐们      身上的金片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436572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ll"/>
          <p:cNvPicPr/>
          <p:nvPr/>
        </p:nvPicPr>
        <p:blipFill>
          <a:blip r:embed="rId1"/>
          <a:stretch/>
        </p:blipFill>
        <p:spPr>
          <a:xfrm>
            <a:off x="-395280" y="-601560"/>
            <a:ext cx="9752040" cy="74595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4200" y="856800"/>
            <a:ext cx="468648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默读课文，找出文中表现快乐王子善良、舍己为人的语句，谈谈自己的体会。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04760" y="562680"/>
            <a:ext cx="893448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第二天一早，市长由市参议员们陪同着散步来到下面的广场。他们走过圆柱的时候，市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长抬头看了一眼雕像，“我的天啊！快乐王子怎么如此难看！”他说。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真是难看极了！”市参议员们异口同声地叫道，他们平时总跟市长一个腔调。说完大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家纷纷走上前去细看个明白。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他剑柄上的红宝石已经掉了，蓝宝石眼珠也不见了，他也不再是黄金的了，”市长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说，“实际上，他比一个要饭的乞丐强不了多少！”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确比要饭的强不了多少，”市参议员们附和着说。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还有在他的脚下躺着一只死鸟！”市长继续说，“我们真应该发布一个声明，禁止鸟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类死在这个地方。”于是市书记员把这个建议记录了下来。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后来他们就把快乐王子的雕像给推倒了。“既然他已不再美丽，那么也就不再有用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了，”大学的美术教授说。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接着他们把雕像放在炉里熔化了，市长还召集了一次市级的会议来决定如何处理这些金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属，当然，我们必须再铸一个雕像。”他说，“那应该就是我的雕像。”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的雕像，”每一位市参议员都争着说，他们还吵了起来。我最后听到人们说起他们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时，他们的争吵仍未结束。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多么稀奇古怪的事！”铸像厂的工头说，“这颗破裂的铅心在炉子里熔化不了。我们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只好把它扔掉。”他们便把它扔到了垃圾堆里，死去的那只燕子也躺在那儿。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把城市里最珍贵的两件东西给我拿来，”上帝对他的一位天使说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于是天使就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把铅心 和死鸟给上帝带了回来。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你的选择对极了，”上帝说，“因为在我这天堂的花园里，小鸟可以永远地放声歌唱，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而在我那黄金的城堡中，快乐王子可以尽情地赞美我。”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gg"/>
          <p:cNvPicPr/>
          <p:nvPr/>
        </p:nvPicPr>
        <p:blipFill>
          <a:blip r:embed="rId1"/>
          <a:stretch/>
        </p:blipFill>
        <p:spPr>
          <a:xfrm>
            <a:off x="-322200" y="-385920"/>
            <a:ext cx="10094760" cy="72439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2565360"/>
            <a:ext cx="7313760" cy="19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名言警句</a:t>
            </a:r>
            <a:br>
              <a:rPr sz="2400"/>
            </a:b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●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一片忠诚是长寿之本，满怀善良是快乐之源。</a:t>
            </a: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●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快乐是件奇怪的东西，绝不因为你给了别人而减少。有时你分给别人的越多，自己得到的越多。</a:t>
            </a: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●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每天做一件令别人愉快的事，自己也会特别快乐。</a:t>
            </a:r>
            <a:br>
              <a:rPr sz="3200"/>
            </a:br>
            <a:endParaRPr b="0" lang="en-US" sz="2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飞"/>
          <p:cNvPicPr/>
          <p:nvPr/>
        </p:nvPicPr>
        <p:blipFill>
          <a:blip r:embed="rId1"/>
          <a:stretch/>
        </p:blipFill>
        <p:spPr>
          <a:xfrm>
            <a:off x="0" y="-684360"/>
            <a:ext cx="9144000" cy="7542360"/>
          </a:xfrm>
          <a:prstGeom prst="rect">
            <a:avLst/>
          </a:prstGeom>
          <a:ln w="0">
            <a:noFill/>
          </a:ln>
        </p:spPr>
      </p:pic>
      <p:pic>
        <p:nvPicPr>
          <p:cNvPr id="100" name="WordArt 7" descr=""/>
          <p:cNvPicPr/>
          <p:nvPr/>
        </p:nvPicPr>
        <p:blipFill>
          <a:blip r:embed="rId2"/>
          <a:stretch/>
        </p:blipFill>
        <p:spPr>
          <a:xfrm>
            <a:off x="828720" y="189000"/>
            <a:ext cx="7638840" cy="5184720"/>
          </a:xfrm>
          <a:prstGeom prst="rect">
            <a:avLst/>
          </a:prstGeom>
          <a:ln w="0">
            <a:noFill/>
          </a:ln>
        </p:spPr>
      </p:pic>
      <p:pic>
        <p:nvPicPr>
          <p:cNvPr id="101" name="轻音乐 - 电子琴 - 快乐老家 快乐下载.mp3" descr=""/>
          <p:cNvPicPr/>
          <p:nvPr/>
        </p:nvPicPr>
        <p:blipFill>
          <a:blip r:embed="rId3"/>
          <a:stretch/>
        </p:blipFill>
        <p:spPr>
          <a:xfrm>
            <a:off x="4654440" y="76500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241596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3T03:09:32Z</dcterms:created>
  <dc:creator>21cnjy</dc:creator>
  <dc:description>21cnjy</dc:description>
  <cp:keywords>21cnjy</cp:keywords>
  <dc:language>en-US</dc:language>
  <cp:lastModifiedBy>Administrator</cp:lastModifiedBy>
  <dcterms:modified xsi:type="dcterms:W3CDTF">2016-12-15T02:03:10Z</dcterms:modified>
  <cp:revision>30</cp:revision>
  <dc:subject>21cnjy</dc:subject>
  <dc:title>21cnj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47</vt:lpwstr>
  </property>
  <property fmtid="{D5CDD505-2E9C-101B-9397-08002B2CF9AE}" pid="3" name="NXTAG2">
    <vt:lpwstr>0008003009000000000001024120</vt:lpwstr>
  </property>
</Properties>
</file>