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3F78-DF45-4F32-8CD7-874EEE2FF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7C2F-39E8-40B4-8497-8A7816241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A967-8D73-4F69-ABB2-4DAC3574A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671E-958D-459E-BBC6-8A88F1F41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44925-B075-43F4-AF83-5B41B5E6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EBA0E-69AD-427C-8B64-BBE3E26C5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8447-136F-43FA-8F47-1D8374FAD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1D86-163D-4B75-8645-FAB58E537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5F6D9-5B76-40F6-87B3-59BC101C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8A4AD-AF29-4EEE-A775-F286BDECF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2BACF-2EED-4D7F-9C17-E607B69C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1808-E640-4C03-A1F3-ACD4D450B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E81CB-CBBE-46F4-8BD2-8AE1B0F90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F5E0F-461B-4E00-AC8B-9A8DB2FC1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9E5B3-21B6-4D4D-90E8-C4C59DFB0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AFD2-E7B6-44BC-ADB2-192A1ED87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41264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75760"/>
            <a:ext cx="264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05AB2-179D-4384-9847-B44944E87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7CB43-DE89-4233-ADA6-BA685F9E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2FEF-A19C-4FEB-BED8-12EC24D1F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AEAA-F5E6-4888-973F-9BB62BC2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576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803A-3833-439B-B104-CDD4C7990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050C-008D-4FB5-9746-240384A9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7576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4002-1225-4F9E-A359-B44A7D34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12640"/>
            <a:ext cx="40158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75760"/>
            <a:ext cx="8229600" cy="224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4163-D92F-4B9A-A5DB-FCC85D0F3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3CF40-5C2B-4615-A52C-029C45C2D1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5760"/>
            <a:ext cx="8229600" cy="9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9B14-8151-4B3E-9B24-BF3D1B0347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" descr="C:\Users\Administrator\AppData\Roaming\Tencent\Users\809194935\QQ\WinTemp\RichOle\BND3BC~)]VJ0$0F84POZ(%8.jpg"/>
          <p:cNvPicPr/>
          <p:nvPr/>
        </p:nvPicPr>
        <p:blipFill>
          <a:blip r:embed="rId1"/>
          <a:stretch/>
        </p:blipFill>
        <p:spPr>
          <a:xfrm>
            <a:off x="0" y="0"/>
            <a:ext cx="10344240" cy="707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4959176_145400889734_2"/>
          <p:cNvPicPr/>
          <p:nvPr/>
        </p:nvPicPr>
        <p:blipFill>
          <a:blip r:embed="rId1"/>
          <a:stretch/>
        </p:blipFill>
        <p:spPr>
          <a:xfrm>
            <a:off x="-303120" y="-307800"/>
            <a:ext cx="9752040" cy="7475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291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春节风俗歌谣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十三，糖瓜粘 ；二十四，写大字 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十五，扫尘土 ；二十六，来煮肉 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十七，杀公鸡 ；二十八，把面发 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二十九，蒸馒头 ；三十晚上守一宿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一起来走一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4959176_145400889734_2"/>
          <p:cNvPicPr/>
          <p:nvPr/>
        </p:nvPicPr>
        <p:blipFill>
          <a:blip r:embed="rId1"/>
          <a:stretch/>
        </p:blipFill>
        <p:spPr>
          <a:xfrm>
            <a:off x="-303120" y="-307800"/>
            <a:ext cx="9752040" cy="74754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114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腊八节传说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农历十二月初八（农历十二月被称为腊月），是我国汉族传统的腊八节，这天我国大多数地区都有吃腊八粥的习俗。先秦起，腊八节都是用来祭祀祖先和神灵，祈求丰收和吉祥。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据说，佛教创始人释迦牟尼的成道之日也在十二月初八，因此腊八也是佛教徒的节日，又称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佛成道节</a:t>
            </a:r>
            <a:r>
              <a:rPr b="1" lang="zh-CN" sz="2400" spc="-1" strike="noStrike">
                <a:solidFill>
                  <a:srgbClr val="000000"/>
                </a:solidFill>
                <a:latin typeface="华文细黑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腊八           杏               腾        汤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台                          油           腊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               浓稠       红枣           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手可得           仁至义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1966320" y="57780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828600" y="5619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5190480" y="5475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7655760" y="5666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1174320" y="1652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3642120" y="1657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肿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5917680" y="16477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1661400" y="2762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1188360" y="38577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7160760" y="2762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读课文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标清自然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读准字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 读通句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默读课文，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作者围绕腊八粥讲了一件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习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读文并思考，你从哪可以看出八儿急切想吃腊八粥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2T14:35:19Z</dcterms:created>
  <dc:creator/>
  <dc:description/>
  <cp:keywords/>
  <dc:language>en-US</dc:language>
  <cp:lastModifiedBy>Administrator</cp:lastModifiedBy>
  <dcterms:modified xsi:type="dcterms:W3CDTF">2016-12-15T01:58:10Z</dcterms:modified>
  <cp:revision>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47</vt:lpwstr>
  </property>
  <property fmtid="{D5CDD505-2E9C-101B-9397-08002B2CF9AE}" pid="3" name="NXTAG2">
    <vt:lpwstr>000800a803000000000001024120</vt:lpwstr>
  </property>
  <property fmtid="{D5CDD505-2E9C-101B-9397-08002B2CF9AE}" pid="4" name="Version">
    <vt:r8>1</vt:r8>
  </property>
</Properties>
</file>