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gif" ContentType="image/gif"/>
  <Override PartName="/ppt/media/image10.jpeg" ContentType="image/jpeg"/>
  <Override PartName="/ppt/media/image8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20C-6C29-408D-B561-D7C47A0AB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F1A-C121-4783-AAD0-A358E1B2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074-1748-4C13-9668-CA902ECC6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8A92-9319-4808-92E9-56ADF087F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6BAA-FADD-4767-ABBF-703135A6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6EFC-FDF3-4F7D-901F-83445F4E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624B-253F-43C8-9707-1979DA49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EEF-B881-4F3C-8B60-06A1812C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D3B2-1A6F-4F9D-A819-44AB1F5CE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030-D309-4DC6-8742-30F2CCE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1813-A67D-4F58-AAFD-693ECC94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A08C-7600-403A-A119-39987CE3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FDC9-58E0-411C-B703-C0A8A817B6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baike.baidu.com/view/188299.htm" TargetMode="External"/><Relationship Id="rId3" Type="http://schemas.openxmlformats.org/officeDocument/2006/relationships/hyperlink" Target="http://baike.baidu.com/view/2176.htm" TargetMode="External"/><Relationship Id="rId4" Type="http://schemas.openxmlformats.org/officeDocument/2006/relationships/hyperlink" Target="http://baike.baidu.com/view/4410.htm" TargetMode="External"/><Relationship Id="rId5" Type="http://schemas.openxmlformats.org/officeDocument/2006/relationships/hyperlink" Target="http://baike.baidu.com/view/4111.htm" TargetMode="External"/><Relationship Id="rId6" Type="http://schemas.openxmlformats.org/officeDocument/2006/relationships/hyperlink" Target="http://baike.baidu.com/view/2655.htm" TargetMode="External"/><Relationship Id="rId7" Type="http://schemas.openxmlformats.org/officeDocument/2006/relationships/hyperlink" Target="http://baike.baidu.com/view/4976.htm" TargetMode="External"/><Relationship Id="rId8" Type="http://schemas.openxmlformats.org/officeDocument/2006/relationships/hyperlink" Target="http://baike.baidu.com/view/28270.htm" TargetMode="External"/><Relationship Id="rId9" Type="http://schemas.openxmlformats.org/officeDocument/2006/relationships/hyperlink" Target="http://baike.baidu.com/view/73645.htm" TargetMode="External"/><Relationship Id="rId10" Type="http://schemas.openxmlformats.org/officeDocument/2006/relationships/hyperlink" Target="http://baike.baidu.com/view/4102.htm" TargetMode="External"/><Relationship Id="rId11" Type="http://schemas.openxmlformats.org/officeDocument/2006/relationships/hyperlink" Target="http://baike.baidu.com/view/27201.htm" TargetMode="External"/><Relationship Id="rId12" Type="http://schemas.openxmlformats.org/officeDocument/2006/relationships/hyperlink" Target="http://baike.baidu.com/view/671.htm" TargetMode="Externa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view/2717.htm" TargetMode="External"/><Relationship Id="rId2" Type="http://schemas.openxmlformats.org/officeDocument/2006/relationships/hyperlink" Target="http://baike.baidu.com/view/112125.htm" TargetMode="External"/><Relationship Id="rId3" Type="http://schemas.openxmlformats.org/officeDocument/2006/relationships/hyperlink" Target="http://baike.baidu.com/view/61891.htm" TargetMode="External"/><Relationship Id="rId4" Type="http://schemas.openxmlformats.org/officeDocument/2006/relationships/hyperlink" Target="http://baike.baidu.com/view/7468.htm" TargetMode="External"/><Relationship Id="rId5" Type="http://schemas.openxmlformats.org/officeDocument/2006/relationships/hyperlink" Target="http://baike.baidu.com/view/135602.htm" TargetMode="External"/><Relationship Id="rId6" Type="http://schemas.openxmlformats.org/officeDocument/2006/relationships/hyperlink" Target="http://baike.baidu.com/view/169458.htm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u=14707156,1606573799&amp;fm=51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3" descr=""/>
          <p:cNvPicPr/>
          <p:nvPr/>
        </p:nvPicPr>
        <p:blipFill>
          <a:blip r:embed="rId2"/>
          <a:stretch/>
        </p:blipFill>
        <p:spPr>
          <a:xfrm>
            <a:off x="1463760" y="974880"/>
            <a:ext cx="64738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-10122920134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900000" y="836640"/>
            <a:ext cx="7488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下面的句子，联系自己的生活和学习经验，谈谈你对句子的理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知之为知之，不知 为不知，是 知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611280" y="3860640"/>
            <a:ext cx="77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知道就是知道，不知道就是不知道，这才是真正的智慧表现。在学习上，不可以不懂装懂，应该坦然面对自己知识上的盲点，不知道的应该虚心求教，知道的就确信是自己所储存的知识积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-10122920134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042920" y="692280"/>
            <a:ext cx="777708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拓展与运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一想，你身边的同学、朋友他们身上有哪些值得你“见贤思齐”的方，有那些地方让你“见不贤而内自省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1-101229201348[1]"/>
          <p:cNvPicPr/>
          <p:nvPr/>
        </p:nvPicPr>
        <p:blipFill>
          <a:blip r:embed="rId1"/>
          <a:stretch/>
        </p:blipFill>
        <p:spPr>
          <a:xfrm>
            <a:off x="519120" y="223920"/>
            <a:ext cx="8105760" cy="64101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684360" y="3141720"/>
            <a:ext cx="71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子曰：“三人行，必有我师焉。择其善者而从之，其不善者改之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4360" y="134136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子曰：“学而时习之，不亦说乎？有朋自远方来，不亦乐乎？人不知而不愠，不亦君子乎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84360" y="4724280"/>
            <a:ext cx="82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、子曰：“学而不思则罔，思而不学则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1116000" y="333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积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以致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复习的好处可以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来表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与思考应紧密结合，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别人总有自己学习的地方，孔子说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学习上不应不懂装懂，而应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3995640" y="20606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温故而知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247400" y="3213000"/>
            <a:ext cx="301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学而不思则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而不学则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980360" y="4437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人行必有我师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5924880" y="5013360"/>
            <a:ext cx="258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之为知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知为不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24000" y="691920"/>
            <a:ext cx="854064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个人要经常反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孔子是：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快步上前，伸出双臂，拥抱来自青岛的朋友，二千多年前的孔夫子不是说过吗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830680" y="1341360"/>
            <a:ext cx="32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见贤思齐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见不贤而内自省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327400" y="3789360"/>
            <a:ext cx="258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朋自远方来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亦乐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论语"/>
          <p:cNvPicPr/>
          <p:nvPr/>
        </p:nvPicPr>
        <p:blipFill>
          <a:blip r:embed="rId1"/>
          <a:stretch/>
        </p:blipFill>
        <p:spPr>
          <a:xfrm>
            <a:off x="0" y="0"/>
            <a:ext cx="565164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3"/>
          <p:cNvSpPr/>
          <p:nvPr/>
        </p:nvSpPr>
        <p:spPr>
          <a:xfrm>
            <a:off x="5724360" y="115920"/>
            <a:ext cx="341964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论语》是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儒家学派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经典著作之一，由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孔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弟子及其再传弟子编撰而成。它以语录体和对话文体为主，记录了孔子及其弟子言行，集中体现了孔子的政治主张、论理思想、道德观念及教育原则等。与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大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中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孟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诗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尚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礼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易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春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》并称“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四书五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”。通行本《论语》共二十篇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4967280" y="193680"/>
            <a:ext cx="417672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孔子（公元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55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（－公元前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7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日），子姓， 孔氏，名丘，字仲尼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汉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鲁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陬邑（今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中国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山东省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曲阜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南辛镇）人，祖上为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宋国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今河南商丘）贵族。中国春秋末期的思想家和教育家，儒家思想的创始人。孔子集华夏上古文化之大成，在世时已被誉为“天纵之圣”、“天之木铎”，是当时社会上最博学者之一，并且被后世统治者尊为孔圣人、至圣、 至圣先师、万世师表。孔子和儒家思想对中国和朝鲜半岛、日本、越南等地区有深远的影响，这些地区又被称为儒家文化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孔夫子"/>
          <p:cNvPicPr/>
          <p:nvPr/>
        </p:nvPicPr>
        <p:blipFill>
          <a:blip r:embed="rId7"/>
          <a:stretch/>
        </p:blipFill>
        <p:spPr>
          <a:xfrm>
            <a:off x="0" y="0"/>
            <a:ext cx="47163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Control 3" descr=""/>
          <p:cNvPicPr/>
          <p:nvPr/>
        </p:nvPicPr>
        <p:blipFill>
          <a:blip r:embed="rId8"/>
          <a:stretch/>
        </p:blipFill>
        <p:spPr>
          <a:xfrm>
            <a:off x="-4545000" y="324648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90219231308c365fc15b711e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116000" y="33336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读一读，写一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042920" y="1125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忧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辈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贤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惠   有厚望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187280" y="242100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音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1258920" y="3573360"/>
            <a:ext cx="9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195640" y="3284640"/>
            <a:ext cx="280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省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ng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7a-1"/>
          <p:cNvPicPr/>
          <p:nvPr/>
        </p:nvPicPr>
        <p:blipFill>
          <a:blip r:embed="rId1"/>
          <a:stretch/>
        </p:blipFill>
        <p:spPr>
          <a:xfrm>
            <a:off x="0" y="0"/>
            <a:ext cx="9142560" cy="55627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965240" y="600876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1675080" y="5805360"/>
            <a:ext cx="56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相传孔子出生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----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山东曲阜</a:t>
            </a:r>
            <a:r>
              <a:rPr b="0" lang="zh-CN" sz="4000" spc="-1" strike="noStrike">
                <a:solidFill>
                  <a:srgbClr val="66ff33"/>
                </a:solidFill>
                <a:latin typeface="Times New Roman"/>
                <a:ea typeface="隶书"/>
              </a:rPr>
              <a:t>尼山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全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孔庙"/>
          <p:cNvPicPr/>
          <p:nvPr/>
        </p:nvPicPr>
        <p:blipFill>
          <a:blip r:embed="rId2"/>
          <a:stretch/>
        </p:blipFill>
        <p:spPr>
          <a:xfrm>
            <a:off x="0" y="0"/>
            <a:ext cx="100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284720" y="620244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孔庙  祭祀孔子的地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孔府"/>
          <p:cNvPicPr/>
          <p:nvPr/>
        </p:nvPicPr>
        <p:blipFill>
          <a:blip r:embed="rId3"/>
          <a:stretch/>
        </p:blipFill>
        <p:spPr>
          <a:xfrm>
            <a:off x="0" y="0"/>
            <a:ext cx="99727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8"/>
          <p:cNvSpPr/>
          <p:nvPr/>
        </p:nvSpPr>
        <p:spPr>
          <a:xfrm>
            <a:off x="2627280" y="5589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孔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孔子嫡系子孙居住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-101229201P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1116000" y="765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论语》四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11280" y="1557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曰：“不患人之不己知，患不知人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684360" y="2276640"/>
            <a:ext cx="8064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曰：“由，诲汝 知之乎！知之为知之，不知 为不知，是 知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84360" y="371628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曰：“温故  而知新，可以 为师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84360" y="450864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子曰：“见贤 思齐焉，见不贤 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内自省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2987640" y="1557360"/>
            <a:ext cx="5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603520" y="2781360"/>
            <a:ext cx="2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3995640" y="2276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035880" y="3716280"/>
            <a:ext cx="51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6804000" y="2276640"/>
            <a:ext cx="5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4788000" y="285264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4"/>
          <p:cNvSpPr/>
          <p:nvPr/>
        </p:nvSpPr>
        <p:spPr>
          <a:xfrm>
            <a:off x="6276960" y="3716280"/>
            <a:ext cx="25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3059280" y="4581360"/>
            <a:ext cx="6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6"/>
          <p:cNvSpPr/>
          <p:nvPr/>
        </p:nvSpPr>
        <p:spPr>
          <a:xfrm>
            <a:off x="6443640" y="4581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7"/>
          <p:cNvSpPr/>
          <p:nvPr/>
        </p:nvSpPr>
        <p:spPr>
          <a:xfrm>
            <a:off x="7020000" y="4581360"/>
            <a:ext cx="57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1-101229202I8[1]"/>
          <p:cNvPicPr/>
          <p:nvPr/>
        </p:nvPicPr>
        <p:blipFill>
          <a:blip r:embed="rId1"/>
          <a:stretch/>
        </p:blipFill>
        <p:spPr>
          <a:xfrm>
            <a:off x="428760" y="166680"/>
            <a:ext cx="8286480" cy="6524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468360" y="1125360"/>
            <a:ext cx="633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大家边读课文边对照注释及手里的工具书理解这些句子的意思。如果遇到不理解的字词，请把它画出来。针对不理解的字词进行小组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-10122920134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755640" y="105264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患：忧虑，怨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孔子说：“不忧虑别人不了解自己，只忧虑自己不了解别人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826920" y="407664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诲：教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孔子说：“仲由，教改你对待知与不知的态度：知道就是知道，不知道就是不知道，——这就是聪明智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611280" y="33336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曰：“不患人之不己知，患不知人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55640" y="2781360"/>
            <a:ext cx="7201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曰：“由，诲汝 知之乎！知之为知之，不知 为不知，是 知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-101229201348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971640" y="1773360"/>
            <a:ext cx="468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84360" y="765000"/>
            <a:ext cx="84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故：旧知识。新：新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孔子说：“在温习旧知识后，能有新体会、新发现，就可以当老师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684360" y="414972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省：自我反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孔子说：“看见贤人要向他看齐，看见不贤的人要反省自己有没有跟他相似的毛病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39640" y="115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曰：“温故  而知新，可以 为师矣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63840" y="2760840"/>
            <a:ext cx="3332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539640" y="2852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子曰：“见贤 思齐焉，见不贤 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内自省也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3:50:39Z</dcterms:created>
  <dc:creator>微软用户</dc:creator>
  <dc:description/>
  <cp:keywords/>
  <dc:language>en-US</dc:language>
  <cp:lastModifiedBy>Administrator</cp:lastModifiedBy>
  <dcterms:modified xsi:type="dcterms:W3CDTF">2016-12-15T01:55:52Z</dcterms:modified>
  <cp:revision>1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a207000000000001024120</vt:lpwstr>
  </property>
</Properties>
</file>