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2050920" y="620640"/>
            <a:ext cx="60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00"/>
                </a:solidFill>
                <a:latin typeface="Times New Roman"/>
                <a:ea typeface="隶书"/>
              </a:rPr>
              <a:t>舍生取义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Text Box 14"/>
          <p:cNvSpPr/>
          <p:nvPr/>
        </p:nvSpPr>
        <p:spPr>
          <a:xfrm>
            <a:off x="5076720" y="3500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孟子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" name="Picture 15" descr="孟子"/>
          <p:cNvPicPr/>
          <p:nvPr/>
        </p:nvPicPr>
        <p:blipFill>
          <a:blip r:embed="rId2"/>
          <a:stretch/>
        </p:blipFill>
        <p:spPr>
          <a:xfrm>
            <a:off x="1187280" y="2637000"/>
            <a:ext cx="2730600" cy="3227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6"/>
          <p:cNvSpPr/>
          <p:nvPr/>
        </p:nvSpPr>
        <p:spPr>
          <a:xfrm>
            <a:off x="1671480" y="547560"/>
            <a:ext cx="49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长春版五年级语文下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1187280" y="1989000"/>
            <a:ext cx="6096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大义凛然   见义勇为   义不容辞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义无反顾   背信弃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关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39640" y="765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说说生活中含“义”字的成语和跟“义”有关的   人或故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422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00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50920" y="333360"/>
            <a:ext cx="854064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富贵不能淫，贫贱不能移，威武不能屈，此之谓大丈夫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战国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】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孟子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     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428000" y="4292640"/>
            <a:ext cx="50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宁做玉器被打碎，不做陶器得保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喻宁愿为正义而死，决不苟且偷生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37240" y="3213000"/>
            <a:ext cx="638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大丈夫宁为玉碎，不为瓦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—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【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北齐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】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元景皓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939320" y="1989000"/>
            <a:ext cx="4279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受富贵诱惑，不为贫贱动摇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为武力屈服，这才叫大丈夫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不为穷变节，不为贱易志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—</a:t>
            </a:r>
            <a:r>
              <a:rPr b="1" lang="en-US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西汉</a:t>
            </a:r>
            <a:r>
              <a:rPr b="1" lang="en-US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】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桓宽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83040" y="3500280"/>
            <a:ext cx="63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因为贫穷而改变一个人的气节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因为地位，身份低下而改变一个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志向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371600" y="22860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ff"/>
                </a:solidFill>
                <a:latin typeface="Times New Roman"/>
                <a:ea typeface="黑体"/>
              </a:rPr>
              <a:t>结语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22096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孟子提倡的“舍生取义”和孔子提倡的“杀身成仁”，一起成为中华民族的最高道德准则，激励着历代仁人志士，慷慨赴难，为国捐躯。孟子由口腹之欲推衍到道德之美的独特论证方法，则体现了中华民族以善为美、美善合一的独特审美观念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</a:rPr>
              <a:t>孟母三迁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孟子小的时候，住在墓地旁边。孟子就和邻居的小孩一起学着大人跪拜、哭嚎的样子，玩起办理丧事的游戏。孟子的妈妈看到了，就皱起眉头：“不行！我不能让我的孩子住在这里了！”孟子的妈妈就带着孟子搬到市集旁边去住。到了市集，孟子又和邻居的小孩，学起商人做生意的样子。一会儿鞠躬欢迎客人、一会儿招待客人、一会儿和客人讨价还价，表演得像极了！孟子的妈妈知道了，又皱皱眉头：“这个地方也不适合我的孩子居住！”于是，他们又搬家了。这一次，他们搬到了学校附近。孟子开始变得守秩序、懂礼貌、喜欢读书。这个时候，孟子的妈妈很满意地点着头说：“这才是我儿子应该住的地方呀！”于是就在此住下了！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孟子像"/>
          <p:cNvPicPr/>
          <p:nvPr/>
        </p:nvPicPr>
        <p:blipFill>
          <a:blip r:embed="rId1"/>
          <a:stretch/>
        </p:blipFill>
        <p:spPr>
          <a:xfrm>
            <a:off x="203040" y="990720"/>
            <a:ext cx="261648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640" y="1341360"/>
            <a:ext cx="44323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孟子：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名轲，字子舆。战国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思想家、教育家，儒家的重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代表，被人们称为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亚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是记录孟子及其弟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的言行的著作，也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儒家经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著作之一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学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庸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孟子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0" y="0"/>
            <a:ext cx="2987640" cy="1143000"/>
          </a:xfrm>
          <a:prstGeom prst="ellipse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755640" y="4221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0920" y="18900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全解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39640" y="52293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555000" y="47628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舍生取义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97400" y="1490760"/>
            <a:ext cx="7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041560" y="1490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舍弃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110480" y="1595520"/>
            <a:ext cx="7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354640" y="1563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生命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889920" y="27478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取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970280" y="281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求取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4016160" y="2747880"/>
            <a:ext cx="6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义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5426280" y="2747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道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83720" y="3573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题目：为了道义而舍弃生命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1094040" y="4076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题目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52712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点明中心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8400" y="537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交代论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孟子曰：“鱼，我所欲也；熊掌，亦我所欲也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二者不可得兼，舍鱼而取熊掌者也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36720" y="2565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鱼，是我喜欢的；熊掌，也是我喜欢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826920" y="4292640"/>
            <a:ext cx="76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如果）这两种东西不能够同时得到，我就舍弃鱼而要熊掌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生，亦我所欲也；义，亦我所欲也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生命，是我热爱的；道义，也是我热爱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二者不可得兼，舍生而取义者也。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如果）不能够同时拥有这二者，我就舍弃生命而获取道义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00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609480" y="914400"/>
            <a:ext cx="67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孟子在文中论述了什么观点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3000" y="18288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舍生取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当“生”与“义”不可兼得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57200" y="2743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孟子怎样提出自己的观点的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71640" y="4005360"/>
            <a:ext cx="77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鱼和熊掌设喻引出观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6591240" y="93744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舍生取义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95280" y="263700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鱼和熊掌设喻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284720" y="2565360"/>
            <a:ext cx="1942920" cy="107964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6" name="Picture 10" descr="鱼"/>
          <p:cNvPicPr/>
          <p:nvPr/>
        </p:nvPicPr>
        <p:blipFill>
          <a:blip r:embed="rId1"/>
          <a:stretch/>
        </p:blipFill>
        <p:spPr>
          <a:xfrm>
            <a:off x="539640" y="3706920"/>
            <a:ext cx="3168720" cy="315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熊"/>
          <p:cNvPicPr/>
          <p:nvPr/>
        </p:nvPicPr>
        <p:blipFill>
          <a:blip r:embed="rId2"/>
          <a:stretch/>
        </p:blipFill>
        <p:spPr>
          <a:xfrm>
            <a:off x="3924360" y="3825720"/>
            <a:ext cx="2784240" cy="303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0" y="6377040"/>
            <a:ext cx="1676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000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11280" y="119700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c6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1a1c60"/>
                </a:solidFill>
                <a:latin typeface="Times New Roman"/>
              </a:rPr>
              <a:t>有人说“好死不如赖活”，这与孟子的“舍生取义”的观点是否矛盾？你是怎样看待这两种观点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684360" y="189000"/>
            <a:ext cx="93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讨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1258920" y="3500280"/>
            <a:ext cx="16952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好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203640" y="2924280"/>
            <a:ext cx="1800000" cy="1993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5435640" y="3284640"/>
            <a:ext cx="231444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赖活着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000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解释下列加点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生，亦我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义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亦我所欲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二者不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得兼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舍生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取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义者也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8:46Z</dcterms:created>
  <dc:creator/>
  <dc:description/>
  <dc:language>en-US</dc:language>
  <cp:lastModifiedBy>Administrator</cp:lastModifiedBy>
  <dcterms:modified xsi:type="dcterms:W3CDTF">2016-12-15T01:56:39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4000000000001024120</vt:lpwstr>
  </property>
</Properties>
</file>