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7.png" ContentType="image/png"/>
  <Override PartName="/ppt/media/image1.jpeg" ContentType="image/jpeg"/>
  <Override PartName="/ppt/media/chimes.wav" ContentType="audio/x-wav"/>
  <Override PartName="/ppt/media/ricochet.wav" ContentType="audio/x-wav"/>
  <Override PartName="/ppt/media/image16.jpeg" ContentType="image/jpeg"/>
  <Override PartName="/ppt/media/cashreg.wav" ContentType="audio/x-wav"/>
  <Override PartName="/ppt/media/image12.jpeg" ContentType="image/jpeg"/>
  <Override PartName="/ppt/media/laser.wav" ContentType="audio/x-wav"/>
  <Override PartName="/ppt/media/image4.png" ContentType="image/png"/>
  <Override PartName="/ppt/media/image6.gif" ContentType="image/gif"/>
  <Override PartName="/ppt/media/image17.wmf" ContentType="image/x-wmf"/>
  <Override PartName="/ppt/media/image15.jpeg" ContentType="image/jpeg"/>
  <Override PartName="/ppt/media/type.wav" ContentType="audio/x-wav"/>
  <Override PartName="/ppt/media/image13.jpeg" ContentType="image/jpeg"/>
  <Override PartName="/ppt/media/voltage.wav" ContentType="audio/x-wav"/>
  <Override PartName="/ppt/media/click.wav" ContentType="audio/x-wav"/>
  <Override PartName="/ppt/media/image11.jpeg" ContentType="image/jpeg"/>
  <Override PartName="/ppt/media/image9.jpeg" ContentType="image/jpeg"/>
  <Override PartName="/ppt/media/image2.png" ContentType="image/png"/>
  <Override PartName="/ppt/media/image3.png" ContentType="image/png"/>
  <Override PartName="/ppt/media/image8.jpeg" ContentType="image/jpeg"/>
  <Override PartName="/ppt/media/image10.jpeg" ContentType="image/jpeg"/>
  <Override PartName="/ppt/media/image14.jpeg" ContentType="image/jpeg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8B6F-2498-43F7-8E00-23C12A5EE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8094-3F3F-461B-A2F4-377E2556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117B-1017-42DA-99ED-FE02D168C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65A7-CB45-47FF-AF5F-40EC6090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AC5E-D570-422E-8A8F-0086E2C8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59EB-56F9-4520-8961-52B411D7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35B9-A812-472F-9CB9-544990B9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8C8A-784B-4CC8-A694-A1D8D346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1884-541B-49F8-9670-F8F3050A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CA9E-5EA0-47F9-B0E4-29D35149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E6F5-EEB3-44CC-9604-56D34829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5C65-111F-4CCC-AB5F-468C6ED4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C551-D298-4081-8888-409776E355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lick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type.wav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chimes.wav"/><Relationship Id="rId6" Type="http://schemas.openxmlformats.org/officeDocument/2006/relationships/audio" Target="../media/ricochet.wav"/><Relationship Id="rId7" Type="http://schemas.openxmlformats.org/officeDocument/2006/relationships/audio" Target="../media/ricochet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lick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杜少府之任蜀州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>
            <a:hlinkClick r:id="rId2" action="ppaction://hlinksldjump"/>
          </p:cNvPr>
          <p:cNvSpPr/>
          <p:nvPr/>
        </p:nvSpPr>
        <p:spPr>
          <a:xfrm>
            <a:off x="684360" y="836640"/>
            <a:ext cx="77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离愁别绪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古代诗歌中常见的一种主题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由于古代交通不便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旦分离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再会难期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就连通信也不容易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所以在诗中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难免染上凄凉、伤感的色彩。但古人写的别诗也有明朗乐观之作，如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0" lang="zh-CN" sz="4800" spc="-1" strike="noStrike">
                <a:solidFill>
                  <a:srgbClr val="ff0066"/>
                </a:solidFill>
                <a:latin typeface="华文行楷"/>
                <a:ea typeface="华文行楷"/>
              </a:rPr>
              <a:t>《送杜少府之任蜀州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ssh4-6a"/>
          <p:cNvPicPr/>
          <p:nvPr/>
        </p:nvPicPr>
        <p:blipFill>
          <a:blip r:embed="rId1"/>
          <a:stretch/>
        </p:blipFill>
        <p:spPr>
          <a:xfrm>
            <a:off x="-1619280" y="0"/>
            <a:ext cx="11592000" cy="7677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863640" y="62064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d09b1"/>
                </a:solidFill>
                <a:latin typeface="Times New Roman"/>
                <a:ea typeface="隶书"/>
              </a:rPr>
              <a:t>与君离别意，同是宦游人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724360" y="26028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hu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979640" y="148428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位姓杜的朋友也是位不得志的知识分子。王勃自己游宦在外，也不很得意。当他们走出都城，远望五津时，彼此的感情很自然地会沟通在一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187280" y="4076640"/>
            <a:ext cx="14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意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1692360" y="407664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我和你都是离乡远游以求仕途的人，你去蜀州，我留长安，去和留虽有不同，但此刻的惜别之意却是一样的啊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ssh6-5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0" y="0"/>
            <a:ext cx="78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1d09b1"/>
                </a:solidFill>
                <a:uFillTx/>
                <a:latin typeface="隶书"/>
                <a:ea typeface="隶书"/>
              </a:rPr>
              <a:t>海内</a:t>
            </a:r>
            <a:r>
              <a:rPr b="1" lang="zh-CN" sz="4800" spc="-1" strike="noStrike">
                <a:solidFill>
                  <a:srgbClr val="1d09b1"/>
                </a:solidFill>
                <a:latin typeface="隶书"/>
                <a:ea typeface="隶书"/>
              </a:rPr>
              <a:t>存知己，天涯若比邻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53960" y="914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09b1"/>
                </a:solidFill>
                <a:latin typeface="楷体_GB2312"/>
                <a:ea typeface="楷体_GB2312"/>
              </a:rPr>
              <a:t>海内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447920" y="914400"/>
            <a:ext cx="470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海之内，即全中国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71880" y="-4683240"/>
            <a:ext cx="179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这诗人忽然将笔锋一转，转而去宽慰那即将远行的友人：“我们分手之后，虽然天各一方，但是不必悲伤。海内有知心的朋友，即使远隔天涯，也像是近邻一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95560" y="-4835520"/>
            <a:ext cx="179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这诗人忽然将笔锋一转，转而去宽慰那即将远行的友人：“我们分手之后，虽然天各一方，但是不必悲伤。海内有知心的朋友，即使远隔天涯，也像是近邻一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2895480" y="140508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在这诗人忽然将笔锋一转，转而去宽慰那即将远行的友人：“我们分手之后，虽然天各一方，但是不必悲伤。海内有知心的朋友，即使远隔天涯，也像是近邻一样。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此句安慰杜少府，也道出了千古以来人们的共同心声，成为千年名句。此句一反送别诗缠绵悱恻的格调，创造出开阔雄浑的意境，表现出作者旷达的胸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ssh6-3a"/>
          <p:cNvPicPr/>
          <p:nvPr/>
        </p:nvPicPr>
        <p:blipFill>
          <a:blip r:embed="rId1"/>
          <a:stretch/>
        </p:blipFill>
        <p:spPr>
          <a:xfrm>
            <a:off x="-395280" y="0"/>
            <a:ext cx="9539280" cy="7316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1984680" y="885960"/>
            <a:ext cx="450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1d09b1"/>
                </a:solidFill>
                <a:uFillTx/>
                <a:latin typeface="Times New Roman"/>
                <a:ea typeface="隶书"/>
              </a:rPr>
              <a:t>无为</a:t>
            </a:r>
            <a:r>
              <a:rPr b="1" lang="zh-CN" sz="4800" spc="-1" strike="noStrike">
                <a:solidFill>
                  <a:srgbClr val="1d09b1"/>
                </a:solidFill>
                <a:latin typeface="Times New Roman"/>
                <a:ea typeface="隶书"/>
              </a:rPr>
              <a:t>在</a:t>
            </a:r>
            <a:r>
              <a:rPr b="1" lang="zh-CN" sz="4800" spc="-1" strike="noStrike" u="sng">
                <a:solidFill>
                  <a:srgbClr val="1d09b1"/>
                </a:solidFill>
                <a:uFillTx/>
                <a:latin typeface="Times New Roman"/>
                <a:ea typeface="隶书"/>
              </a:rPr>
              <a:t>岐路</a:t>
            </a:r>
            <a:r>
              <a:rPr b="1" lang="zh-CN" sz="4800" spc="-1" strike="noStrike">
                <a:solidFill>
                  <a:srgbClr val="1d09b1"/>
                </a:solidFill>
                <a:latin typeface="Times New Roman"/>
                <a:ea typeface="隶书"/>
              </a:rPr>
              <a:t>，儿女共</a:t>
            </a:r>
            <a:r>
              <a:rPr b="1" lang="zh-CN" sz="4800" spc="-1" strike="noStrike" u="sng">
                <a:solidFill>
                  <a:srgbClr val="1d09b1"/>
                </a:solidFill>
                <a:uFillTx/>
                <a:latin typeface="Times New Roman"/>
                <a:ea typeface="隶书"/>
              </a:rPr>
              <a:t>沾巾</a:t>
            </a:r>
            <a:r>
              <a:rPr b="1" lang="zh-CN" sz="4800" spc="-1" strike="noStrike">
                <a:solidFill>
                  <a:srgbClr val="1d09b1"/>
                </a:solidFill>
                <a:latin typeface="Times New Roman"/>
                <a:ea typeface="隶书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413080" y="47628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q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209680" y="1989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09b1"/>
                </a:solidFill>
                <a:latin typeface="楷体_GB2312"/>
                <a:ea typeface="楷体_GB2312"/>
              </a:rPr>
              <a:t>无为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546440" y="19954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1f1e"/>
                </a:solidFill>
                <a:latin typeface="Times New Roman"/>
                <a:ea typeface="楷体_GB2312"/>
              </a:rPr>
              <a:t>无须，不要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2209680" y="2708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09b1"/>
                </a:solidFill>
                <a:latin typeface="楷体_GB2312"/>
                <a:ea typeface="楷体_GB2312"/>
              </a:rPr>
              <a:t>岐路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3348000" y="2708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1f1e"/>
                </a:solidFill>
                <a:latin typeface="楷体_GB2312"/>
                <a:ea typeface="楷体_GB2312"/>
              </a:rPr>
              <a:t>分手的路口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2209680" y="3357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09b1"/>
                </a:solidFill>
                <a:latin typeface="楷体_GB2312"/>
                <a:ea typeface="楷体_GB2312"/>
              </a:rPr>
              <a:t>沾巾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4966560" y="3429000"/>
            <a:ext cx="56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1f1e"/>
                </a:solidFill>
                <a:latin typeface="楷体_GB2312"/>
                <a:ea typeface="楷体_GB2312"/>
              </a:rPr>
              <a:t>沾湿手巾，指哭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2195640" y="422100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此两句就前句的意思再推进一层。离别固然是悲伤的，但互为知己，虽各处天涯，亦似比邻，所以不必像青年男女一样别泪沾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ssh5-1a"/>
          <p:cNvPicPr/>
          <p:nvPr/>
        </p:nvPicPr>
        <p:blipFill>
          <a:blip r:embed="rId1"/>
          <a:stretch/>
        </p:blipFill>
        <p:spPr>
          <a:xfrm>
            <a:off x="0" y="0"/>
            <a:ext cx="1101708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0" y="0"/>
            <a:ext cx="21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小结：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826920" y="198900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送杜少府之任蜀州》是长期以来脍炙人口的诗篇，特别是“海内存知己，天涯若比邻”两句，至今还常被人们引用。这首诗写得乐观开朗，没有一般赠别诗常有的那种哀伤和悱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30492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送杜少府之任蜀州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762120" y="1143000"/>
            <a:ext cx="35812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城阙辅三秦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风烟望五津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与君离别意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同是宦游人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海内存知己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天涯若比邻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无为在歧路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儿女共沾巾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495288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5105520" y="63928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尝试背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106668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ff00"/>
                </a:solidFill>
                <a:latin typeface="Times New Roman"/>
                <a:ea typeface="隶书"/>
              </a:rPr>
              <a:t>讨论：《送杜少府之任蜀州》与《淮上与友人别》都写的是与友人惜别之情。比较一下，你更喜欢哪首，谈谈自己的感受。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2120040" y="108900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送别诗歌知多少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C:\Program Files\Common Files\Microsoft Shared\Clipart\cagcat50\BS00554_.wmf"/>
          <p:cNvPicPr/>
          <p:nvPr/>
        </p:nvPicPr>
        <p:blipFill>
          <a:blip r:embed="rId2"/>
          <a:stretch/>
        </p:blipFill>
        <p:spPr>
          <a:xfrm>
            <a:off x="5549760" y="3429000"/>
            <a:ext cx="359424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974880" y="1697040"/>
            <a:ext cx="672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660680" y="1697040"/>
            <a:ext cx="6645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970280" y="176040"/>
            <a:ext cx="50576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送别诗歌名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劝君更尽一杯酒，西出阳关无故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（王维《送元二使安西》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莫愁前路无知己，天下谁人不识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（高适《别董大》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浮云游子意，落日故人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（李白《送友人》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请君试问东流水，别意与之谁短长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（李白《金陵酒肆留别》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ssh5-7a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WordArt 3" descr="白色大理石"/>
          <p:cNvPicPr/>
          <p:nvPr/>
        </p:nvPicPr>
        <p:blipFill>
          <a:blip r:embed="rId2"/>
          <a:stretch/>
        </p:blipFill>
        <p:spPr>
          <a:xfrm>
            <a:off x="1255680" y="1212840"/>
            <a:ext cx="6181920" cy="151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黄篁\Selected Area Grab # - 5.jpg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2133720" y="700200"/>
            <a:ext cx="51814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送杜少府之任蜀州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6477120" y="1447920"/>
            <a:ext cx="1143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王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1295280" y="2422440"/>
            <a:ext cx="3048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城阙辅三秦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4800600" y="2422440"/>
            <a:ext cx="3048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风烟望五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295280" y="3184560"/>
            <a:ext cx="3124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与君离别意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4800600" y="3184560"/>
            <a:ext cx="3048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同是宦游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1295280" y="4022640"/>
            <a:ext cx="2971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海内存知己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4800600" y="4022640"/>
            <a:ext cx="3124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天涯若比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1295280" y="4784760"/>
            <a:ext cx="3048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无为在歧路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4800600" y="4784760"/>
            <a:ext cx="3124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儿女共沾巾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13"/>
          <p:cNvGrpSpPr/>
          <p:nvPr/>
        </p:nvGrpSpPr>
        <p:grpSpPr>
          <a:xfrm>
            <a:off x="7238880" y="6705720"/>
            <a:ext cx="76320" cy="75960"/>
            <a:chOff x="7238880" y="6705720"/>
            <a:chExt cx="76320" cy="75960"/>
          </a:xfrm>
        </p:grpSpPr>
        <p:sp>
          <p:nvSpPr>
            <p:cNvPr id="57" name="Line 14"/>
            <p:cNvSpPr/>
            <p:nvPr/>
          </p:nvSpPr>
          <p:spPr>
            <a:xfrm flipH="1">
              <a:off x="7238880" y="6705720"/>
              <a:ext cx="76320" cy="73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15"/>
            <p:cNvSpPr/>
            <p:nvPr/>
          </p:nvSpPr>
          <p:spPr>
            <a:xfrm>
              <a:off x="7238880" y="6708240"/>
              <a:ext cx="76320" cy="73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908000" y="76500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《送杜少府之任蜀州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Group 3"/>
          <p:cNvGrpSpPr/>
          <p:nvPr/>
        </p:nvGrpSpPr>
        <p:grpSpPr>
          <a:xfrm>
            <a:off x="3747600" y="1399320"/>
            <a:ext cx="1473840" cy="1827720"/>
            <a:chOff x="3747600" y="1399320"/>
            <a:chExt cx="1473840" cy="1827720"/>
          </a:xfrm>
        </p:grpSpPr>
        <p:pic>
          <p:nvPicPr>
            <p:cNvPr id="61" name="Picture 4" descr="0028"/>
            <p:cNvPicPr/>
            <p:nvPr/>
          </p:nvPicPr>
          <p:blipFill>
            <a:blip r:embed="rId1"/>
            <a:stretch/>
          </p:blipFill>
          <p:spPr>
            <a:xfrm rot="5275200">
              <a:off x="3276000" y="1917000"/>
              <a:ext cx="1800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5"/>
            <p:cNvSpPr/>
            <p:nvPr/>
          </p:nvSpPr>
          <p:spPr>
            <a:xfrm>
              <a:off x="4431600" y="1485720"/>
              <a:ext cx="78984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选自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Text Box 6"/>
          <p:cNvSpPr/>
          <p:nvPr/>
        </p:nvSpPr>
        <p:spPr>
          <a:xfrm>
            <a:off x="1547640" y="2852640"/>
            <a:ext cx="39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隶书"/>
              </a:rPr>
              <a:t>《王子安集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7"/>
          <p:cNvGrpSpPr/>
          <p:nvPr/>
        </p:nvGrpSpPr>
        <p:grpSpPr>
          <a:xfrm>
            <a:off x="2782440" y="3512160"/>
            <a:ext cx="1399680" cy="1318680"/>
            <a:chOff x="2782440" y="3512160"/>
            <a:chExt cx="1399680" cy="1318680"/>
          </a:xfrm>
        </p:grpSpPr>
        <p:pic>
          <p:nvPicPr>
            <p:cNvPr id="65" name="Picture 8" descr="0019"/>
            <p:cNvPicPr/>
            <p:nvPr/>
          </p:nvPicPr>
          <p:blipFill>
            <a:blip r:embed="rId2"/>
            <a:stretch/>
          </p:blipFill>
          <p:spPr>
            <a:xfrm rot="2431800">
              <a:off x="2916000" y="3933720"/>
              <a:ext cx="13683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9"/>
            <p:cNvSpPr/>
            <p:nvPr/>
          </p:nvSpPr>
          <p:spPr>
            <a:xfrm rot="1248600">
              <a:off x="2863800" y="41497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作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Text Box 10"/>
          <p:cNvSpPr/>
          <p:nvPr/>
        </p:nvSpPr>
        <p:spPr>
          <a:xfrm>
            <a:off x="4356000" y="3789360"/>
            <a:ext cx="14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隶书"/>
              </a:rPr>
              <a:t>王勃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初唐四杰之一王勃"/>
          <p:cNvPicPr/>
          <p:nvPr/>
        </p:nvPicPr>
        <p:blipFill>
          <a:blip r:embed="rId1"/>
          <a:stretch/>
        </p:blipFill>
        <p:spPr>
          <a:xfrm>
            <a:off x="0" y="476280"/>
            <a:ext cx="3924360" cy="58626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2627280" y="907920"/>
            <a:ext cx="43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王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650-67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132000" y="2060640"/>
            <a:ext cx="51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231"/>
                </a:solidFill>
                <a:latin typeface="华文新魏"/>
                <a:ea typeface="华文新魏"/>
              </a:rPr>
              <a:t>    </a:t>
            </a:r>
            <a:r>
              <a:rPr b="1" lang="zh-CN" sz="2400" spc="-1" strike="noStrike">
                <a:solidFill>
                  <a:srgbClr val="003231"/>
                </a:solidFill>
                <a:latin typeface="华文新魏"/>
                <a:ea typeface="华文新魏"/>
              </a:rPr>
              <a:t>字子安，绛州龙门人，唐高中宗时应举及第，曾任虢州参军。后往海南探父，因溺水，受惊而死。少时即显露才华，与杨炯、卢照邻、骆宾王齐名，并称</a:t>
            </a:r>
            <a:r>
              <a:rPr b="1" lang="zh-CN" sz="2400" spc="-1" strike="noStrike">
                <a:solidFill>
                  <a:srgbClr val="003231"/>
                </a:solidFill>
                <a:latin typeface="Arial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003231"/>
                </a:solidFill>
                <a:latin typeface="华文新魏"/>
                <a:ea typeface="华文新魏"/>
              </a:rPr>
              <a:t>初唐四杰</a:t>
            </a:r>
            <a:r>
              <a:rPr b="1" lang="zh-CN" sz="2400" spc="-1" strike="noStrike">
                <a:solidFill>
                  <a:srgbClr val="003231"/>
                </a:solidFill>
                <a:latin typeface="Arial"/>
                <a:ea typeface="华文新魏"/>
              </a:rPr>
              <a:t>”</a:t>
            </a:r>
            <a:r>
              <a:rPr b="1" lang="zh-CN" sz="2400" spc="-1" strike="noStrike">
                <a:solidFill>
                  <a:srgbClr val="003231"/>
                </a:solidFill>
                <a:latin typeface="华文新魏"/>
                <a:ea typeface="华文新魏"/>
              </a:rPr>
              <a:t>。其诗偏于描写个人生活，亦有少数抒发政治感慨、隐寓对豪门世族不满之作，风格较为清新，原有集，已失佚，明人辑有《王子安集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898560" y="2916360"/>
            <a:ext cx="771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80880" y="236232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初唐四杰”之一（“初唐四杰”：王勃、卢照临、杨炯、骆宾王）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4305600" y="8557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首联：回首长安，遥望蜀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116000" y="2205000"/>
            <a:ext cx="686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颔联：同是宦游，客中作别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166760" y="3355920"/>
            <a:ext cx="686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颈联：天涯海角，互相勉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187280" y="4508640"/>
            <a:ext cx="664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尾联：擦干眼泪，歧路壮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诗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ssh5-6a"/>
          <p:cNvPicPr/>
          <p:nvPr/>
        </p:nvPicPr>
        <p:blipFill>
          <a:blip r:embed="rId1"/>
          <a:stretch/>
        </p:blipFill>
        <p:spPr>
          <a:xfrm>
            <a:off x="-971640" y="0"/>
            <a:ext cx="10115640" cy="71182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2895480" y="22431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908000" y="1125360"/>
            <a:ext cx="784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1d09b1"/>
                </a:solidFill>
                <a:uFillTx/>
                <a:latin typeface="楷体_GB2312"/>
                <a:ea typeface="隶书"/>
              </a:rPr>
              <a:t>城阙</a:t>
            </a:r>
            <a:r>
              <a:rPr b="1" lang="zh-CN" sz="4800" spc="-1" strike="noStrike">
                <a:solidFill>
                  <a:srgbClr val="1d09b1"/>
                </a:solidFill>
                <a:latin typeface="楷体_GB2312"/>
                <a:ea typeface="隶书"/>
              </a:rPr>
              <a:t>辅三秦，风烟望</a:t>
            </a:r>
            <a:r>
              <a:rPr b="1" lang="zh-CN" sz="4800" spc="-1" strike="noStrike" u="sng">
                <a:solidFill>
                  <a:srgbClr val="1d09b1"/>
                </a:solidFill>
                <a:uFillTx/>
                <a:latin typeface="楷体_GB2312"/>
                <a:ea typeface="隶书"/>
              </a:rPr>
              <a:t>五津</a:t>
            </a:r>
            <a:r>
              <a:rPr b="1" lang="zh-CN" sz="4800" spc="-1" strike="noStrike">
                <a:solidFill>
                  <a:srgbClr val="1d09b1"/>
                </a:solidFill>
                <a:latin typeface="楷体_GB2312"/>
                <a:ea typeface="隶书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239840" y="4428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050920" y="692280"/>
            <a:ext cx="129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</a:rPr>
              <a:t>qu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311120" y="21002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2301840" y="2205000"/>
            <a:ext cx="123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09b1"/>
                </a:solidFill>
                <a:latin typeface="Times New Roman"/>
                <a:ea typeface="楷体_GB2312"/>
              </a:rPr>
              <a:t>城阙</a:t>
            </a:r>
            <a:r>
              <a:rPr b="1" lang="zh-CN" sz="3200" spc="-1" strike="noStrike">
                <a:solidFill>
                  <a:srgbClr val="1d09b1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1d09b1"/>
                </a:solidFill>
                <a:latin typeface="Times New Roman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3255840" y="217188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3492360" y="2205000"/>
            <a:ext cx="35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1f1e"/>
                </a:solidFill>
                <a:latin typeface="楷体_GB2312"/>
                <a:ea typeface="楷体_GB2312"/>
              </a:rPr>
              <a:t>指长安，送别之地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2425680" y="2997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09b1"/>
                </a:solidFill>
                <a:latin typeface="楷体_GB2312"/>
                <a:ea typeface="楷体_GB2312"/>
              </a:rPr>
              <a:t>五津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2751120" y="28926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3564000" y="2924280"/>
            <a:ext cx="51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1f1e"/>
                </a:solidFill>
                <a:latin typeface="楷体_GB2312"/>
                <a:ea typeface="楷体_GB2312"/>
              </a:rPr>
              <a:t>泛指四川，杜少府上任之地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1600200" y="38275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2679840" y="4043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1676520" y="373392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281f1e"/>
                </a:solidFill>
                <a:latin typeface="楷体_GB2312"/>
                <a:ea typeface="楷体_GB2312"/>
              </a:rPr>
              <a:t>叙述了两人一留长安，一往蜀州，将分两地，为下文抒情奠定基调。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8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2T12:56:56Z</dcterms:created>
  <dc:creator/>
  <dc:description/>
  <cp:keywords/>
  <dc:language>en-US</dc:language>
  <cp:lastModifiedBy>Administrator</cp:lastModifiedBy>
  <dcterms:modified xsi:type="dcterms:W3CDTF">2016-12-15T02:04:33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  <property fmtid="{D5CDD505-2E9C-101B-9397-08002B2CF9AE}" pid="3" name="NXTAG2">
    <vt:lpwstr>0008008c07000000000001024120</vt:lpwstr>
  </property>
</Properties>
</file>