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FEC-B6CB-45CB-B908-482B4996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5AA-679C-42F0-A444-9A00B9FB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19D9A-A712-4BCE-9EFB-10CB1C3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3802-3469-4B7C-9193-5E62B9A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887E-8884-4B92-8B61-8636F6E8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8B9B8-7B12-4E48-942A-6AF41AE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96AE-3B79-4506-B6AC-D5646B1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61BA9-5873-4D66-BC89-0BFDABE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583FF-3AE3-4357-955B-19C00475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8EF0-AA7B-4010-BAFD-9AF30D23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ACB93-24DC-455F-B811-1EA7DB8D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3B82-E343-48AA-8D11-A843E665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C51-DF0F-463D-98FB-B77BF3D0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1901-F517-4807-B829-0FDDCE9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D1731-5B1F-4C4C-BB98-A84BCF0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EBDF2-D064-4D9A-A805-72C5D87C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91770-2413-4AFD-8428-26DF0926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0EE4B-E60A-4E4F-B464-54A4C16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E2E21-43B7-4520-B539-B794A974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A5A79-43CE-4331-B1D4-10B9246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3C16D-25EB-4B8E-BAA2-CF60D42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01274-78F5-4098-83AB-947A6AC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DEE63-E35B-47AE-B129-DF4D9BA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FC8-74D9-4D0C-90D8-3010E2A1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EA0A-140D-49C5-8F44-7142168A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7EEA-E98F-44D9-AB74-76DCB619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050A-A0D8-4D0A-A2FE-0755EFF8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0F05-F716-4F94-91E1-4C7E476C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8F59-6DF8-4746-9129-3F2CE37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98910-D2B8-487F-9755-4B25E96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9283A-EF11-408A-A8FD-4086B0A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FBE36-70DC-4C40-B214-FD867B5C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87975-BF86-4E9E-B37F-B217AE8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3C568-A470-4F26-B4FC-82002B7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93C5-6C86-425C-9469-B4488443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2FBE5-C977-44B5-9F2F-78E06A51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AAB09-E668-4677-99DA-5720783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EBBFC-DCD2-4CAC-91E5-07D7F660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0B6E1-EBC1-4F7C-A7C4-C6D7AD67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65360-EAE9-4F74-9287-057F738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F718-C96B-4365-99BA-6FA467F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23358-69E7-46B3-8B19-F5372CA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0DEB3-5801-4210-8E72-8DDF07B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FE976-7D9A-411F-A104-9D97D17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35440-F830-4442-B70A-E53F65C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587-F9A9-4486-9B99-B7A82A9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5F0A3-350A-46A6-B066-E2C7978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C1A67-2826-426C-96DD-3460288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8C97-F59E-45F6-971F-8C10E2A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4E5D8-C1C0-437D-B3CE-25F69B81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53B49-09DB-43AB-9BB3-6C092549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C5A-8F2A-4234-9B7C-FA2EF3B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268-6DBA-4B72-A4B2-B8ED7098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211D-C23D-42B4-8955-809662E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C78-0C4E-4862-B28B-10D2360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832-FE23-4EED-9AB5-CB2E8B7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5A9-CFB9-4B01-9180-DFB0B50F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E5F-CBA8-45BD-ACF3-46ED338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04A7-E707-4B7A-BB3C-B81777C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4987-87FC-43F7-BDEF-9E2C201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0A9-073C-46F7-A73E-0089CBEA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EAA-A363-42F1-8BFC-268B4770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F0AA-33E9-40EC-8BB4-80DBAA10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5630-E7F1-4861-9743-8B5C505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54B7-5076-40C5-B3C9-3737B576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AE91-099E-4E96-85D0-DB01308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60C9-F73F-4576-B987-D6DBF51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C51-15C2-4015-97C2-D913B96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8CBD-D8C4-480D-9ADD-8EB50D78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82BD-B98C-4FAC-8746-5715F23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21A4-F36F-468A-9F07-4A3313B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91B8-1AB6-45D3-886B-7000F19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C7EF-F3F6-402C-824F-9DD5932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26A6-2772-481D-9D4C-D064B054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96C3-616C-4903-A2E9-AA785F2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D04D-3517-4E5F-A8CC-E42A78BF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52E6-D73F-4786-A333-15B89B38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3D13-B8A1-456F-93E2-1612458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6C0-F90B-442F-B1B9-8B9670CB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41DA-A3C6-42BF-9F6D-57C500C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63C1-03B7-435E-A835-82018401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27B7-69AB-4803-AA58-D76A43F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88A5-673D-47CC-A4DF-4C60CFB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2E0E-F409-4983-8FC7-1E6EFB3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01AB-2FD1-47A1-B904-3DD7BCCB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90A2-274D-46EE-AA7C-1BEAF793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BC5C-594F-4D4B-9D9D-9F450173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F8D3-40CF-45AC-ADDB-A2888511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38DF-358F-45A2-AF3D-492F743E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BDC-7D23-4A77-BC28-658E3ED9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DE2B-B3BD-4A72-8B72-3F609CE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6CDC-2662-47E8-ACCB-677B837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6262-DD50-4B7F-BD1B-F7BD1AA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A8C4-4227-4712-B7FC-B1FF23F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4987-C5A5-48AE-9A06-67EFA6D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871C-9C21-4B2B-B6FB-3C126F2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09F8-805A-46E7-97B2-5B8D863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448DE-00C7-42D8-88AF-1A6C388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87E0-DE04-46E6-8790-809472A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EC12-3E3E-4E31-9CA0-DEAE00B2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EFE-FCDA-4666-AA11-17115503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1EF8-C584-429A-B49B-E09F1380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1C92-1693-4A3A-A94E-5E3746A5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7B67-DBB2-413D-A1BB-D130050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68CD-FE67-4BE2-8170-264ACCAA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2678-93DD-4703-9529-54E13156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BBAC-18A0-42B7-B5C2-C65782C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510A-F966-4D60-9D94-7AB1BF4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B4AB-F0FE-40A1-8E6D-87B470B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5322-1A29-423D-A4AC-11D8C73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A5C3-24A8-4981-9398-308082D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EBB-3EF2-4B1C-8421-8264E7E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9D76-C6FD-4910-940A-8C6F782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C2E6-86A5-4E4C-BB75-3BA212BB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144D-848E-4E97-8358-771BACFF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526A2-EDF8-4AEB-895B-6E0F1244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D8E3-4DDB-4289-B600-DAE8651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4819-31AC-468C-84E7-3E39E0F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0115-A44C-4BC7-A920-831B82A6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5FA2-678D-4EAB-B386-1BC5526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8A4A-37CD-46B2-9B09-6E38A0B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528E-A251-4F3C-BB30-A7BB9EB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E7F-AEC7-4D6E-B4A2-C1029E1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E804-7275-4A98-8A05-F6CBA03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83CC-AB4D-4D29-83FA-D5B5136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FCD9-C131-4569-888C-6EA12B8C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63FB-628C-4F8C-9F32-389A0F18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068C-CDAD-4133-86EB-9890C2B6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E56A-CD44-4A59-BB29-8C79AE50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4C82-CD86-4C8E-B567-E24F54A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DB3B8-2892-4DE2-AD98-A24F4E22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08D1-3F21-45D7-9819-20B3636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5CD1D-84F3-48DC-978A-13D98CD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E83-1DE9-49AC-AE3E-4F728AB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A3137-9885-4DD4-851E-3C9961D3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38C2-49D5-4140-BFFA-49C9F13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1637E-1173-4520-AB6D-5CBF982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E745-123F-420B-8D25-020B0AF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C58E-4EF6-40E0-BB76-9344A01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6D66-3800-4AEA-AADD-651CB5B4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C5F0-0C81-4A02-ADE6-D2BBDE76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A813-7E22-46ED-AEB7-BEEE1584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B0735-91D1-4C0F-B618-8336A39C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95CFA-4091-4DB7-921C-3150CFF0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3BD-D073-4B7C-90EB-C4255019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E835-1E8C-4CE8-A2C9-F2DDADCDB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E0D-F538-4D11-A36F-5BD9931EB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183-C865-4898-B70B-828244E45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98D-577A-4351-9E71-0964E81C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269-2D08-4252-AC48-3BB12B1F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428E-63E0-4689-AD65-CF6AD9322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DE7-1561-4C94-A6F1-D0531E9B7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4A1-BB22-4D03-A1E7-CF3F81E99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82A-9EFE-4181-BE9A-F55DED0A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A45-2907-4042-9D20-27EE2FE9F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380-28DE-4A08-9300-AEA58098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624040"/>
            <a:ext cx="73404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*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爱国诗人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u=3374892071,2762032561&amp;fm=23&amp;gp=0"/>
          <p:cNvPicPr/>
          <p:nvPr/>
        </p:nvPicPr>
        <p:blipFill>
          <a:blip r:embed="rId1"/>
          <a:stretch/>
        </p:blipFill>
        <p:spPr>
          <a:xfrm>
            <a:off x="468360" y="115920"/>
            <a:ext cx="8207280" cy="654696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4172760" y="981000"/>
            <a:ext cx="382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8*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爱国诗人屈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0041888a98111ca4283c0a05ddba918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0" y="189000"/>
            <a:ext cx="60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屈原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03752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高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244880" y="2244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忧国忧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755640" y="42609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对祖国忠贞不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244880" y="3252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宁死不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428040" y="18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资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3448080" y="189000"/>
            <a:ext cx="4450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国时期，楚国诗人屈原以南方民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础，采用楚国方言创作了一种新的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诗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体裁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楚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屈原的抒情长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中国古代最长的抒情诗，具有浪漫主义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，是楚辞的代表作，楚辞因此又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离骚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楚辞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中国第一部浪漫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总集和骚体类文章的总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18d8bc3eb13533fae8a5e532aad3fd1f41345b9e"/>
          <p:cNvPicPr/>
          <p:nvPr/>
        </p:nvPicPr>
        <p:blipFill>
          <a:blip r:embed="rId1"/>
          <a:srcRect l="0" t="0" r="0" b="10642"/>
          <a:stretch/>
        </p:blipFill>
        <p:spPr>
          <a:xfrm>
            <a:off x="4211640" y="3500280"/>
            <a:ext cx="4762440" cy="3000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6c224f4a20a4462369fd4a2d9922720e0cf3d74e"/>
          <p:cNvPicPr/>
          <p:nvPr/>
        </p:nvPicPr>
        <p:blipFill>
          <a:blip r:embed="rId2"/>
          <a:srcRect l="0" t="0" r="-359" b="9649"/>
          <a:stretch/>
        </p:blipFill>
        <p:spPr>
          <a:xfrm>
            <a:off x="826920" y="3500280"/>
            <a:ext cx="2602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5"/>
          <p:cNvSpPr/>
          <p:nvPr/>
        </p:nvSpPr>
        <p:spPr>
          <a:xfrm>
            <a:off x="922320" y="692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关爱国的诗句名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029040" y="1413000"/>
            <a:ext cx="201096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破山河在，城春草木深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唐）杜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288240" y="2133360"/>
            <a:ext cx="1916280" cy="45504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生自古谁无死，留取丹心照汗青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宋）文天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297960" y="2852280"/>
            <a:ext cx="1733400" cy="45504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粉身碎骨浑不怕，要留清白在人间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明）于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288240" y="3573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天下之忧而忧，后天下之乐而乐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宋）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362040" y="4291560"/>
            <a:ext cx="2096280" cy="459720"/>
          </a:xfrm>
          <a:prstGeom prst="rect">
            <a:avLst/>
          </a:prstGeom>
          <a:solidFill>
            <a:srgbClr val="d1c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漫漫其修远兮，吾将上下而求索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战国）屈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268440" y="5012280"/>
            <a:ext cx="2489400" cy="459720"/>
          </a:xfrm>
          <a:prstGeom prst="rect">
            <a:avLst/>
          </a:prstGeom>
          <a:solidFill>
            <a:srgbClr val="d1c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萧萧兮易水寒，壮士一去兮不复还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战国）荆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W020130609391518027874"/>
          <p:cNvPicPr/>
          <p:nvPr/>
        </p:nvPicPr>
        <p:blipFill>
          <a:blip r:embed="rId1"/>
          <a:stretch/>
        </p:blipFill>
        <p:spPr>
          <a:xfrm>
            <a:off x="0" y="0"/>
            <a:ext cx="5616720" cy="37418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201442915493123"/>
          <p:cNvPicPr/>
          <p:nvPr/>
        </p:nvPicPr>
        <p:blipFill>
          <a:blip r:embed="rId2"/>
          <a:stretch/>
        </p:blipFill>
        <p:spPr>
          <a:xfrm>
            <a:off x="3635280" y="3359160"/>
            <a:ext cx="5508720" cy="3498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6"/>
          <p:cNvSpPr/>
          <p:nvPr/>
        </p:nvSpPr>
        <p:spPr>
          <a:xfrm>
            <a:off x="6607080" y="83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包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12899992_998932"/>
          <p:cNvPicPr/>
          <p:nvPr/>
        </p:nvPicPr>
        <p:blipFill>
          <a:blip r:embed="rId1"/>
          <a:stretch/>
        </p:blipFill>
        <p:spPr>
          <a:xfrm>
            <a:off x="0" y="0"/>
            <a:ext cx="5796000" cy="4083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u=2137354131,2855067135&amp;fm=23&amp;gp=0"/>
          <p:cNvPicPr/>
          <p:nvPr/>
        </p:nvPicPr>
        <p:blipFill>
          <a:blip r:embed="rId2"/>
          <a:stretch/>
        </p:blipFill>
        <p:spPr>
          <a:xfrm>
            <a:off x="3203640" y="3176640"/>
            <a:ext cx="5940360" cy="3681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6657840" y="77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赛龙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u=3416216906,385115591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QQ图片20150318111654"/>
          <p:cNvPicPr/>
          <p:nvPr/>
        </p:nvPicPr>
        <p:blipFill>
          <a:blip r:embed="rId2"/>
          <a:stretch/>
        </p:blipFill>
        <p:spPr>
          <a:xfrm>
            <a:off x="4406760" y="549360"/>
            <a:ext cx="43243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0" y="0"/>
            <a:ext cx="7264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组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24000" y="119700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默读课文。用简洁的语言概括课文的主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自找画圈词，小组合作学习生字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“路漫漫其修远兮，吾将上下而求索”是什么意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“举世皆浊我独清，众人皆醉我独醒”什么意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为什么司马迁说屈原的精神“与日月争光可也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755640" y="62064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100" spc="-1" strike="noStrike">
                <a:solidFill>
                  <a:srgbClr val="ff0000"/>
                </a:solidFill>
                <a:latin typeface="Arial"/>
              </a:rPr>
              <a:t>、默读课文。用简洁的语言概括课文的主要内容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文主要记叙了爱国诗人屈原开创了“楚辞”以及不肯同流合污，报国无望后投身汨罗江的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6"/>
          <p:cNvSpPr/>
          <p:nvPr/>
        </p:nvSpPr>
        <p:spPr>
          <a:xfrm>
            <a:off x="808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826920" y="83664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“路漫漫其修远兮，吾将上下而求索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QQ图片20150318113837"/>
          <p:cNvPicPr/>
          <p:nvPr/>
        </p:nvPicPr>
        <p:blipFill>
          <a:blip r:embed="rId1"/>
          <a:stretch/>
        </p:blipFill>
        <p:spPr>
          <a:xfrm>
            <a:off x="539640" y="2565360"/>
            <a:ext cx="81378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1370160" y="549360"/>
            <a:ext cx="42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“举世皆浊我独清，众人皆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独醒”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QQ图片20150318114516"/>
          <p:cNvPicPr/>
          <p:nvPr/>
        </p:nvPicPr>
        <p:blipFill>
          <a:blip r:embed="rId1"/>
          <a:stretch/>
        </p:blipFill>
        <p:spPr>
          <a:xfrm>
            <a:off x="324000" y="2060640"/>
            <a:ext cx="770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734280" y="260280"/>
            <a:ext cx="28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为什么司马迁说屈原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日月争光可也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QQ图片20150318115042"/>
          <p:cNvPicPr/>
          <p:nvPr/>
        </p:nvPicPr>
        <p:blipFill>
          <a:blip r:embed="rId1"/>
          <a:stretch/>
        </p:blipFill>
        <p:spPr>
          <a:xfrm>
            <a:off x="1619280" y="1916280"/>
            <a:ext cx="752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3:01:38Z</dcterms:created>
  <dc:creator> </dc:creator>
  <dc:description> </dc:description>
  <cp:keywords/>
  <dc:language>en-US</dc:language>
  <cp:lastModifiedBy>bonny</cp:lastModifiedBy>
  <dcterms:modified xsi:type="dcterms:W3CDTF">2015-08-24T18:34:08Z</dcterms:modified>
  <cp:revision>5</cp:revision>
  <dc:subject> </dc:subject>
  <dc:title> </dc:title>
</cp:coreProperties>
</file>