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BD36-789A-4439-BD24-6F8D9A501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6BE2-C366-4CA9-8BC3-7ABEA5CF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EDE688-3DD6-4E68-B6E0-D4190C4F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4A964-89A9-4F73-B022-1B5F8F9A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51C23-AA1E-4A47-9883-0C4359F2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24B2D-B17D-4231-9210-163F50B2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EB34F-11CA-4A20-874C-0C020890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89193-0E0B-453D-9D66-CBDA87BE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A97EA-A66A-4D4C-B6B7-234E7801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58A33-CD56-4539-81EB-1A2291A21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BCD32-F3B2-44FD-8486-4FE4083A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39D8A-9B2D-496D-A4A1-9F6140B5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5A98-905F-4BC7-82B8-28AA85F7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F003C-64C1-4BCC-8C10-5EF10578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181C6-C24F-4C96-835F-E4FDF610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BB56D-64BA-47FE-97F7-CD109B8C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A035C-9D8D-4C09-BBC4-857BA6A0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C2C4B-1409-4F9C-9443-57791E6C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AA7795-2E06-456F-B8C7-6A525654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F9622-F930-4F86-8E86-4569A5DB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CABBD-273E-4074-9DBF-1957AEC8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1FA69-C902-4AC9-B5B1-9E283E79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30DCD-FCED-472D-9A50-3AF1EA63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177E-EDA6-4A3E-A8A8-675DDC64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1DF17-CC7A-47ED-87F8-248C5442E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70EC8-69E7-433D-B895-4521DE294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1E63D-FD4C-42B3-8934-027F737A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EFE46-AF5D-4540-8FD6-7161AFA4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82ABD-0705-423E-994A-A2666F3D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23132-0C6E-41F0-AA70-231DE10F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3F9CD-211A-4FA7-B198-CE4E0A88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B65F1-F140-44F2-8C88-B5DE5A12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04C3E-870F-405B-99D7-BCE11B50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FD586-7A91-4BB9-9544-FC36CE39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2AD3-4362-4646-A1EA-8F887638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F7186-967E-4EC0-A3DA-F09B0FEA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190F0-ABB6-41A3-855D-3813E5D9D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1E59A-D021-46E6-A51D-EF023798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0A29E-EEBD-4825-89E2-7D50A0C1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576C0-F7A9-4AD9-AA9E-0B6A6CB8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F3E563-1CD1-4464-A3DC-88AACDAA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3AA1A-CC2B-4AAE-B966-16E4F3E2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7F95C-FEEC-43B2-AA51-7D6BF7DA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5A172C-D6A6-49B9-A470-8B430263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C25FF-2167-43A8-AD13-CC45552F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40DF-E051-4825-9BBE-5D2AAF5D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5060E-DC1E-4E77-A4E0-04D40BBA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5634B8-9D65-4BA4-B9F3-99D3CBD7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69F9E2-11C2-4CE1-B546-53732348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6B602B-AE4B-455E-8E32-D511E2E1C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EB1B06-43D3-4B59-B892-679C5EFD6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2CF4-84A3-428D-BD09-2C299E82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076B-5428-45DD-8C7A-2F1BAEE4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FA15-9387-44B7-9F39-FC3CCFDB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46AE-1FAF-4D19-9F26-D72508CF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A95F-24D3-4542-AB7E-F9F94E2B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A9AE-33C2-45BD-8D6F-AEF57CC4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B950-09C1-475C-83A7-00A822B0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D0C2-7562-4012-B298-3B2C6F71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2E57-D71A-4465-986C-61F8AB2B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77B1-2E57-4051-A848-5937342B3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9B21-FB73-4871-99A3-19D4D4792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29392-B100-4992-8FB4-A87C9CF62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3EA04-75BD-4C4A-AF44-B135FD2B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38ADF-3D3A-4959-9AC3-207BE925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01A10-7675-4DED-84DA-980BB673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15FC5-77C2-4A9B-85C0-C4D267E5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E1CA-B77E-4B0C-9BE2-45F9B6F9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A3FCB-3D09-4CB2-9A12-1DCFF980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30086-671C-4770-B88B-460E450F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60AB0-A833-49B7-8157-03E88235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D1306-5886-4E81-932C-4080305A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A116F-891B-4D41-BD78-09AEAF55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16670-D770-494B-ACE0-DF012E8A9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2B892-2716-4BD4-B639-638DB136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8F6C6-7186-4DB2-B268-239AD955B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4B98D-34BC-481F-92D9-9E8A0F4C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4BE18-E117-4F02-BC4F-959212C0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1200-C553-42E8-BD7C-A9EB1EC2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E3D6E-4C4A-4848-9E72-82CDE949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8F7CB-FD29-40F4-A45A-A763BD0B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61A05-5BE3-4434-8E73-22CE5732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1CC12-B4B2-4A82-99EE-79110CCD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7A69C-3DE6-4823-BC58-4F00212B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4C1B2-FB18-4DB5-B859-B65801FE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C1550-7557-4B16-87CD-B2CD6581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27E2C-C03B-478A-B992-5C1288C0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914EA-1B88-4009-9211-A97709FC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91231-821F-49AA-BFB1-088019F2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CFB7-4958-4A3E-88C3-788E7011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9EAA3-BCC0-4C2F-804B-315CA26E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53642-E8C2-482D-BD53-C551E99B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BBDF2-EF0E-487E-9A96-36930DF1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57FBB-3A4F-4915-B916-40464BA5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B8C5F-626E-470A-B9DE-19E5B404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942F0-4B3A-4981-B8F0-35C66565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81055-2E16-4B4F-87BB-E037DE75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73007-491F-4579-8C1F-21AE29D6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5A280-9038-41C0-9523-53FFEFD1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4ED7E-F289-4818-844F-AB1878C7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DF8F-28D9-45E1-B6FA-22BCA274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C600B-BC1C-4152-B7E7-512A983E1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C19EA-1BE2-48DD-9071-A0F07C44E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6C3E3-1928-4332-96E1-487FE9E2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14BA7-1BA1-486D-B6AB-0F3B2A42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D8766-3163-414C-BA3F-1BE49E42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967D2-3A98-4942-9FA3-2C3ADE0C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42447-3715-42C0-BE50-9FA07AA6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E122C-B13A-4C18-A1A3-E0E7B74E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E350D-9C1E-457A-A597-1BF4133A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89523-7675-4DDD-9431-3535CE91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2C79-350F-4106-91AE-1D8BEA3E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9AFE2-23F8-4E8D-B820-9D59C348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6826A-DD41-41AA-892C-D0A9600F2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ACE1D-4B68-42AA-85E4-D20239C9A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40CCF-8689-4511-B826-CC7030257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99A62-6CE3-4480-AB77-AEC39EFD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1641F-3A6C-4C86-92C6-3138D727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A6489-3A06-484B-A4CD-9BEBC50B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4B0F7-F26D-4F8D-A65C-AD6D275C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DAF05-FC01-441F-882E-185A60AF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117B6-D1F9-4D28-9F6D-45975CD1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AD5E-9753-46E1-8952-756ADCBE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611F4-F107-4C5E-9206-84A91662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4975F-A94C-4973-968A-30E82BDE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C2652-4930-4471-9C3D-CD74CFBB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2BA4C-21D9-434C-BE1B-7F2C717F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27C54-AF2D-43E6-A0E1-98526649D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D9E86-7D0A-4468-B0ED-05B4552F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C484F-6FB3-4684-AC90-BBC2A9CA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81322-9F83-4659-9A72-BF90CF1A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C7A5B-53B6-4258-A640-D71BBD2C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B5516-E82C-43EE-824C-DA6ED765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58FD-9A1E-4017-B685-A281A240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374EA-1084-4AD2-9353-9AC2181B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94DD3-6372-49C9-84DC-BF428D09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F7F7E-9883-43E8-AE2D-8D7B9601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31D6B-28A2-47D6-9DF3-5D639562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EA7FD-4C42-4D74-AF5B-49631D00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005BF-D59D-4322-A0A1-75947799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7F2D2-F31E-4B2C-83AE-CEBFCBD87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55DE3-B4FD-45B2-93CE-4DE791C8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A40FF-9803-474E-B032-D053CDAF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B7F1D-0999-4E67-9B56-C5FF20A8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AFA2-0D3B-45B6-9E89-3C79CC5464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C652-B545-4D2D-9373-5F8501AFA1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F6E5-7D00-4FE8-AA1B-8D3CFC7FC3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8CFA-649F-46FB-B61F-000D9879C5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49C0-0C24-4733-89D8-F924A1F793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61D8-BE0B-4A72-99B3-014FB529FB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7613-DED4-4ED4-A282-EF5DBDA9F8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EB56-4DDA-4892-97E5-CE4AC0D74A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99A4-317F-4A0D-BF78-77D77764BE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2E5C-24E0-4557-8234-422BB8C797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7FAA-2A0E-4D19-980E-2BC1AF32A5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D063-250F-43F4-B903-95EB0DF710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2"/>
          <p:cNvSpPr txBox="1"/>
          <p:nvPr/>
        </p:nvSpPr>
        <p:spPr>
          <a:xfrm>
            <a:off x="2771640" y="2924280"/>
            <a:ext cx="28051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8000"/>
                    </a:srgbClr>
                  </a:outerShdw>
                </a:effectLst>
                <a:latin typeface="黑体"/>
              </a:rPr>
              <a:t>不用搀扶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1763640" y="2379600"/>
            <a:ext cx="54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成功源于自己，世上没有什么事是不能做的，只要你想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1042920" y="22050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乐队的百双眼睛，大会堂的万双眼睛，电视机前的亿双眼睛，都注视着帕尔曼站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684360" y="177336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帕尔曼走了，他留下的不仅仅是那冬日里的琴声。为这个，让我这不懂音乐的人对音乐大师说：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谢谢您！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" descr="感受领悟"/>
          <p:cNvPicPr/>
          <p:nvPr/>
        </p:nvPicPr>
        <p:blipFill>
          <a:blip r:embed="rId1"/>
          <a:stretch/>
        </p:blipFill>
        <p:spPr>
          <a:xfrm>
            <a:off x="684360" y="907920"/>
            <a:ext cx="1890720" cy="51300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4"/>
          <p:cNvSpPr/>
          <p:nvPr/>
        </p:nvSpPr>
        <p:spPr>
          <a:xfrm>
            <a:off x="1116000" y="3645000"/>
            <a:ext cx="6048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作者为什么要谢谢音乐大师？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你从中体会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2" descr="3808014700778075305"/>
          <p:cNvPicPr/>
          <p:nvPr/>
        </p:nvPicPr>
        <p:blipFill>
          <a:blip r:embed="rId1"/>
          <a:srcRect l="0" t="0" r="3943" b="0"/>
          <a:stretch/>
        </p:blipFill>
        <p:spPr>
          <a:xfrm>
            <a:off x="684360" y="981000"/>
            <a:ext cx="3601800" cy="511200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3"/>
          <p:cNvSpPr/>
          <p:nvPr/>
        </p:nvSpPr>
        <p:spPr>
          <a:xfrm>
            <a:off x="4356000" y="1814400"/>
            <a:ext cx="4392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身残志坚、不用搀扶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意志顽强、不怕失败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靠自己的力量赢得尊严的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1117440" y="2550960"/>
            <a:ext cx="69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顽强的毅力可以征服世界上的任何一座高峰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爱迪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zhang"/>
          <p:cNvPicPr/>
          <p:nvPr/>
        </p:nvPicPr>
        <p:blipFill>
          <a:blip r:embed="rId1"/>
          <a:stretch/>
        </p:blipFill>
        <p:spPr>
          <a:xfrm>
            <a:off x="468360" y="333360"/>
            <a:ext cx="2924280" cy="37450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" descr="shi"/>
          <p:cNvPicPr/>
          <p:nvPr/>
        </p:nvPicPr>
        <p:blipFill>
          <a:blip r:embed="rId2"/>
          <a:stretch/>
        </p:blipFill>
        <p:spPr>
          <a:xfrm>
            <a:off x="5003640" y="189000"/>
            <a:ext cx="2988000" cy="414972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4"/>
          <p:cNvSpPr/>
          <p:nvPr/>
        </p:nvSpPr>
        <p:spPr>
          <a:xfrm>
            <a:off x="5187960" y="5433120"/>
            <a:ext cx="3487680" cy="515880"/>
          </a:xfrm>
          <a:prstGeom prst="rect">
            <a:avLst/>
          </a:prstGeom>
          <a:solidFill>
            <a:srgbClr val="f1f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文学思考人生的作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史铁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71280" y="4771080"/>
            <a:ext cx="42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轮椅上的“中国保尔”张海迪：胸部以下全部瘫痪，她却以顽强的毅力和恒心与疾病做斗争，成为著名的作家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hai"/>
          <p:cNvPicPr/>
          <p:nvPr/>
        </p:nvPicPr>
        <p:blipFill>
          <a:blip r:embed="rId1"/>
          <a:stretch/>
        </p:blipFill>
        <p:spPr>
          <a:xfrm>
            <a:off x="468360" y="620640"/>
            <a:ext cx="3035160" cy="40323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3" descr="huo"/>
          <p:cNvPicPr/>
          <p:nvPr/>
        </p:nvPicPr>
        <p:blipFill>
          <a:blip r:embed="rId2"/>
          <a:srcRect l="0" t="0" r="0" b="14068"/>
          <a:stretch/>
        </p:blipFill>
        <p:spPr>
          <a:xfrm>
            <a:off x="4211640" y="836640"/>
            <a:ext cx="4718160" cy="330660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4"/>
          <p:cNvSpPr/>
          <p:nvPr/>
        </p:nvSpPr>
        <p:spPr>
          <a:xfrm>
            <a:off x="4356000" y="5080680"/>
            <a:ext cx="4788000" cy="515880"/>
          </a:xfrm>
          <a:prstGeom prst="rect">
            <a:avLst/>
          </a:prstGeom>
          <a:solidFill>
            <a:srgbClr val="f1f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伟大的理论物理学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霍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5"/>
          <p:cNvSpPr/>
          <p:nvPr/>
        </p:nvSpPr>
        <p:spPr>
          <a:xfrm>
            <a:off x="324000" y="5085000"/>
            <a:ext cx="3095640" cy="942480"/>
          </a:xfrm>
          <a:prstGeom prst="rect">
            <a:avLst/>
          </a:prstGeom>
          <a:solidFill>
            <a:srgbClr val="f1f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享誉世界的作家和演说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海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凯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1619280" y="126828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这个，让我们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真诚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这位音乐大师说一声：“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谢谢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！’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1692360" y="286704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这个，让我们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大声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这位音乐大师说一声：“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谢谢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！’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1692360" y="444960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这个，让我们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自豪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这位音乐大师说一声：“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谢谢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！’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WordArt 2"/>
          <p:cNvSpPr txBox="1"/>
          <p:nvPr/>
        </p:nvSpPr>
        <p:spPr>
          <a:xfrm>
            <a:off x="2916360" y="2565360"/>
            <a:ext cx="307656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8000"/>
                    </a:srgbClr>
                  </a:outerShdw>
                </a:effectLst>
                <a:latin typeface="黑体"/>
              </a:rPr>
              <a:t>再见！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2"/>
          <p:cNvSpPr/>
          <p:nvPr/>
        </p:nvSpPr>
        <p:spPr>
          <a:xfrm>
            <a:off x="539640" y="1773360"/>
            <a:ext cx="727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黑体"/>
                <a:ea typeface="黑体"/>
              </a:rPr>
              <a:t>帕尔曼  联袂  怦然心动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2171520" y="3284640"/>
            <a:ext cx="405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黑体"/>
                <a:ea typeface="黑体"/>
              </a:rPr>
              <a:t>拄着  磁铁  魅力  搀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4" descr="生字学习"/>
          <p:cNvPicPr/>
          <p:nvPr/>
        </p:nvPicPr>
        <p:blipFill>
          <a:blip r:embed="rId1"/>
          <a:stretch/>
        </p:blipFill>
        <p:spPr>
          <a:xfrm>
            <a:off x="395280" y="0"/>
            <a:ext cx="2028960" cy="1739880"/>
          </a:xfrm>
          <a:prstGeom prst="rect">
            <a:avLst/>
          </a:prstGeom>
          <a:ln w="0">
            <a:noFill/>
          </a:ln>
        </p:spPr>
      </p:pic>
      <p:sp>
        <p:nvSpPr>
          <p:cNvPr id="496" name="AutoShape 5"/>
          <p:cNvSpPr/>
          <p:nvPr/>
        </p:nvSpPr>
        <p:spPr>
          <a:xfrm>
            <a:off x="1260360" y="4654440"/>
            <a:ext cx="6194520" cy="14432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你能用上这里一些新词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说说课文的主要内容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2" descr="3808014700778075305"/>
          <p:cNvPicPr/>
          <p:nvPr/>
        </p:nvPicPr>
        <p:blipFill>
          <a:blip r:embed="rId1"/>
          <a:srcRect l="0" t="0" r="3741" b="0"/>
          <a:stretch/>
        </p:blipFill>
        <p:spPr>
          <a:xfrm>
            <a:off x="684360" y="333360"/>
            <a:ext cx="4173480" cy="591012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3"/>
          <p:cNvSpPr/>
          <p:nvPr/>
        </p:nvSpPr>
        <p:spPr>
          <a:xfrm>
            <a:off x="6089400" y="1125360"/>
            <a:ext cx="9115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帕尔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2"/>
          <p:cNvSpPr/>
          <p:nvPr/>
        </p:nvSpPr>
        <p:spPr>
          <a:xfrm>
            <a:off x="755640" y="76500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同学们快速浏览课文，找出些帕尔曼出场的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3" descr="小蜜蜂"/>
          <p:cNvPicPr/>
          <p:nvPr/>
        </p:nvPicPr>
        <p:blipFill>
          <a:blip r:embed="rId1"/>
          <a:stretch/>
        </p:blipFill>
        <p:spPr>
          <a:xfrm>
            <a:off x="7872480" y="4873680"/>
            <a:ext cx="1523880" cy="159552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4"/>
          <p:cNvSpPr/>
          <p:nvPr/>
        </p:nvSpPr>
        <p:spPr>
          <a:xfrm>
            <a:off x="826920" y="227664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当帕尔曼出现时，我怦然心动。他拄着双拐，艰难而又  走上了台。拐杖加上小提琴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这就是帕尔曼独特的形象吗？从他出现的那一刻起，我的视线就像磁铁吸引，再也没有离开过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7081200" y="2852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自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1619280" y="242100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“——”画出令你感动的句子，并在文中作好批注，再与前后同学一起读一读你们所画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2"/>
          <p:cNvSpPr/>
          <p:nvPr/>
        </p:nvSpPr>
        <p:spPr>
          <a:xfrm>
            <a:off x="900000" y="206064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这位音乐家的杰出之处，动人之处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仅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在他的琴声里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更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在他的人格魅力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" descr="细读感悟"/>
          <p:cNvPicPr/>
          <p:nvPr/>
        </p:nvPicPr>
        <p:blipFill>
          <a:blip r:embed="rId1"/>
          <a:stretch/>
        </p:blipFill>
        <p:spPr>
          <a:xfrm>
            <a:off x="684360" y="907920"/>
            <a:ext cx="2104920" cy="5637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4" descr="小蜜蜂"/>
          <p:cNvPicPr/>
          <p:nvPr/>
        </p:nvPicPr>
        <p:blipFill>
          <a:blip r:embed="rId2"/>
          <a:stretch/>
        </p:blipFill>
        <p:spPr>
          <a:xfrm>
            <a:off x="6084720" y="3429000"/>
            <a:ext cx="22194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"/>
          <p:cNvSpPr/>
          <p:nvPr/>
        </p:nvSpPr>
        <p:spPr>
          <a:xfrm>
            <a:off x="1547640" y="286848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最让我意外而感动的是帕尔曼站起来的那一刻。一曲终了，他用拐杖支撑着自己试图站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3"/>
          <p:cNvSpPr/>
          <p:nvPr/>
        </p:nvSpPr>
        <p:spPr>
          <a:xfrm>
            <a:off x="684360" y="1413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么，哪件事体现了他的人格魅力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精读入情"/>
          <p:cNvPicPr/>
          <p:nvPr/>
        </p:nvPicPr>
        <p:blipFill>
          <a:blip r:embed="rId1"/>
          <a:stretch/>
        </p:blipFill>
        <p:spPr>
          <a:xfrm>
            <a:off x="539640" y="836640"/>
            <a:ext cx="2079720" cy="60624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3"/>
          <p:cNvSpPr/>
          <p:nvPr/>
        </p:nvSpPr>
        <p:spPr>
          <a:xfrm>
            <a:off x="1332000" y="692280"/>
            <a:ext cx="806436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起来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跌坐在椅子上； </a:t>
            </a:r>
            <a:br>
              <a:rPr sz="3600"/>
            </a:b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再起来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又没成功； </a:t>
            </a:r>
            <a:br>
              <a:rPr sz="3600"/>
            </a:b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又试了一次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又失败了。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755640" y="2421000"/>
            <a:ext cx="777564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帕尔曼笑了笑，平静谦和，甚至带一点儿歉意。他又试了第四次，这一次他终于站了起来！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3" descr="精读入情"/>
          <p:cNvPicPr/>
          <p:nvPr/>
        </p:nvPicPr>
        <p:blipFill>
          <a:blip r:embed="rId1"/>
          <a:stretch/>
        </p:blipFill>
        <p:spPr>
          <a:xfrm>
            <a:off x="539640" y="836640"/>
            <a:ext cx="2079720" cy="6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5:56:28Z</dcterms:created>
  <dc:creator> </dc:creator>
  <dc:description> </dc:description>
  <cp:keywords/>
  <dc:language>en-US</dc:language>
  <cp:lastModifiedBy>bonny</cp:lastModifiedBy>
  <dcterms:modified xsi:type="dcterms:W3CDTF">2015-08-25T12:48:50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