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0B9-B4E3-4395-B38C-AA98C6FB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BAB-CB55-49B5-9FB1-E147A75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B62-1499-454E-AAED-EB51DA03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A0D-63D3-479C-9B1F-9A4A6135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022D-DC3D-4C53-B9F9-77EBCE92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0076-0D17-42A3-BCDD-800D1BC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FBE2-2DB9-431A-9F75-E0715234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7349-5DA4-4A36-AC26-13282304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0C51-A41E-4D97-8904-6999FB33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6DC-F6FF-4871-BEA0-BF658263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8800-9326-460D-AC79-8FB1C4D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1B8-2684-4DC1-BC8B-50CE0FB5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8DEE-BA05-4C93-B94B-ECF5DC0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0F1E-D755-4535-AD70-22910C8F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C87F-3B4B-4FB2-8A06-3649BB23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8765-71D9-4048-AB0A-561D3C3D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BE54-15C3-4F0F-AAE1-93475C20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2AC-EDE8-457D-995B-FB5DC41A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34A-5559-4EBF-83D1-EFFBB0A3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9A4-8B9F-4057-BC21-9725D2F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2EF-E323-4D5D-8CE6-CAE03280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8D1-1556-4F49-A9FF-86ECB393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FE6-E220-4A09-BDCD-47A10EB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241-FD64-4BCB-A0D2-B6DF0C75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FDF-E3AC-4084-95C0-54D185F53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4AE9-AB35-4AEC-B751-46D3A6E77FE4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32"/>
          <p:cNvSpPr/>
          <p:nvPr/>
        </p:nvSpPr>
        <p:spPr>
          <a:xfrm>
            <a:off x="7667640" y="692280"/>
            <a:ext cx="1008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宋体"/>
              </a:rPr>
              <a:t>11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郑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远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航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Text Box 1033"/>
          <p:cNvSpPr/>
          <p:nvPr/>
        </p:nvSpPr>
        <p:spPr>
          <a:xfrm>
            <a:off x="7093080" y="189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苏教版第十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Picture 1036" descr="taiwan220403a"/>
          <p:cNvPicPr/>
          <p:nvPr/>
        </p:nvPicPr>
        <p:blipFill>
          <a:blip r:embed="rId1"/>
          <a:stretch/>
        </p:blipFill>
        <p:spPr>
          <a:xfrm>
            <a:off x="236232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:\Users\dell\AppData\Roaming\Tencent\Users\712326765\QQ\WinTemp\RichOle\2OW1R}N1TTVHI5A))8Z3BSO.png"/>
          <p:cNvPicPr/>
          <p:nvPr/>
        </p:nvPicPr>
        <p:blipFill>
          <a:blip r:embed="rId1"/>
          <a:stretch/>
        </p:blipFill>
        <p:spPr>
          <a:xfrm>
            <a:off x="214200" y="928800"/>
            <a:ext cx="867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55640" y="19162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规模确实非常庞大！那时间到底有多长呢？快速浏览文章。找出时间长的语句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4360" y="620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时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5406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从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1405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年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1433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年的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年间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郑和率领船队出洋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七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次，前后到过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十多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个国家。最后一次远航，郑和已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经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六十多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岁的老人，鬓发全白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这次航行，一直到达非洲东岸，直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第三年才回到祖国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14400" y="1295280"/>
            <a:ext cx="7238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43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，郑和于归国途中，积劳成疾，在古里（今印度卡利卡特）病逝。七月船队回国。明宣宗赐葬郑和于南京牛首山南麓。终年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900000" y="184464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郑和下西洋到底到了哪些地方？范围有多广呢？让我们来看一段资料介绍。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58920" y="620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范围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zdzhon94"/>
          <p:cNvPicPr/>
          <p:nvPr/>
        </p:nvPicPr>
        <p:blipFill>
          <a:blip r:embed="rId1"/>
          <a:stretch/>
        </p:blipFill>
        <p:spPr>
          <a:xfrm>
            <a:off x="611280" y="260280"/>
            <a:ext cx="8208720" cy="62643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"/>
          <p:cNvSpPr/>
          <p:nvPr/>
        </p:nvSpPr>
        <p:spPr>
          <a:xfrm>
            <a:off x="4267080" y="4038480"/>
            <a:ext cx="685800" cy="381240"/>
          </a:xfrm>
          <a:prstGeom prst="wedgeEllipseCallout">
            <a:avLst>
              <a:gd name="adj1" fmla="val -56018"/>
              <a:gd name="adj2" fmla="val 72916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70320" y="403848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古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580000" y="3852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885080" y="1484280"/>
            <a:ext cx="792360" cy="432000"/>
          </a:xfrm>
          <a:prstGeom prst="wedgeEllipseCallout">
            <a:avLst>
              <a:gd name="adj1" fmla="val -62023"/>
              <a:gd name="adj2" fmla="val 86398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950960" y="1557360"/>
            <a:ext cx="592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刘家港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Freeform 8"/>
          <p:cNvSpPr/>
          <p:nvPr/>
        </p:nvSpPr>
        <p:spPr>
          <a:xfrm>
            <a:off x="4140360" y="765000"/>
            <a:ext cx="2952720" cy="316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7164360" y="2060640"/>
            <a:ext cx="852480" cy="2028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Freeform 10"/>
          <p:cNvSpPr/>
          <p:nvPr/>
        </p:nvSpPr>
        <p:spPr>
          <a:xfrm>
            <a:off x="7093080" y="2060640"/>
            <a:ext cx="869760" cy="2031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7070760" y="4078440"/>
            <a:ext cx="280800" cy="1582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Freeform 12"/>
          <p:cNvSpPr/>
          <p:nvPr/>
        </p:nvSpPr>
        <p:spPr>
          <a:xfrm>
            <a:off x="7155000" y="5646600"/>
            <a:ext cx="450720" cy="551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Freeform 13"/>
          <p:cNvSpPr/>
          <p:nvPr/>
        </p:nvSpPr>
        <p:spPr>
          <a:xfrm>
            <a:off x="5951520" y="5021280"/>
            <a:ext cx="1566720" cy="1074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Freeform 14"/>
          <p:cNvSpPr/>
          <p:nvPr/>
        </p:nvSpPr>
        <p:spPr>
          <a:xfrm>
            <a:off x="4498920" y="4618080"/>
            <a:ext cx="1501920" cy="527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Freeform 15"/>
          <p:cNvSpPr/>
          <p:nvPr/>
        </p:nvSpPr>
        <p:spPr>
          <a:xfrm>
            <a:off x="3909960" y="3367080"/>
            <a:ext cx="574560" cy="1755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33cc"/>
              </a:solidFill>
              <a:latin typeface="Arial"/>
              <a:ea typeface="楷体_GB2312"/>
            </a:endParaRPr>
          </a:p>
        </p:txBody>
      </p:sp>
      <p:pic>
        <p:nvPicPr>
          <p:cNvPr id="151" name="Picture 4" descr="d002b34b127966c482025c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8032680" y="907920"/>
            <a:ext cx="111132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刘家港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300720" cy="27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从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1405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年到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1433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年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年间，郑和率领船队出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七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次，前后一共到过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三十多个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国家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476280" y="606600"/>
            <a:ext cx="81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郑和远航，促进了我国和亚非许多国家的经济文化交流和友好往来。那么都进行了哪些交往呢？请大家阅读文章第四节，然后用简洁的话来说一说。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各国君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看见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楷体_GB2312"/>
              </a:rPr>
              <a:t>船队规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宏大，使者的态度友好亲切，没有丝毫炫耀武力、威胁别人的意思，都表示热烈欢迎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老百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说明朝的船队来了，也都扶老携幼，争相到海边观看。他们面对从来没有看见过的宝船，个个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惊叹不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从中你体会到了什么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3520" y="606600"/>
            <a:ext cx="8076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资料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郑和下西洋带往各国的物资有丝绸、瓷器、铁制生产工具和生活用品、手工业品、茶叶、货币、历法、衡器、书籍、药材等等，带回的物资大多是土特产，有香料、药材、生产瓷器所需的原料、珍稀动植物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郑和和西方航海探险家比较有本质的不同。西方航海探险家他们所到之处就是掠夺、烧杀、欺诈、领土扩张，以达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伽马为例，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50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年他在印度洋上遇到一艘没有武装的船，达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伽马下令抢光船上的财物，船上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70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多人全被烧死，西方的不少航海家都有残忍抢劫的记录。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14400" y="1249200"/>
            <a:ext cx="7689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略读课文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本文主要写了一件什么事情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一句话概括评价郑和远航。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大明宣德炉"/>
          <p:cNvPicPr/>
          <p:nvPr/>
        </p:nvPicPr>
        <p:blipFill>
          <a:blip r:embed="rId1"/>
          <a:stretch/>
        </p:blipFill>
        <p:spPr>
          <a:xfrm>
            <a:off x="111600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景泰蓝"/>
          <p:cNvPicPr/>
          <p:nvPr/>
        </p:nvPicPr>
        <p:blipFill>
          <a:blip r:embed="rId2"/>
          <a:stretch/>
        </p:blipFill>
        <p:spPr>
          <a:xfrm>
            <a:off x="3886200" y="380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青花龙饰罐"/>
          <p:cNvPicPr/>
          <p:nvPr/>
        </p:nvPicPr>
        <p:blipFill>
          <a:blip r:embed="rId3"/>
          <a:stretch/>
        </p:blipFill>
        <p:spPr>
          <a:xfrm>
            <a:off x="6553080" y="1600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445176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景泰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524240" y="35258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大明宣德炉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935760" y="350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青花龙饰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504960" y="6021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永乐窑景德镇甜白釉暗花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" name="Picture 11" descr="C:\Users\dell\AppData\Roaming\Tencent\Users\712326765\QQ\WinTemp\RichOle\~4VNMO[UQ_8_)TE_E){752R.png"/>
          <p:cNvPicPr/>
          <p:nvPr/>
        </p:nvPicPr>
        <p:blipFill>
          <a:blip r:embed="rId4"/>
          <a:stretch/>
        </p:blipFill>
        <p:spPr>
          <a:xfrm>
            <a:off x="3643200" y="2857680"/>
            <a:ext cx="2495520" cy="27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１"/>
          <p:cNvPicPr/>
          <p:nvPr/>
        </p:nvPicPr>
        <p:blipFill>
          <a:blip r:embed="rId1"/>
          <a:stretch/>
        </p:blipFill>
        <p:spPr>
          <a:xfrm>
            <a:off x="3733920" y="3733920"/>
            <a:ext cx="1981080" cy="236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２"/>
          <p:cNvPicPr/>
          <p:nvPr/>
        </p:nvPicPr>
        <p:blipFill>
          <a:blip r:embed="rId2"/>
          <a:stretch/>
        </p:blipFill>
        <p:spPr>
          <a:xfrm>
            <a:off x="6858000" y="4191120"/>
            <a:ext cx="182880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３"/>
          <p:cNvPicPr/>
          <p:nvPr/>
        </p:nvPicPr>
        <p:blipFill>
          <a:blip r:embed="rId3"/>
          <a:stretch/>
        </p:blipFill>
        <p:spPr>
          <a:xfrm>
            <a:off x="533520" y="4114800"/>
            <a:ext cx="2057400" cy="2438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４"/>
          <p:cNvPicPr/>
          <p:nvPr/>
        </p:nvPicPr>
        <p:blipFill>
          <a:blip r:embed="rId4"/>
          <a:stretch/>
        </p:blipFill>
        <p:spPr>
          <a:xfrm>
            <a:off x="6934320" y="4572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５"/>
          <p:cNvPicPr/>
          <p:nvPr/>
        </p:nvPicPr>
        <p:blipFill>
          <a:blip r:embed="rId5"/>
          <a:stretch/>
        </p:blipFill>
        <p:spPr>
          <a:xfrm>
            <a:off x="3809880" y="76212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６"/>
          <p:cNvPicPr/>
          <p:nvPr/>
        </p:nvPicPr>
        <p:blipFill>
          <a:blip r:embed="rId6"/>
          <a:stretch/>
        </p:blipFill>
        <p:spPr>
          <a:xfrm>
            <a:off x="609480" y="380880"/>
            <a:ext cx="2057400" cy="2667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438280" y="1905120"/>
            <a:ext cx="1371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572"/>
                </a:solidFill>
                <a:latin typeface="Times New Roman"/>
                <a:ea typeface="隶书"/>
              </a:rPr>
              <a:t>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隶书"/>
              </a:rPr>
              <a:t>瓷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867280" y="27432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隶书"/>
              </a:rPr>
              <a:t>器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7702920" y="358128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Picture 5" descr="C:\Users\dell\AppData\Roaming\Tencent\Users\712326765\QQ\WinTemp\RichOle\UT@@(6(IK$V4K7BWS0NU@~6.png"/>
          <p:cNvPicPr/>
          <p:nvPr/>
        </p:nvPicPr>
        <p:blipFill>
          <a:blip r:embed="rId1"/>
          <a:stretch/>
        </p:blipFill>
        <p:spPr>
          <a:xfrm>
            <a:off x="642960" y="500040"/>
            <a:ext cx="79344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90720" y="51814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Times New Roman"/>
                <a:ea typeface="隶书"/>
              </a:rPr>
              <a:t>丝  绸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6" name="Picture 3" descr="11"/>
          <p:cNvPicPr/>
          <p:nvPr/>
        </p:nvPicPr>
        <p:blipFill>
          <a:blip r:embed="rId1"/>
          <a:stretch/>
        </p:blipFill>
        <p:spPr>
          <a:xfrm>
            <a:off x="685800" y="53352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３３"/>
          <p:cNvPicPr/>
          <p:nvPr/>
        </p:nvPicPr>
        <p:blipFill>
          <a:blip r:embed="rId2"/>
          <a:stretch/>
        </p:blipFill>
        <p:spPr>
          <a:xfrm>
            <a:off x="5105520" y="9144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２２"/>
          <p:cNvPicPr/>
          <p:nvPr/>
        </p:nvPicPr>
        <p:blipFill>
          <a:blip r:embed="rId3"/>
          <a:stretch/>
        </p:blipFill>
        <p:spPr>
          <a:xfrm>
            <a:off x="5105520" y="38098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11280" y="105264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成功的背后，道路是坎坷的。速读第五节，想想航行中都遇到了哪些凶险，郑和是怎样克服的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406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在大海上，船队好几次遇上险恶的风浪。狂风呼啸着，海水像脱缰的野马，奔腾咆哮。巨浪疯狂地扑向船队，仿佛要把船只撕裂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面对如此险境，郑和总是镇定自若，指挥着船队在波峰浪谷中奋勇向前，一次次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化险为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9640" y="90792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郑和根据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事先得到的消息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，命令军士们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严阵以待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。当海盗船乘着黑夜，偷偷摸摸靠近船队时，郑和的船队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迅速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将海盗包围起来。士兵们从大船上往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丢火把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，将海盗船烧着了。海盗们无处可逃，只好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乖乖地当了俘虏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48720" y="-4783320"/>
            <a:ext cx="93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79185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险恶的风浪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郑和表现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结果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海盗的袭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郑和表现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结果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634360" y="1557360"/>
            <a:ext cx="9075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黑体"/>
              </a:rPr>
              <a:t>镇定自若、奋勇向前、化险为夷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080160" y="221940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黑体"/>
              </a:rPr>
              <a:t>战胜了风浪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690880" y="3789360"/>
            <a:ext cx="10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黑体"/>
              </a:rPr>
              <a:t>严阵以待、迅速、包围、丢、烧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864160" y="450864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黑体"/>
              </a:rPr>
              <a:t>俘虏了海盗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541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郑和远航，规模之大，时间之长，范围之广，达到了当时世界航海事业的顶峰。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它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表现了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我国古代人民顽强的探索精神，也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开阔了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中国人的眼界。郑和出使，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促进了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我国和亚非许多国家的经济文化交流和友好往来。正到现在，有关国家还流传着三保太监下西洋的故事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2133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之后，哥伦布两只小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人发现了美洲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之后，麦哲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小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人发现了好望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83664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扶老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幼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惊叹不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已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严阵以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待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化险为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夷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    镇定自若     雄伟壮观     奔腾咆哮    波峰浪谷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头    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器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     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遣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   双手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拳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赠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送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撕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裂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范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26920" y="18900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我会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53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郑和远航表现了我国古代人民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顽强的探索精神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，也开阔了中国人的眼界。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zhenghe_b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4896000" y="836640"/>
            <a:ext cx="4429080" cy="49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天记得你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海记得你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山唱着你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海唱着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七下西洋美名扬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六百春秋长流芳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26920" y="907920"/>
            <a:ext cx="792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宋体"/>
              </a:rPr>
              <a:t>作业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宋体"/>
              </a:rPr>
              <a:t>     </a:t>
            </a:r>
            <a:r>
              <a:rPr b="0" lang="zh-CN" sz="4800" spc="-1" strike="noStrike">
                <a:solidFill>
                  <a:srgbClr val="000099"/>
                </a:solidFill>
                <a:latin typeface="宋体"/>
              </a:rPr>
              <a:t>郑和为什么会有丰富的航海知识和极高的军事素养呢？你对此感兴趣吗？查找资料，进一步了解郑和，然后和大家交流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88000" y="-19080"/>
            <a:ext cx="326232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郑和第一次下西洋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-171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课本重点介绍了（                             ）的情况，并点明（                              ）的重大意义，表现了（                                                                                                                                                                ）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067280" y="628560"/>
            <a:ext cx="3262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郑和七次远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24360" y="1276200"/>
            <a:ext cx="4680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我国古代人民顽强的探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4360" y="1924200"/>
            <a:ext cx="405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精神和出色的航海技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42920" y="2286000"/>
            <a:ext cx="77994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通过浏览文章，用一到两个字填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619280" y="3151080"/>
            <a:ext cx="50655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规模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时间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范围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意义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影响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349440" y="3078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276720" y="3654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49440" y="4159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3276000" y="4735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3276000" y="5238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深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7994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通过浏览文章，用一到两个字填空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50655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规模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时间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范围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意义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影响（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34944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76720" y="2060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34944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76000" y="314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76000" y="364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深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郑和远航，规模之大，时间之长，范围之广，达到了当时世界航海事业的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顶峰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47920" y="181296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规模 之大，时间之长，范围之广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705720" y="45720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顶峰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68360" y="6206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什么是顶峰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692360" y="544500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郑和远航达到当时世界航海事业的顶峰，说明了什么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55640" y="17002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由地读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—3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然段，圈画出表示规模大的词句，读一读。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1600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规模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79280" y="189000"/>
            <a:ext cx="87138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中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十二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艘大船特别雄伟壮观，这些大船又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宝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每艘宝船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8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宽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多层楼房那么高。船上有九根桅杆和十二面风帆，可以乘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千多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人，需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三百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人驾驶。船上配备着航海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罗盘等当时最先进的仪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概括大船之所以成为“宝船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的原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Picture 5" descr="C:\Users\dell\AppData\Roaming\Tencent\Users\712326765\QQ\WinTemp\RichOle\59XI2T9YT~~G0X9{TY7F4JR.png"/>
          <p:cNvPicPr/>
          <p:nvPr/>
        </p:nvPicPr>
        <p:blipFill>
          <a:blip r:embed="rId1"/>
          <a:stretch/>
        </p:blipFill>
        <p:spPr>
          <a:xfrm>
            <a:off x="5227560" y="4071960"/>
            <a:ext cx="3916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Picture 4" descr="77485536a50376f5a2cc2b71"/>
          <p:cNvPicPr/>
          <p:nvPr/>
        </p:nvPicPr>
        <p:blipFill>
          <a:blip r:embed="rId1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0" y="3645000"/>
            <a:ext cx="3297240" cy="3214080"/>
            <a:chOff x="0" y="3645000"/>
            <a:chExt cx="3297240" cy="3214080"/>
          </a:xfrm>
        </p:grpSpPr>
        <p:pic>
          <p:nvPicPr>
            <p:cNvPr id="120" name="Picture 6" descr="00_03_06[1]"/>
            <p:cNvPicPr/>
            <p:nvPr/>
          </p:nvPicPr>
          <p:blipFill>
            <a:blip r:embed="rId2"/>
            <a:stretch/>
          </p:blipFill>
          <p:spPr>
            <a:xfrm>
              <a:off x="0" y="3645000"/>
              <a:ext cx="3297240" cy="25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/>
            <p:cNvSpPr/>
            <p:nvPr/>
          </p:nvSpPr>
          <p:spPr>
            <a:xfrm>
              <a:off x="755640" y="6216480"/>
              <a:ext cx="1368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</a:rPr>
                <a:t>战船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3059280" y="3789360"/>
            <a:ext cx="2827080" cy="3069720"/>
            <a:chOff x="3059280" y="3789360"/>
            <a:chExt cx="2827080" cy="3069720"/>
          </a:xfrm>
        </p:grpSpPr>
        <p:pic>
          <p:nvPicPr>
            <p:cNvPr id="123" name="Picture 9" descr="00_03_03[1]"/>
            <p:cNvPicPr/>
            <p:nvPr/>
          </p:nvPicPr>
          <p:blipFill>
            <a:blip r:embed="rId3"/>
            <a:stretch/>
          </p:blipFill>
          <p:spPr>
            <a:xfrm>
              <a:off x="3059280" y="3789360"/>
              <a:ext cx="282708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/>
            <p:cNvSpPr/>
            <p:nvPr/>
          </p:nvSpPr>
          <p:spPr>
            <a:xfrm>
              <a:off x="3492360" y="6216480"/>
              <a:ext cx="165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   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</a:rPr>
                <a:t>粮船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6156360" y="3500280"/>
            <a:ext cx="3132000" cy="3235320"/>
            <a:chOff x="6156360" y="3500280"/>
            <a:chExt cx="3132000" cy="3235320"/>
          </a:xfrm>
        </p:grpSpPr>
        <p:pic>
          <p:nvPicPr>
            <p:cNvPr id="126" name="Picture 12" descr="00_03_04[1]"/>
            <p:cNvPicPr/>
            <p:nvPr/>
          </p:nvPicPr>
          <p:blipFill>
            <a:blip r:embed="rId4"/>
            <a:stretch/>
          </p:blipFill>
          <p:spPr>
            <a:xfrm>
              <a:off x="6156360" y="3500280"/>
              <a:ext cx="3132000" cy="26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/>
            <p:cNvSpPr/>
            <p:nvPr/>
          </p:nvSpPr>
          <p:spPr>
            <a:xfrm>
              <a:off x="6659640" y="6093000"/>
              <a:ext cx="16002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</a:rPr>
                <a:t>水船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22:58:28Z</dcterms:created>
  <dc:creator/>
  <dc:description/>
  <dc:language>en-US</dc:language>
  <cp:lastModifiedBy/>
  <dcterms:modified xsi:type="dcterms:W3CDTF">2016-03-25T02:44:00Z</dcterms:modified>
  <cp:revision>4</cp:revision>
  <dc:subject/>
  <dc:title>幻灯片 1</dc:title>
</cp:coreProperties>
</file>