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B30D-82C5-495A-B14B-0A7184580C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142-6DD3-47DD-82AE-A434CA5620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227E-E0A1-4680-A710-F5077C88F4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724-A3F0-48B2-A244-25B26203FB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E05-1392-46F2-A056-08CEE980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311-6F65-4905-9CAB-50A4B32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4B3-34C6-4F33-98FC-EC821EF2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309-1985-4C5B-BED8-51DFF841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1C12-36BA-46DA-8512-AFC126E5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14F5-4525-4614-A5A7-3AA98E6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20C7-1677-422E-88EF-A1A384D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3E9-C508-4DF3-9C0F-53ED437A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AF59-6ECF-41A3-864B-E395FEE7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0170-9C5D-4B1B-A1C2-A043A82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53BD-433F-49D5-A129-2BC95ED5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F37-5A20-431E-A3D9-56DA19E8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0A7C-2745-40E5-A6A1-D0C0D01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D78-2BE2-4B0C-8EC1-B8410B9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199-EAB0-4DD6-BEFE-DAA0C12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30E-24A9-490C-9C0F-1D272C51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D72A-394B-4EC5-BE2B-41BF3671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8756-4C6D-4B2F-95CD-A378C9D9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CD9D-652B-413E-A792-8B05554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8540-1FD3-4AEB-89A3-0340FD36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DA55-79D9-48B0-95F4-F1222E7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D280-1760-49E2-9FBD-1631E650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918-E871-42F6-9AD5-08D258DA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BCB1-1E11-4C92-9DB3-A0E8B6C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0AA9-4818-430F-97DD-A5B5F49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17C7-753D-488C-8FD8-B1E11288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B393-9042-42BF-A855-3621E36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D7C7-633A-4540-A771-510C5D64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E08C-E774-4D3E-B71C-7E650EF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23CA-59A6-4BB1-A2AB-24831A06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7938-F5A0-4102-A147-2E99796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48E2-F204-4DEF-9E05-2DDC40F8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C715-B21F-40F1-9A07-1851C72F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7EA-3E31-4B73-B10A-B7808207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BDBD-4C35-4A86-84F7-30EBCE92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AB0E-C4B4-4542-AD5F-7935F08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4FEC-10B8-4660-AEF3-0B8264D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082E-9B0A-44B7-A1E2-93A66F8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18A5B-C66A-456A-A057-79F1F97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A5FD-47DD-4EE5-9E1A-9D5B3AA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A1B3-D2D5-449D-9E84-F6A208F3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4AFC-9984-407E-AAF1-A1C9D17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EAA2-8A88-465D-8E8F-A7CE6B65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8C0E8-562A-4D25-B32E-DD4EA4C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749-7CC8-44E4-82B6-AC9DC10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7AA5-D69F-40ED-BF38-CD19E76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8721-D5E2-4941-A495-5863EB1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61F8-8CF2-4FB1-8971-6E8527C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2C305-8D61-4F89-AA40-5EC00DE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75DB-8E6A-4783-BA34-20E05E8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BA0BB-4EB1-4BD0-A339-9EB4266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FADF-DDB3-43EB-A46B-3F00D125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E050-3CEA-4D32-B4D2-976EEE3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7BE8-210B-41FF-9384-B13639C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6D99-3A74-4B5E-A7FE-607FB33B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A38-F03D-4056-AA52-C6272F7B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79DB-36BC-4205-AA30-7C39E7B5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EE5-EFC3-4498-AF86-27CA1F2A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16AE-4685-4824-9FB8-4CECD125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F707-D474-437B-BD5E-B3BB0FB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F43D-E426-4DD3-A7A5-CC8ECF07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4F4B-06A9-45D9-BF79-ECFDA4F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E2C3-796A-4337-B93F-B2545B4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A200-0352-44C9-834C-A6E95DB3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32500-0C8C-4F46-B291-8D3D9AB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533-2C29-4D14-937C-1395B12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456E4-902C-46CC-AE25-1D843A1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42598-77DB-426C-92F0-68C7B93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B048-A5B6-4E87-9C91-41268AF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59F9D-04A3-4325-8EEE-FFDAFFCF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83AE-7575-4E4D-86BF-938DE18A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3C12-17DE-4AFF-BE85-28D1C55D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6F4C-1E49-4F08-B415-D28B669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25F8F-10D9-41BA-9C79-9732F73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5AA5C-C4A1-475F-AFA0-198B80CF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BB16B-7DAB-456F-956F-7CAB46D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529-C33E-4C6D-A686-81627D6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44474-8629-4FAF-8E16-398289D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4194-DFCF-4B56-B515-A8213BE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13AB-2DD0-4E8A-8BE9-8E77D8B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5AF4-04B5-4781-9E14-0A24D34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C010-449D-427C-AB13-60EC1DE1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E311-89A1-49C0-8CA6-64A9FB3A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F8CB2-8FEE-4C72-AD24-567C724C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95E-4FE5-46AD-B709-D481D4D64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C0CA-FE8F-4EF8-9D7F-4B7A66C06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7701cc93d56fd32be09e69e"/>
          <p:cNvPicPr/>
          <p:nvPr/>
        </p:nvPicPr>
        <p:blipFill>
          <a:blip r:embed="rId3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未知"/>
          <p:cNvSpPr/>
          <p:nvPr/>
        </p:nvSpPr>
        <p:spPr>
          <a:xfrm>
            <a:off x="-237960" y="-12600"/>
            <a:ext cx="880920" cy="69991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未知"/>
          <p:cNvSpPr/>
          <p:nvPr/>
        </p:nvSpPr>
        <p:spPr>
          <a:xfrm>
            <a:off x="395280" y="3933720"/>
            <a:ext cx="216000" cy="248472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142920" y="3753000"/>
            <a:ext cx="179280" cy="230328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>
            <a:off x="0" y="-49320"/>
            <a:ext cx="571680" cy="495144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>
            <a:off x="108000" y="-9360"/>
            <a:ext cx="576360" cy="29700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8209440" y="-49320"/>
            <a:ext cx="1186920" cy="7035840"/>
            <a:chOff x="8209440" y="-49320"/>
            <a:chExt cx="1186920" cy="7035840"/>
          </a:xfrm>
        </p:grpSpPr>
        <p:sp>
          <p:nvSpPr>
            <p:cNvPr id="92" name="未知"/>
            <p:cNvSpPr/>
            <p:nvPr/>
          </p:nvSpPr>
          <p:spPr>
            <a:xfrm flipH="1">
              <a:off x="8209080" y="-12960"/>
              <a:ext cx="1186920" cy="69994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 flipH="1">
              <a:off x="8542080" y="3938040"/>
              <a:ext cx="284760" cy="2478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>
              <a:off x="8923320" y="3757680"/>
              <a:ext cx="236880" cy="22975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flipH="1">
              <a:off x="8636040" y="-49320"/>
              <a:ext cx="759960" cy="56739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flipH="1">
              <a:off x="8445960" y="-12960"/>
              <a:ext cx="759960" cy="29804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未知"/>
          <p:cNvSpPr/>
          <p:nvPr/>
        </p:nvSpPr>
        <p:spPr>
          <a:xfrm>
            <a:off x="-166680" y="189000"/>
            <a:ext cx="557280" cy="56847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8461440" y="-120600"/>
            <a:ext cx="576360" cy="51307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44A-AD52-4F36-910B-5FBBA6105C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8B4-DC1E-4C50-B985-FDD403F167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2DB-911D-492F-B060-C8FFAD6561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6"/>
          <p:cNvSpPr/>
          <p:nvPr/>
        </p:nvSpPr>
        <p:spPr>
          <a:xfrm>
            <a:off x="8110440" y="6276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不惑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77701cc93d56fd32be09e69e"/>
          <p:cNvPicPr/>
          <p:nvPr/>
        </p:nvPicPr>
        <p:blipFill>
          <a:blip r:embed="rId3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 flipH="1" rot="16200000">
            <a:off x="-3257640" y="3242160"/>
            <a:ext cx="6850080" cy="38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-201600" y="0"/>
            <a:ext cx="882720" cy="70135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398520" y="3935520"/>
            <a:ext cx="216000" cy="248292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146160" y="3754440"/>
            <a:ext cx="179280" cy="230184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0" y="-49320"/>
            <a:ext cx="576360" cy="5672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111240" y="-9360"/>
            <a:ext cx="576000" cy="29718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1"/>
          <p:cNvGrpSpPr/>
          <p:nvPr/>
        </p:nvGrpSpPr>
        <p:grpSpPr>
          <a:xfrm>
            <a:off x="8280360" y="-49320"/>
            <a:ext cx="1079280" cy="7035840"/>
            <a:chOff x="8280360" y="-49320"/>
            <a:chExt cx="1079280" cy="7035840"/>
          </a:xfrm>
        </p:grpSpPr>
        <p:sp>
          <p:nvSpPr>
            <p:cNvPr id="271" name="未知"/>
            <p:cNvSpPr/>
            <p:nvPr/>
          </p:nvSpPr>
          <p:spPr>
            <a:xfrm flipH="1">
              <a:off x="8280360" y="-12960"/>
              <a:ext cx="1079280" cy="69994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 flipH="1">
              <a:off x="8582760" y="3938040"/>
              <a:ext cx="258840" cy="2478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 flipH="1">
              <a:off x="8929440" y="3757680"/>
              <a:ext cx="215280" cy="22975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 flipH="1">
              <a:off x="8668440" y="-49320"/>
              <a:ext cx="691200" cy="56739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flipH="1">
              <a:off x="8495280" y="-12960"/>
              <a:ext cx="691200" cy="29804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未知"/>
          <p:cNvSpPr/>
          <p:nvPr/>
        </p:nvSpPr>
        <p:spPr>
          <a:xfrm>
            <a:off x="-163440" y="-9360"/>
            <a:ext cx="561960" cy="56703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8785080" y="-46080"/>
            <a:ext cx="576360" cy="51325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ED58-51FE-40DC-A16B-D16CC80437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77701cc93d56fd32be09e69e"/>
          <p:cNvPicPr/>
          <p:nvPr/>
        </p:nvPicPr>
        <p:blipFill>
          <a:blip r:embed="rId3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 flipH="1" rot="16200000">
            <a:off x="-3257640" y="3242160"/>
            <a:ext cx="6850080" cy="38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未知"/>
          <p:cNvSpPr/>
          <p:nvPr/>
        </p:nvSpPr>
        <p:spPr>
          <a:xfrm>
            <a:off x="-201600" y="0"/>
            <a:ext cx="882720" cy="70135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未知"/>
          <p:cNvSpPr/>
          <p:nvPr/>
        </p:nvSpPr>
        <p:spPr>
          <a:xfrm>
            <a:off x="398520" y="3935520"/>
            <a:ext cx="216000" cy="248292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未知"/>
          <p:cNvSpPr/>
          <p:nvPr/>
        </p:nvSpPr>
        <p:spPr>
          <a:xfrm>
            <a:off x="146160" y="3754440"/>
            <a:ext cx="179280" cy="2301840"/>
          </a:xfrm>
          <a:prstGeom prst="pi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-49320"/>
            <a:ext cx="576360" cy="5672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111240" y="-9360"/>
            <a:ext cx="576000" cy="29718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8280360" y="-49320"/>
            <a:ext cx="1079280" cy="7035840"/>
            <a:chOff x="8280360" y="-49320"/>
            <a:chExt cx="1079280" cy="7035840"/>
          </a:xfrm>
        </p:grpSpPr>
        <p:sp>
          <p:nvSpPr>
            <p:cNvPr id="329" name="未知"/>
            <p:cNvSpPr/>
            <p:nvPr/>
          </p:nvSpPr>
          <p:spPr>
            <a:xfrm flipH="1">
              <a:off x="8280360" y="-12960"/>
              <a:ext cx="1079280" cy="699948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 flipH="1">
              <a:off x="8582760" y="3938040"/>
              <a:ext cx="258840" cy="2478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 flipH="1">
              <a:off x="8929440" y="3757680"/>
              <a:ext cx="215280" cy="22975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flipH="1">
              <a:off x="8668440" y="-49320"/>
              <a:ext cx="691200" cy="567396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 flipH="1">
              <a:off x="8495280" y="-12960"/>
              <a:ext cx="691200" cy="2980440"/>
            </a:xfrm>
            <a:prstGeom prst="pi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未知"/>
          <p:cNvSpPr/>
          <p:nvPr/>
        </p:nvSpPr>
        <p:spPr>
          <a:xfrm>
            <a:off x="-163440" y="-9360"/>
            <a:ext cx="561960" cy="56703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8785080" y="-46080"/>
            <a:ext cx="576360" cy="51325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004-2149-45D4-B32D-355C33C12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386080" y="2369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叶根友毛笔行书简体"/>
                <a:ea typeface="叶根友毛笔行书简体"/>
              </a:rPr>
              <a:t>古诗两首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怎样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卷地风来忽吹散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卷地而来的大风，忽然把乌云和雨点吹散了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怎样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望湖楼下水如天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望湖楼下面的水像天空一样，水天一色，一片汪洋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读，看画面，想诗境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六月二十七日望湖楼醉书》，你看到了一幅什么样的画面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89080" y="436680"/>
            <a:ext cx="860400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读，品诗味，体诗情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诗表达作者什么样的思想感情呢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疾雨急来急去，令人惊叹）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403280" y="2712960"/>
            <a:ext cx="6691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月二十七日望湖楼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宋 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云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墨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遮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雨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珠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入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地风来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湖楼下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187280" y="693720"/>
            <a:ext cx="670572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莫同年雨中饮湖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宋 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到处相逢是偶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梦中相对各华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还来一醉西湖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见跳珠十五年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接天莲叶无穷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3"/>
          <p:cNvSpPr/>
          <p:nvPr/>
        </p:nvSpPr>
        <p:spPr>
          <a:xfrm>
            <a:off x="1547640" y="1252440"/>
            <a:ext cx="655344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经典隶书简"/>
              </a:rPr>
              <a:t>晓出净慈寺送林子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南宋  杨万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毕竟西湖六月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风光不与四时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接天莲叶无穷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映日荷花别样红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92000" y="2420640"/>
            <a:ext cx="7561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杨万里（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27-120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字廷秀，号诚斋。吉州吉水（今江西省吉水县）人。南宋杰出的诗人，汉族人。一生力主抗金，与范成大、陆游、尤袤等合称南宋“中兴四大诗人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1"/>
          <p:cNvPicPr/>
          <p:nvPr/>
        </p:nvPicPr>
        <p:blipFill>
          <a:blip r:embed="rId1"/>
          <a:stretch/>
        </p:blipFill>
        <p:spPr>
          <a:xfrm>
            <a:off x="2305080" y="368280"/>
            <a:ext cx="4174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958320" y="685440"/>
            <a:ext cx="67820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晓出净慈寺送林子方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南宋  杨万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毕竟西湖六月中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风光不与四时同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接天莲叶无穷碧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映日荷花别样红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96360" y="801720"/>
            <a:ext cx="860436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读，解句意，明诗意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题什么意思？交代了什么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早晨从净慈寺出来，送别朋友林子方。交代时间、地点和人物。）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此时有什么感觉，见到什么景色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议论：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毕竟西湖六月中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光不与四时同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：到底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到底是六月中的西湖，这时的风景和四季不相同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frosted800x6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228600" y="5867280"/>
            <a:ext cx="457200" cy="381240"/>
          </a:xfrm>
          <a:prstGeom prst="rect">
            <a:avLst/>
          </a:prstGeom>
          <a:solidFill>
            <a:srgbClr val="cd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752480" y="533520"/>
            <a:ext cx="54864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题临安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北宋 林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外青山楼外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西湖歌舞几时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暖风熏得游人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直把杭州作汴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后退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172200"/>
            <a:ext cx="411120" cy="2635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写景：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天莲叶无穷碧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映日荷花别样红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穷碧：一片碧绿，无边无际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样红：与往日不一样的红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与天接连的荷叶一边碧绿，无边无际；与太阳相映的荷花和往日不一样的艳红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读，看画面，想诗境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《晓出净慈寺送林子方》，你看到了一幅什么样的画面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89080" y="189000"/>
            <a:ext cx="860400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读，品诗味，体诗情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诗表达作者什么样的思想感情呢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晴天，莲叶荷花壮美，令人惊喜。）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403280" y="2449440"/>
            <a:ext cx="6691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晓出净慈寺送林子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宋  杨万里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毕竟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西湖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六月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与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时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天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莲叶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穷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映日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荷花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别样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能背杨万里其它的诗吗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403280" y="2449440"/>
            <a:ext cx="6691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1530360" y="2576520"/>
            <a:ext cx="6691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612720" y="2384280"/>
            <a:ext cx="388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南宋 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泉眼无声惜细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树阴照水爱晴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荷才露尖尖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早有蜻蜓立上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8000" y="2529000"/>
            <a:ext cx="3627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宿新市徐公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南宋 杨万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篱落疏疏一径深， 　　树头花落未成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儿童急走追黄蝶， 　　飞入菜花无处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0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首诗在写景方面有什么不同之处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六》：写的景物多，变化快，动态多，是在楼上所见的雨景。句句写景，句句含情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晓》：只写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莲叶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荷花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景，突出静态美，色彩美，无边无际的壮阔美，是在寺下所见的晴天湖景，两句议论，两句写景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0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首诗在写景方面有什么相似之处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是写六月的西湖景色，景中有情，情在景中。皆具诗情画意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0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首诗分别描绘了怎样的情景（两首诗的不同点）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首写风雨天，另一首写晴天；一首重在写西湖之水，另一首重在写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天莲叶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一首重在写实，另一首重在议论抒情等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柳引游人入画屏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76360" y="2276640"/>
            <a:ext cx="51130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饮湖上初晴后雨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北宋 苏轼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水光潋滟晴方好，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山色空蒙雨亦奇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欲把西湖比西子，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淡妆浓抹总相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湖心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1523880" y="914400"/>
            <a:ext cx="58676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六月二十七日望湖楼醉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北宋 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黑云翻墨未遮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白雨跳珠乱入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卷地风来忽吹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望湖楼下水如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读，解句意，明诗意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诗题《六月二十七日望湖楼醉书》，你知道了哪些信息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写作诗的时间、地点和心情）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中共写了哪些景物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云、雨、风、水；山、船、地、楼）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445LD_OVW]0`I$V)}~$SBJN"/>
          <p:cNvPicPr/>
          <p:nvPr/>
        </p:nvPicPr>
        <p:blipFill>
          <a:blip r:embed="rId1"/>
          <a:stretch/>
        </p:blipFill>
        <p:spPr>
          <a:xfrm>
            <a:off x="0" y="0"/>
            <a:ext cx="9144000" cy="6622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67816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月二十七日望湖楼醉书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宋 苏轼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云翻墨未遮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雨跳珠乱入船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地风来忽吹散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湖楼下水如天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怎样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云翻墨未遮山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墨：指打翻的黑墨水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遮：遮盖，掩盖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乌云像打翻的黑墨水还没有遮住山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24000" y="686880"/>
            <a:ext cx="86040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怎样？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雨跳珠乱入船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珠：指跳动的珠子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白色的雨点像跳动的珍珠，杂乱地跳进船里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8dc6ff"/>
          </a:solidFill>
          <a:ln w="38160">
            <a:solidFill>
              <a:srgbClr val="def6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ef6f1"/>
                </a:solidFill>
                <a:latin typeface="方正姚体"/>
                <a:ea typeface="方正姚体"/>
              </a:rPr>
              <a:t>西湖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/>
  <dc:description/>
  <cp:keywords/>
  <dc:language>en-US</dc:language>
  <cp:lastModifiedBy>dell</cp:lastModifiedBy>
  <cp:lastPrinted>1899-12-30T00:00:00Z</cp:lastPrinted>
  <dcterms:modified xsi:type="dcterms:W3CDTF">2016-03-25T02:33:09Z</dcterms:modified>
  <cp:revision>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