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rrow.wav" ContentType="audio/x-wav"/>
  <Override PartName="/ppt/media/image13.jpeg" ContentType="image/jpeg"/>
  <Override PartName="/ppt/media/image9.jpeg" ContentType="image/jpeg"/>
  <Override PartName="/ppt/media/image11.jpeg" ContentType="image/jpeg"/>
  <Override PartName="/ppt/media/suction.wav" ContentType="audio/x-wav"/>
  <Override PartName="/ppt/media/image6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A0F-AB72-4FA1-B66C-A6A68C09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0573-DDAD-4090-95C5-9D97869B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B12-91C7-41AF-8EAB-7801B802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2CA-619F-4EE6-8CF1-CA6F36D7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F6B-E3E3-43BD-A681-62727ADD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B6F-EA5E-4C8C-A86D-201C5017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4B5-4CF7-41DE-BA10-62087C06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ECE-86CE-419A-9C53-DB33CDED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BC2-3767-4B1F-B37C-1E91FE7B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FCA-D268-4CB7-A6CF-7996015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33B-09F2-4310-9246-031C160E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EC8-62A7-4CC3-98B6-1BC4B18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301B-A325-401F-96A2-37B9DF7D5D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wind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895680" y="620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西师大版五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0" y="4934880"/>
            <a:ext cx="9144000" cy="520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</a:rPr>
              <a:t>原指战国时齐军用围攻魏国的方法，迫使魏国撤回攻赵的部队而使赵国得救。后指袭击敌人后方的据点以迫使进攻之敌撤退的战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6"/>
          <p:cNvSpPr txBox="1"/>
          <p:nvPr/>
        </p:nvSpPr>
        <p:spPr>
          <a:xfrm>
            <a:off x="1692360" y="1125360"/>
            <a:ext cx="6048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围魏救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0066"/>
                </a:solidFill>
                <a:latin typeface="Arial"/>
                <a:ea typeface="楷体_GB2312"/>
              </a:rPr>
              <a:t>小结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2332080"/>
            <a:ext cx="813744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强大的魏国军事面前，齐国最终决定了出兵，究竟战斗是怎么打响的呢？战斗的结果又是怎样的呢？我们下节课继续学习课文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 rot="5400000">
            <a:off x="382320" y="5962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返回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979640" y="2565360"/>
            <a:ext cx="5041800" cy="223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43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围魏救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659640" y="4941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528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探究（一）：故事起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自由小声朗读课文第一部分思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故事发生的时代背景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魏国军队怎么样？在文中勾画出相关句子并说说自己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为什么在这种状况下，齐王还要去救赵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后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780000" y="2708280"/>
            <a:ext cx="30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851280" y="170172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61ffe408c67968ed3ac7634c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  <p:sndAc>
      <p:stSnd>
        <p:snd r:embed="rId2" name="arrow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00280" y="2133720"/>
            <a:ext cx="834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上一节课，我们初步学习了课文，今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一起深入课文，去体会那惊心动魄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战争场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 rot="5400000">
            <a:off x="382320" y="5962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返回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900000" y="620640"/>
            <a:ext cx="57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二、深入课文，由果及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32000" y="1700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了解起因，体会险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359000" y="2492280"/>
            <a:ext cx="57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了解战局，造成悬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332000" y="3213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前后对比，产生疑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359000" y="4005360"/>
            <a:ext cx="55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提出计谋，围魏救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332000" y="4724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田孙商议，直取大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1"/>
          <p:cNvSpPr txBox="1"/>
          <p:nvPr/>
        </p:nvSpPr>
        <p:spPr>
          <a:xfrm rot="5400000">
            <a:off x="382320" y="5962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返回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631520" y="2205000"/>
            <a:ext cx="613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魏国将军庞涓率领八万精兵出征赵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路所向披靡，势如破竹，很快就直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赵国都城邯郸，把一个小小的邯郸城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得严严实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631520" y="2205000"/>
            <a:ext cx="613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魏国将军庞涓率领八万精兵出征赵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路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所向披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势如破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很快就直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赵国都城邯郸，把一个小小的邯郸城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得严严实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132000" y="48690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魏国的强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455840" y="1019160"/>
            <a:ext cx="18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 rot="5400000">
            <a:off x="382320" y="5962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返回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332000" y="2492280"/>
            <a:ext cx="690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魏军措手不及，被杀得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丢盔弃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溃不成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03280" y="1125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6"/>
          <p:cNvSpPr txBox="1"/>
          <p:nvPr/>
        </p:nvSpPr>
        <p:spPr>
          <a:xfrm rot="5400000">
            <a:off x="382320" y="5962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返回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116000" y="981000"/>
            <a:ext cx="720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魏国将军庞涓率领八万精兵出征赵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路所向披靡，势如破竹，很快就直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赵国都城邯郸，把一个小小的邯郸城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得严严实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419920" y="364500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魏军措手不及，被杀得丢盔弃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溃不成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187280" y="333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187280" y="3068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结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384200" y="5148360"/>
            <a:ext cx="63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为什么所向披靡的魏军会落得丢盔弃甲，溃不成军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684360" y="486900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2" name="WordArt 11"/>
          <p:cNvSpPr txBox="1"/>
          <p:nvPr/>
        </p:nvSpPr>
        <p:spPr>
          <a:xfrm rot="5400000">
            <a:off x="382320" y="6056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返回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84360" y="1773360"/>
            <a:ext cx="81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学习课文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——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，分角色读田孙对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84360" y="31669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部分以对话描写为主，同学们从中能体会到什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3071880" y="428616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孙膑善于分析、因势利导的聪明才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1763640" y="2637000"/>
            <a:ext cx="5256360" cy="223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43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围魏救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659640" y="4941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一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755640" y="1987920"/>
            <a:ext cx="7343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田忌决定直奔邯郸，解救赵国时，军师孙膑直截了当地提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755640" y="2571840"/>
            <a:ext cx="7343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田忌决定直奔邯郸，解救赵国时，军师孙膑直截了当地提出：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不等我们赶到，邯郸就会失守，你这样做又有什么用呢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166760" y="4548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1116000" y="1700280"/>
            <a:ext cx="74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现在去救邯郸，会跟魏国主力硬拼，伤亡一定很大。倒不如乘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而入，直取大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332000" y="3429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虚”在哪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042920" y="4292640"/>
            <a:ext cx="73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楷体_GB2312"/>
              </a:rPr>
              <a:t>魏国集中全国的主力去打邯郸，自己的都城大梁却只剩下了一些老弱残兵，这不正是个大好机会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8"/>
          <p:cNvSpPr txBox="1"/>
          <p:nvPr/>
        </p:nvSpPr>
        <p:spPr>
          <a:xfrm rot="5400000">
            <a:off x="382320" y="6056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返回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826920" y="25653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田孙商议 直取大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光说不练假把式，让我们来看看那孙膑的计谋管用吗？请孩子们自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——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，然后交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11280" y="792000"/>
            <a:ext cx="83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孙膑的计谋是如何实施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先干什么，为什么？然后干什么；最后干什么，为什么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405880" y="2491560"/>
            <a:ext cx="50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先故意派两个无名将领佯攻襄陵，麻痹庞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500200" y="3428280"/>
            <a:ext cx="6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然后主力直奔大梁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755640" y="453528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最后桂陵设伏。因为此地通往魏国的交通要道，地势险峻，易守难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4134600" y="1336680"/>
            <a:ext cx="12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、为了麻痹庞涓，孙膑如何做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116000" y="3429000"/>
            <a:ext cx="73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、就在孙膑派兵佯攻襄陵的同时，齐军主力在干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619280" y="20574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故意派出两个无名将领，率一部分兵力去强攻魏国的襄陵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79760" y="48690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早已绕道直奔大梁而去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547640" y="2205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魏军措手不及，被杀得丢盔弃甲，溃不成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 rot="5400000">
            <a:off x="382320" y="6056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返回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357280" y="3786120"/>
            <a:ext cx="46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Arial"/>
                <a:ea typeface="楷体_GB2312"/>
              </a:rPr>
              <a:t>可以体会到孙膑的料事如神、智慧过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14280" y="-360"/>
            <a:ext cx="6858000" cy="659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zh-CN" sz="5000" spc="-1" strike="noStrike">
                <a:solidFill>
                  <a:srgbClr val="0000ff"/>
                </a:solidFill>
                <a:latin typeface="Arial"/>
                <a:ea typeface="黑体"/>
              </a:rPr>
              <a:t>围魏救赵示意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4054200">
            <a:off x="917280" y="3093840"/>
            <a:ext cx="2879640" cy="1079640"/>
          </a:xfrm>
          <a:prstGeom prst="leftArrow">
            <a:avLst>
              <a:gd name="adj1" fmla="val 50000"/>
              <a:gd name="adj2" fmla="val 666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攻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835280" y="5157720"/>
            <a:ext cx="1800000" cy="1513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1332000" y="1341360"/>
            <a:ext cx="1152360" cy="936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赵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 rot="21480000">
            <a:off x="7451640" y="5391360"/>
            <a:ext cx="3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195640" y="2492280"/>
            <a:ext cx="1224000" cy="2881440"/>
          </a:xfrm>
          <a:custGeom>
            <a:avLst/>
            <a:gdLst>
              <a:gd name="textAreaLeft" fmla="*/ 179280 w 1224000"/>
              <a:gd name="textAreaRight" fmla="*/ 1044720 w 1224000"/>
              <a:gd name="textAreaTop" fmla="*/ 421920 h 2881440"/>
              <a:gd name="textAreaBottom" fmla="*/ 2459520 h 28814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203" y="5399"/>
                  <a:pt x="9611" y="5498"/>
                  <a:pt x="9047" y="5692"/>
                </a:cubicBezTo>
                <a:lnTo>
                  <a:pt x="7295" y="584"/>
                </a:lnTo>
                <a:cubicBezTo>
                  <a:pt x="8423" y="197"/>
                  <a:pt x="9607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146680" y="2708280"/>
            <a:ext cx="115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桂陵设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 rot="20330400">
            <a:off x="1549440" y="3403440"/>
            <a:ext cx="428760" cy="1024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6156360" y="3429000"/>
            <a:ext cx="45864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2556000" y="1413000"/>
            <a:ext cx="3816360" cy="863640"/>
          </a:xfrm>
          <a:prstGeom prst="rightArrow">
            <a:avLst>
              <a:gd name="adj1" fmla="val 50000"/>
              <a:gd name="adj2" fmla="val 1104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 rot="2706600">
            <a:off x="6225840" y="1198440"/>
            <a:ext cx="1297080" cy="129384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 rot="2074800">
            <a:off x="4500360" y="1962000"/>
            <a:ext cx="1160280" cy="4896000"/>
          </a:xfrm>
          <a:prstGeom prst="downArrow">
            <a:avLst>
              <a:gd name="adj1" fmla="val 50000"/>
              <a:gd name="adj2" fmla="val 1054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427640" y="42210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5"/>
          <p:cNvSpPr/>
          <p:nvPr/>
        </p:nvSpPr>
        <p:spPr>
          <a:xfrm rot="2253000">
            <a:off x="5738400" y="2928960"/>
            <a:ext cx="576360" cy="232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6588000" y="2637000"/>
            <a:ext cx="1008360" cy="3078000"/>
          </a:xfrm>
          <a:prstGeom prst="downArrow">
            <a:avLst>
              <a:gd name="adj1" fmla="val 50000"/>
              <a:gd name="adj2" fmla="val 589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 rot="2258400">
            <a:off x="5596560" y="3133440"/>
            <a:ext cx="6678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孙膑、田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 flipH="1" rot="2263200">
            <a:off x="4878000" y="3336480"/>
            <a:ext cx="7902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直奔大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237720" y="3000240"/>
            <a:ext cx="11552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佯攻襄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516720" y="1628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齐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 rot="19546800">
            <a:off x="971640" y="3605040"/>
            <a:ext cx="11552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庞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2124000" y="5516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魏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931160" cy="561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田忌打算 （                         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-1613880" y="1128240"/>
            <a:ext cx="965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孙膑反对，理由是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246760" y="2133000"/>
            <a:ext cx="5356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孙膑对自己的计谋有多少胜算，从哪儿看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  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451880" y="3212280"/>
            <a:ext cx="37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乘虚而入”魏国“虚”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215880" y="472356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此看出孙膑是一个什么样的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987640" y="549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直奔大梁，去救赵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211640" y="1125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不等我们赶到，邯郸就会失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770120" y="1484280"/>
            <a:ext cx="27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你这样做又有什么用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236240" y="263592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胸有成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042920" y="3887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魏国集中全国的主力去打邯郸，自己的都城大梁却只剩下了一些老弱残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1856160" y="5228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善于分析，因势利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赵国被围，向齐国求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田孙商议，直取大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佯攻襄陵，围魏救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孙膑设伏，齐军大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5364000" y="321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5796000" y="2133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5148360" y="4437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1187280" y="112536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一连串计谋的实施，说明了孙膑又是怎样的一个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3"/>
          <p:cNvSpPr txBox="1"/>
          <p:nvPr/>
        </p:nvSpPr>
        <p:spPr>
          <a:xfrm rot="5400000">
            <a:off x="382320" y="6056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返回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476360" y="3573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聪明、足智多谋、善于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的朗读课文，遇到读不懂的地方多读几遍，然后思考：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究竟讲了一个什么故事</a:t>
            </a:r>
            <a:r>
              <a:rPr b="0" lang="zh-CN" sz="4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7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让学生以故事接龙的方式把故事讲下来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 rot="5400000">
            <a:off x="526680" y="59626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返回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539640" y="404640"/>
            <a:ext cx="45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当堂训练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68360" y="1873440"/>
            <a:ext cx="8675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补充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读了这个故事，你一定会被孙膑的计谋所折服，你想对孙膑说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孙膑，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您，您真是一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军事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55640" y="1323000"/>
            <a:ext cx="75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利用成语复述课文内容。所向披靡、势如破竹、胸有成竹、乘虚而入、稳操胜券、丢盔弃甲、溃不成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24000" y="378288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战国时期，魏国攻打赵国，一路所向披靡，势如破竹，很快就直抵赵国都城邯郸，把一个小小的邯郸围得严严实实。齐威王派田忌和孙膑去救赵国，孙膑胸有成竹，派兵乘虚而入 ，直取大梁，结果稳操胜券，把魏军打得丢盔弃甲，溃不成军。围魏救赵取得成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三十六计</a:t>
            </a:r>
            <a:r>
              <a:rPr b="1" lang="zh-CN" sz="57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91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《中国古典文学文库</a:t>
            </a:r>
            <a:r>
              <a:rPr b="1" lang="zh-CN" sz="2200" spc="-1" strike="noStrike">
                <a:solidFill>
                  <a:srgbClr val="333399"/>
                </a:solidFill>
                <a:latin typeface="宋体"/>
                <a:ea typeface="黑体"/>
              </a:rPr>
              <a:t>·</a:t>
            </a:r>
            <a:r>
              <a:rPr b="1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三十六计》归纳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胜战计：瞒天过海、围魏救赵、借刀杀人、以逸待劳、趁火打劫、声东击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敌战计：无中生有、暗渡陈仓、隔岸观火、笑里藏刀、李代桃僵、顺手牵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攻战计：打草惊蛇、借尸还魂、调虎离山、欲擒故纵、抛砖引玉、擒贼擒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混战计：釜底抽薪、浑水摸鱼、金蝉脱壳、关门捉贼、远交近攻、假道伐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并战计：偷梁换柱、指桑骂槐、假痴装癫、上屋抽梯、树上开花、反客为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黑体"/>
                <a:ea typeface="黑体"/>
              </a:rPr>
              <a:t>败战计：美人计、空城计、反间计、苦肉计、连环计、走为上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119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古语，原为虚指，极言计策之多。后人予以附会，凑为三十六实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2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现代案例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0920" y="69228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911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年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月，孙中山领导的</a:t>
            </a:r>
            <a:r>
              <a:rPr b="1" lang="zh-CN" sz="2600" spc="-1" strike="noStrike">
                <a:solidFill>
                  <a:srgbClr val="ff0066"/>
                </a:solidFill>
                <a:latin typeface="宋体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黄花冈起义</a:t>
            </a:r>
            <a:r>
              <a:rPr b="1" lang="zh-CN" sz="2600" spc="-1" strike="noStrike">
                <a:solidFill>
                  <a:srgbClr val="ff0066"/>
                </a:solidFill>
                <a:latin typeface="宋体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前，黄兴押运一条装有武器弹药的商船到了广州码头，清政府盘查得很严。几个稽查员上船打开了几个箱子，里面是香蕉、衣物，如果再往下查，就是武器弹药了。黄兴不由急中生智：他让两名船员扛起二个箱子就往岸上跑，稽查以为是违禁物品，赶忙追上去，打开箱子一看，却只是两箱满满的外国好酒。黄兴赶上，故意骂船员是</a:t>
            </a:r>
            <a:r>
              <a:rPr b="1" lang="zh-CN" sz="2600" spc="-1" strike="noStrike">
                <a:solidFill>
                  <a:srgbClr val="ff0066"/>
                </a:solidFill>
                <a:latin typeface="宋体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要命的酒鬼</a:t>
            </a:r>
            <a:r>
              <a:rPr b="1" lang="zh-CN" sz="2600" spc="-1" strike="noStrike">
                <a:solidFill>
                  <a:srgbClr val="ff0066"/>
                </a:solidFill>
                <a:latin typeface="宋体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又殷勤地把两箱好酒敬献给稽查。事后，去酒馆请稽查饱餐了一顿。这顿饭吃了有几个小时，等稽查醉熏熏地返回时，船上的武器弹药早已搬走。黄兴以</a:t>
            </a:r>
            <a:r>
              <a:rPr b="1" lang="zh-CN" sz="2600" spc="-1" strike="noStrike">
                <a:solidFill>
                  <a:srgbClr val="ff0066"/>
                </a:solidFill>
                <a:latin typeface="宋体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虚</a:t>
            </a:r>
            <a:r>
              <a:rPr b="1" lang="zh-CN" sz="2600" spc="-1" strike="noStrike">
                <a:solidFill>
                  <a:srgbClr val="ff0066"/>
                </a:solidFill>
                <a:latin typeface="宋体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化</a:t>
            </a:r>
            <a:r>
              <a:rPr b="1" lang="zh-CN" sz="2600" spc="-1" strike="noStrike">
                <a:solidFill>
                  <a:srgbClr val="ff0066"/>
                </a:solidFill>
                <a:latin typeface="宋体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实</a:t>
            </a:r>
            <a:r>
              <a:rPr b="1" lang="zh-CN" sz="2600" spc="-1" strike="noStrike">
                <a:solidFill>
                  <a:srgbClr val="ff0066"/>
                </a:solidFill>
                <a:latin typeface="宋体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计谋，巧妙地运用了</a:t>
            </a:r>
            <a:r>
              <a:rPr b="1" lang="zh-CN" sz="2600" spc="-1" strike="noStrike">
                <a:solidFill>
                  <a:srgbClr val="ff0066"/>
                </a:solidFill>
                <a:latin typeface="宋体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围魏救赵</a:t>
            </a:r>
            <a:r>
              <a:rPr b="1" lang="zh-CN" sz="2600" spc="-1" strike="noStrike">
                <a:solidFill>
                  <a:srgbClr val="ff0066"/>
                </a:solidFill>
                <a:latin typeface="宋体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之声东击西的计策，从而化险为夷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66"/>
                </a:solidFill>
                <a:latin typeface="Arial"/>
                <a:ea typeface="楷体_GB2312"/>
              </a:rPr>
              <a:t>作业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000" y="23320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感情的朗读课文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这个小故事清楚地将给别人听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三十六计中的其他故事。（</a:t>
            </a:r>
            <a:r>
              <a:rPr b="1" lang="zh-CN" sz="37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优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3300"/>
                </a:solidFill>
                <a:latin typeface="Arial"/>
              </a:rPr>
              <a:t>围魏救赵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涉及主要人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齐：田忌、孙膑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魏：庞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b5ce9254f6d3ed353a2935cc"/>
          <p:cNvPicPr/>
          <p:nvPr/>
        </p:nvPicPr>
        <p:blipFill>
          <a:blip r:embed="rId1"/>
          <a:stretch/>
        </p:blipFill>
        <p:spPr>
          <a:xfrm>
            <a:off x="6180120" y="0"/>
            <a:ext cx="2963880" cy="364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3bc6f7503839fb4f1038c203"/>
          <p:cNvPicPr/>
          <p:nvPr/>
        </p:nvPicPr>
        <p:blipFill>
          <a:blip r:embed="rId2"/>
          <a:srcRect l="0" t="0" r="-751" b="0"/>
          <a:stretch/>
        </p:blipFill>
        <p:spPr>
          <a:xfrm>
            <a:off x="3132000" y="3141720"/>
            <a:ext cx="3084480" cy="3716280"/>
          </a:xfrm>
          <a:prstGeom prst="rect">
            <a:avLst/>
          </a:prstGeom>
          <a:ln w="0">
            <a:noFill/>
          </a:ln>
        </p:spPr>
      </p:pic>
      <p:sp>
        <p:nvSpPr>
          <p:cNvPr id="52" name="Oval 22"/>
          <p:cNvSpPr/>
          <p:nvPr/>
        </p:nvSpPr>
        <p:spPr>
          <a:xfrm>
            <a:off x="2843280" y="2637000"/>
            <a:ext cx="936720" cy="5760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5"/>
          <p:cNvSpPr/>
          <p:nvPr/>
        </p:nvSpPr>
        <p:spPr>
          <a:xfrm rot="20210400">
            <a:off x="3708000" y="2204640"/>
            <a:ext cx="2233800" cy="360360"/>
          </a:xfrm>
          <a:custGeom>
            <a:avLst/>
            <a:gdLst>
              <a:gd name="textAreaLeft" fmla="*/ 348840 w 2233800"/>
              <a:gd name="textAreaRight" fmla="*/ 1954800 w 22338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328480" y="549360"/>
            <a:ext cx="6815160" cy="4525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膑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本名不传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中国战国时期军事家。今山东鄄城人，汉族。孙武后代。身长七尺约为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1cm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与庞涓同学兵法，后庞涓为魏惠王将军，骗孙膑到魏，用膑刑（即挖去膝盖骨），被齐国使者偷偷救回齐国后，本名不详，人称为孙膑，被齐威王任为军师，马陵之战，身居辎车，计杀庞涓，大败魏军。著作有《孙膑兵法》，久已失传。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山东省临沂银雀山出土残简，有一万一千余字。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7c5fcc1baf1205f7ac6e752d"/>
          <p:cNvPicPr/>
          <p:nvPr/>
        </p:nvPicPr>
        <p:blipFill>
          <a:blip r:embed="rId1"/>
          <a:stretch/>
        </p:blipFill>
        <p:spPr>
          <a:xfrm>
            <a:off x="0" y="620640"/>
            <a:ext cx="2573280" cy="2878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1877760" y="6054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孙膑故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200712910396563"/>
          <p:cNvPicPr/>
          <p:nvPr/>
        </p:nvPicPr>
        <p:blipFill>
          <a:blip r:embed="rId2"/>
          <a:stretch/>
        </p:blipFill>
        <p:spPr>
          <a:xfrm>
            <a:off x="826920" y="3860640"/>
            <a:ext cx="3248280" cy="2097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0b907cd92b1e6f3f10df9b46"/>
          <p:cNvPicPr/>
          <p:nvPr/>
        </p:nvPicPr>
        <p:blipFill>
          <a:blip r:embed="rId3"/>
          <a:stretch/>
        </p:blipFill>
        <p:spPr>
          <a:xfrm>
            <a:off x="5148360" y="3860640"/>
            <a:ext cx="3240000" cy="268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2e6fa738dd7766d1d562251f"/>
          <p:cNvPicPr/>
          <p:nvPr/>
        </p:nvPicPr>
        <p:blipFill>
          <a:blip r:embed="rId1"/>
          <a:stretch/>
        </p:blipFill>
        <p:spPr>
          <a:xfrm>
            <a:off x="0" y="0"/>
            <a:ext cx="4363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4572000" y="331956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马陵之战后，田忌遭宰相邹忌的陷害，被迫流亡楚国。孙膑辞官归隐，潜心军事理论研究，终于写成了流传千古的军事名著——《孙膑兵法》。由于年代久远，竹简残缺不全，损坏严重。经竹简整理小组整理考证，文物出版社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出版了简本《孙膑兵法》，共收竹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6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枚，分上、下编，各十五篇。对于这批简文，学术界一般认为，上篇当属原著无疑，系在孙膑著述和言论的基础上经弟子辑录、整理而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647640" y="2060640"/>
            <a:ext cx="838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逸    痹    佯   怠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兼    惶    盔   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803160" y="1474920"/>
            <a:ext cx="7377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yì                  bì               yáng         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jiān            huáng           kuī         kuì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-2397600" y="2417760"/>
            <a:ext cx="135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以      待劳   麻                           攻             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-1616040" y="4313160"/>
            <a:ext cx="123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夜       程  人心        惶      丢      弃甲         不成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6"/>
          <p:cNvSpPr/>
          <p:nvPr/>
        </p:nvSpPr>
        <p:spPr>
          <a:xfrm>
            <a:off x="1619280" y="1484280"/>
            <a:ext cx="360360" cy="432000"/>
          </a:xfrm>
          <a:prstGeom prst="upArrow">
            <a:avLst>
              <a:gd name="adj1" fmla="val 50000"/>
              <a:gd name="adj2" fmla="val 29970"/>
            </a:avLst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615840" y="907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比喻力量所到之处，一切障碍全被扫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 rot="330600">
            <a:off x="2340000" y="3068280"/>
            <a:ext cx="360360" cy="1944720"/>
          </a:xfrm>
          <a:custGeom>
            <a:avLst/>
            <a:gdLst>
              <a:gd name="textAreaLeft" fmla="*/ 48240 w 360360"/>
              <a:gd name="textAreaRight" fmla="*/ 312120 w 360360"/>
              <a:gd name="textAreaTop" fmla="*/ 340200 h 1944720"/>
              <a:gd name="textAreaBottom" fmla="*/ 14101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642960" y="45007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白天黑夜赶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3492360" y="3500280"/>
            <a:ext cx="287640" cy="360360"/>
          </a:xfrm>
          <a:prstGeom prst="downArrow">
            <a:avLst>
              <a:gd name="adj1" fmla="val 50000"/>
              <a:gd name="adj2" fmla="val 31320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86640" y="4214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临时来不及应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4"/>
          <p:cNvSpPr/>
          <p:nvPr/>
        </p:nvSpPr>
        <p:spPr>
          <a:xfrm rot="664200">
            <a:off x="6299280" y="2766960"/>
            <a:ext cx="217440" cy="1800360"/>
          </a:xfrm>
          <a:custGeom>
            <a:avLst/>
            <a:gdLst>
              <a:gd name="textAreaLeft" fmla="*/ 29160 w 217440"/>
              <a:gd name="textAreaRight" fmla="*/ 188280 w 217440"/>
              <a:gd name="textAreaTop" fmla="*/ 315000 h 1800360"/>
              <a:gd name="textAreaBottom" fmla="*/ 13053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6208560" y="4259160"/>
            <a:ext cx="29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指作战的时候采取守势，养精蓄锐，等待来攻的敌人疲劳后再出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6"/>
          <p:cNvSpPr txBox="1"/>
          <p:nvPr/>
        </p:nvSpPr>
        <p:spPr>
          <a:xfrm rot="5400000">
            <a:off x="455400" y="60339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返回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1116000" y="1871640"/>
            <a:ext cx="712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所向披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势如破竹    惊慌失措    乘虚而入人心惶惶    士气低落    精疲力竭    稳操胜券丢盔弃甲    溃不成军    落荒而逃  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以逸待劳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日夜兼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措手不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天罗地网    大获全胜危在旦夕    乘胜追击    胸有成竹    地势险峻                竭力防卫    易守难攻    大势已去    心服口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力回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0feb68fdc79574a0b801a011"/>
          <p:cNvPicPr/>
          <p:nvPr/>
        </p:nvPicPr>
        <p:blipFill>
          <a:blip r:embed="rId1"/>
          <a:stretch/>
        </p:blipFill>
        <p:spPr>
          <a:xfrm>
            <a:off x="0" y="0"/>
            <a:ext cx="9540720" cy="6919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15640" y="1125000"/>
            <a:ext cx="5111640" cy="1752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，按事情的发展顺序可分几部分？概括每部分内容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116000" y="2997360"/>
            <a:ext cx="561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第一部分（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段）：事情的起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第二部分（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到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段）：事情的经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第三部分（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到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段）：事情的高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第四部分（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3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段）：事情的结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8"/>
          <p:cNvSpPr txBox="1"/>
          <p:nvPr/>
        </p:nvSpPr>
        <p:spPr>
          <a:xfrm rot="5400000">
            <a:off x="8231040" y="62499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返回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6-09T12:25:3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