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type.wav" ContentType="audio/x-wav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715D-6516-4C62-9476-14B01D286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DFFA-335A-4423-B7E7-0E35E587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88C3-20E6-4284-813F-4ED55DC05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3A76-B6A0-4904-9290-5C8B433E6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8945-346D-45C9-9906-D59ED087F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A461-2C0F-43FB-8EC5-E6C1BABF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5874-79C0-4F0E-9AB9-569F4068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5896-6562-4D07-9BBD-51C5775E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9F57-6D38-4C9F-997A-C9FC8CAB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DE9E-FC8B-40F8-B721-6F57FBFD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EB69-65B5-49D3-851A-A9AC73C2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38EC-8A92-4D57-810B-DBEAFFC5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229B8-A354-419E-8ECB-4368BB1E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EB63A-F818-4A66-A681-B3C38CA3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E1094-1299-4450-A9BD-099EFFBA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F521-471B-4E36-8D0B-FACE87F5E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742AE-61D4-4225-9323-456870396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3F07-8641-4226-9239-3C337BD7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8DB3-2A23-4C03-9368-20C83414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2968-ACC2-45EB-9FB7-D3D7B7A0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6502-22AB-4F2D-B1A5-90A6B4A5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849B-46D9-454D-A0EE-C10FCA37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7B42-436C-4053-9D71-52BA00C0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922A-7626-461D-8829-0DC91A9D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8F40-DC1B-4604-BD15-847FFE8BEDD3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2F28-A686-4761-ADA6-11BC972D3CC6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hyperlink" Target="http://edu.scylzx.org/czpd/xsxt/04-05shang/rjb/c3ls/01/data/zstz02.htm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5.jpeg"/><Relationship Id="rId6" Type="http://schemas.openxmlformats.org/officeDocument/2006/relationships/hyperlink" Target="http://image.baidu.com/i?ct=503316480&amp;z=228670902&amp;tn=baiduimagedetail&amp;word=&#37329;&#23383;&#22612;&amp;in=94" TargetMode="External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340000" y="3357720"/>
            <a:ext cx="57387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89160" y="1989000"/>
            <a:ext cx="4052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0" lang="zh-CN" sz="6600" spc="-1" strike="noStrike">
                <a:solidFill>
                  <a:srgbClr val="cc0000"/>
                </a:solidFill>
                <a:latin typeface="Arial"/>
              </a:rPr>
              <a:t>埃及的金字塔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24000" y="3141720"/>
            <a:ext cx="5616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苏教版五年级语文下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33cc"/>
                </a:solidFill>
                <a:latin typeface="Verdana"/>
              </a:rPr>
              <a:t>读课文回答问题：</a:t>
            </a:r>
            <a:br>
              <a:rPr sz="2600"/>
            </a:br>
            <a:r>
              <a:rPr b="0" lang="zh-CN" sz="2600" spc="-1" strike="noStrike">
                <a:solidFill>
                  <a:srgbClr val="ff33cc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金宇塔在哪里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金字塔的外观有什么特点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金宇塔是如何建造起来的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叫“金字塔”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说“金字塔”是埃及的象征，也是古埃及人民智慧的结晶？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1197000"/>
            <a:ext cx="41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埃及首都开罗西南面的沙漠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29080" y="2205000"/>
            <a:ext cx="470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巨大的角锥形，底座是四方形，愈往上愈小，最后成为尖顶。高大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>
    <p:wedg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最大金字塔   古夫王金字塔" descr=""/>
          <p:cNvPicPr/>
          <p:nvPr/>
        </p:nvPicPr>
        <p:blipFill>
          <a:blip r:embed="rId2"/>
          <a:stretch/>
        </p:blipFill>
        <p:spPr>
          <a:xfrm>
            <a:off x="0" y="0"/>
            <a:ext cx="3059280" cy="25639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24360" y="4672080"/>
            <a:ext cx="3322440" cy="21859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3059280" y="2133720"/>
            <a:ext cx="3528720" cy="24447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2637000"/>
            <a:ext cx="2987640" cy="1846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468360" y="4602240"/>
            <a:ext cx="3247920" cy="22557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9"/>
          <a:stretch/>
        </p:blipFill>
        <p:spPr>
          <a:xfrm>
            <a:off x="6227640" y="0"/>
            <a:ext cx="2916360" cy="2133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410000" y="4941720"/>
            <a:ext cx="677880" cy="19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0"/>
          <a:stretch/>
        </p:blipFill>
        <p:spPr>
          <a:xfrm>
            <a:off x="6659640" y="2060640"/>
            <a:ext cx="2484360" cy="252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>
    <p:wedg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90360" y="318960"/>
            <a:ext cx="321948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zh-CN" sz="3400" spc="-1" strike="noStrike">
                <a:solidFill>
                  <a:srgbClr val="ff0066"/>
                </a:solidFill>
                <a:latin typeface="Verdana"/>
              </a:rPr>
              <a:t>巧找联系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208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33cc"/>
                </a:solidFill>
                <a:latin typeface="Verdana"/>
              </a:rPr>
              <a:t>彩色电视　　　　　　　　　　　　　</a:t>
            </a:r>
            <a:r>
              <a:rPr b="0" lang="zh-CN" sz="2600" spc="-1" strike="noStrike">
                <a:solidFill>
                  <a:srgbClr val="003366"/>
                </a:solidFill>
                <a:latin typeface="Verdana"/>
              </a:rPr>
              <a:t>异口同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长途电话</a:t>
            </a:r>
            <a:r>
              <a:rPr b="0" lang="zh-CN" sz="2600" spc="-1" strike="noStrike">
                <a:solidFill>
                  <a:srgbClr val="ff33cc"/>
                </a:solidFill>
                <a:latin typeface="Verdana"/>
              </a:rPr>
              <a:t>　　　　　　　　　　　　　</a:t>
            </a:r>
            <a:r>
              <a:rPr b="0" lang="zh-CN" sz="2600" spc="-1" strike="noStrike">
                <a:solidFill>
                  <a:srgbClr val="000066"/>
                </a:solidFill>
                <a:latin typeface="Verdana"/>
              </a:rPr>
              <a:t>颠倒黑白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0000"/>
                </a:solidFill>
                <a:latin typeface="Verdana"/>
              </a:rPr>
              <a:t>冲牛奶</a:t>
            </a:r>
            <a:r>
              <a:rPr b="0" lang="zh-CN" sz="2600" spc="-1" strike="noStrike">
                <a:solidFill>
                  <a:srgbClr val="ff33cc"/>
                </a:solidFill>
                <a:latin typeface="Verdana"/>
              </a:rPr>
              <a:t>　　　　　　　　　　　　　　</a:t>
            </a:r>
            <a:r>
              <a:rPr b="0" lang="zh-CN" sz="2600" spc="-1" strike="noStrike">
                <a:solidFill>
                  <a:srgbClr val="ff0000"/>
                </a:solidFill>
                <a:latin typeface="Verdana"/>
              </a:rPr>
              <a:t>积少成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3366"/>
                </a:solidFill>
                <a:latin typeface="Verdana"/>
              </a:rPr>
              <a:t>大合唱</a:t>
            </a:r>
            <a:r>
              <a:rPr b="0" lang="zh-CN" sz="2600" spc="-1" strike="noStrike">
                <a:solidFill>
                  <a:srgbClr val="ff33cc"/>
                </a:solidFill>
                <a:latin typeface="Verdana"/>
              </a:rPr>
              <a:t>　　　　　　　　　　　　　　有声有色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6600"/>
                </a:solidFill>
                <a:latin typeface="Verdana"/>
              </a:rPr>
              <a:t>苏州刺绣</a:t>
            </a:r>
            <a:r>
              <a:rPr b="0" lang="zh-CN" sz="2600" spc="-1" strike="noStrike">
                <a:solidFill>
                  <a:srgbClr val="ff33cc"/>
                </a:solidFill>
                <a:latin typeface="Verdana"/>
              </a:rPr>
              <a:t>　　　　　　　　　　　　　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遥相呼应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66"/>
                </a:solidFill>
                <a:latin typeface="Verdana"/>
              </a:rPr>
              <a:t>照相底片</a:t>
            </a:r>
            <a:r>
              <a:rPr b="0" lang="zh-CN" sz="2600" spc="-1" strike="noStrike">
                <a:solidFill>
                  <a:srgbClr val="ff33cc"/>
                </a:solidFill>
                <a:latin typeface="Verdana"/>
              </a:rPr>
              <a:t>　　　　　　　　　　　　　</a:t>
            </a:r>
            <a:r>
              <a:rPr b="0" lang="zh-CN" sz="2600" spc="-1" strike="noStrike">
                <a:solidFill>
                  <a:srgbClr val="cc0000"/>
                </a:solidFill>
                <a:latin typeface="Verdana"/>
              </a:rPr>
              <a:t>水乳交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Verdana"/>
              </a:rPr>
              <a:t>零存整取　</a:t>
            </a:r>
            <a:r>
              <a:rPr b="0" lang="zh-CN" sz="2600" spc="-1" strike="noStrike">
                <a:solidFill>
                  <a:srgbClr val="ff33cc"/>
                </a:solidFill>
                <a:latin typeface="Verdana"/>
              </a:rPr>
              <a:t>　　　　　　　　　　　　</a:t>
            </a:r>
            <a:r>
              <a:rPr b="0" lang="zh-CN" sz="2600" spc="-1" strike="noStrike">
                <a:solidFill>
                  <a:srgbClr val="ff6600"/>
                </a:solidFill>
                <a:latin typeface="Verdana"/>
              </a:rPr>
              <a:t>锦上添花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6699"/>
                </a:solidFill>
                <a:latin typeface="Verdana"/>
              </a:rPr>
              <a:t>宇宙火箭上太空　</a:t>
            </a:r>
            <a:r>
              <a:rPr b="0" lang="zh-CN" sz="2600" spc="-1" strike="noStrike">
                <a:solidFill>
                  <a:srgbClr val="ff33cc"/>
                </a:solidFill>
                <a:latin typeface="Verdana"/>
              </a:rPr>
              <a:t>　　　　　　　　　</a:t>
            </a:r>
            <a:r>
              <a:rPr b="0" lang="zh-CN" sz="2600" spc="-1" strike="noStrike">
                <a:solidFill>
                  <a:srgbClr val="ff9900"/>
                </a:solidFill>
                <a:latin typeface="Verdana"/>
              </a:rPr>
              <a:t>千头万绪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9900"/>
                </a:solidFill>
                <a:latin typeface="Verdana"/>
              </a:rPr>
              <a:t>剪不断理还乱</a:t>
            </a:r>
            <a:r>
              <a:rPr b="0" lang="zh-CN" sz="2600" spc="-1" strike="noStrike">
                <a:solidFill>
                  <a:srgbClr val="ff0000"/>
                </a:solidFill>
                <a:latin typeface="Verdana"/>
              </a:rPr>
              <a:t>　</a:t>
            </a:r>
            <a:r>
              <a:rPr b="0" lang="zh-CN" sz="2600" spc="-1" strike="noStrike">
                <a:solidFill>
                  <a:srgbClr val="ff33cc"/>
                </a:solidFill>
                <a:latin typeface="Verdana"/>
              </a:rPr>
              <a:t>　　　　　　　　　　</a:t>
            </a:r>
            <a:r>
              <a:rPr b="0" lang="zh-CN" sz="2600" spc="-1" strike="noStrike">
                <a:solidFill>
                  <a:srgbClr val="336699"/>
                </a:solidFill>
                <a:latin typeface="Verdana"/>
              </a:rPr>
              <a:t>惊天动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/>
          <p:nvPr/>
        </p:nvSpPr>
        <p:spPr>
          <a:xfrm>
            <a:off x="2124000" y="1773360"/>
            <a:ext cx="4753080" cy="151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4968720" cy="1440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79640" y="1700280"/>
            <a:ext cx="4896000" cy="144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1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92000" y="1483920"/>
            <a:ext cx="55450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100" spc="-1" strike="noStrike">
                <a:solidFill>
                  <a:srgbClr val="ff0000"/>
                </a:solidFill>
                <a:latin typeface="Verdana"/>
                <a:ea typeface="华文行楷"/>
              </a:rPr>
              <a:t>谢谢</a:t>
            </a:r>
            <a:br>
              <a:rPr sz="11100"/>
            </a:br>
            <a:endParaRPr b="0" lang="en-US" sz="1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1042920" y="2492280"/>
            <a:ext cx="7058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422640" indent="-422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66"/>
                </a:solidFill>
                <a:latin typeface="Verdana"/>
              </a:rPr>
              <a:t>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>
    <p:wedg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771280" y="1557000"/>
            <a:ext cx="5977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Verdana"/>
                <a:ea typeface="黑体"/>
              </a:rPr>
              <a:t>古埃及、印度、巴比伦、中国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49360"/>
            <a:ext cx="822960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62064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同学们知道四大文明古国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42920" y="476280"/>
            <a:ext cx="7086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200" spc="-1" strike="noStrike">
                <a:solidFill>
                  <a:srgbClr val="000066"/>
                </a:solidFill>
                <a:latin typeface="Times New Roman"/>
                <a:ea typeface="文鼎霹靂體"/>
              </a:rPr>
              <a:t>埃及的金字塔</a:t>
            </a:r>
            <a:r>
              <a:rPr b="1" lang="zh-CN" sz="5200" spc="-1" strike="noStrike">
                <a:solidFill>
                  <a:srgbClr val="000066"/>
                </a:solidFill>
                <a:latin typeface="Times New Roman"/>
                <a:ea typeface="文鼎霹靂體"/>
              </a:rPr>
              <a:t>远观图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4316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20909006" descr=""/>
          <p:cNvPicPr/>
          <p:nvPr/>
        </p:nvPicPr>
        <p:blipFill>
          <a:blip r:embed="rId2"/>
          <a:stretch/>
        </p:blipFill>
        <p:spPr>
          <a:xfrm>
            <a:off x="1116000" y="1628640"/>
            <a:ext cx="6264360" cy="4070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>
    <p:wedg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75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外星人" descr=""/>
          <p:cNvPicPr/>
          <p:nvPr/>
        </p:nvPicPr>
        <p:blipFill>
          <a:blip r:embed="rId2"/>
          <a:stretch/>
        </p:blipFill>
        <p:spPr>
          <a:xfrm>
            <a:off x="0" y="0"/>
            <a:ext cx="918216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295280" y="762120"/>
            <a:ext cx="6705720" cy="4952880"/>
          </a:xfrm>
          <a:prstGeom prst="rect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467480" y="6553080"/>
            <a:ext cx="1676520" cy="304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6680" y="0"/>
            <a:ext cx="0" cy="6858000"/>
          </a:xfrm>
          <a:prstGeom prst="line">
            <a:avLst/>
          </a:prstGeom>
          <a:ln w="381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958240" y="0"/>
            <a:ext cx="0" cy="6858000"/>
          </a:xfrm>
          <a:prstGeom prst="line">
            <a:avLst/>
          </a:prstGeom>
          <a:ln w="381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ec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6553080"/>
            <a:ext cx="8839440" cy="304920"/>
          </a:xfrm>
          <a:prstGeom prst="rect">
            <a:avLst/>
          </a:prstGeom>
          <a:solidFill>
            <a:srgbClr val="ec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7520"/>
            <a:ext cx="1600200" cy="3812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2680" y="123840"/>
            <a:ext cx="133524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0200" y="114480"/>
            <a:ext cx="12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图片资料</a:t>
            </a:r>
            <a:r>
              <a:rPr b="0" lang="zh-CN" sz="1600" spc="-1" strike="noStrike">
                <a:solidFill>
                  <a:srgbClr val="000000"/>
                </a:solidFill>
                <a:latin typeface="_x000b__x000c_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862360" y="914400"/>
            <a:ext cx="3786120" cy="4627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2666880" y="57754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c5100"/>
                </a:solidFill>
                <a:latin typeface="Times New Roman"/>
              </a:rPr>
              <a:t>阿蒙涅姆霍特三世法老狮身人面石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>
    <p:wedg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14400" y="762120"/>
            <a:ext cx="7391520" cy="4952880"/>
          </a:xfrm>
          <a:prstGeom prst="rect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467480" y="6553080"/>
            <a:ext cx="1676520" cy="304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6680" y="0"/>
            <a:ext cx="0" cy="6858000"/>
          </a:xfrm>
          <a:prstGeom prst="line">
            <a:avLst/>
          </a:prstGeom>
          <a:ln w="381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958240" y="0"/>
            <a:ext cx="0" cy="6858000"/>
          </a:xfrm>
          <a:prstGeom prst="line">
            <a:avLst/>
          </a:prstGeom>
          <a:ln w="381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ec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6553080"/>
            <a:ext cx="8839440" cy="304920"/>
          </a:xfrm>
          <a:prstGeom prst="rect">
            <a:avLst/>
          </a:prstGeom>
          <a:solidFill>
            <a:srgbClr val="ec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7520"/>
            <a:ext cx="1600200" cy="3812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2680" y="123840"/>
            <a:ext cx="133524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0200" y="114480"/>
            <a:ext cx="12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图片资料</a:t>
            </a:r>
            <a:r>
              <a:rPr b="0" lang="zh-CN" sz="1600" spc="-1" strike="noStrike">
                <a:solidFill>
                  <a:srgbClr val="000000"/>
                </a:solidFill>
                <a:latin typeface="_x000b__x000c_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05320" y="57754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c5100"/>
                </a:solidFill>
                <a:latin typeface="Times New Roman"/>
              </a:rPr>
              <a:t>梅内普塔法老半身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954680" y="1092240"/>
            <a:ext cx="2760480" cy="4313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514520" y="1076400"/>
            <a:ext cx="3071880" cy="4306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>
    <p:wedg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3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76000" y="1197000"/>
            <a:ext cx="5545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00"/>
                </a:solidFill>
                <a:latin typeface="Verdana"/>
                <a:ea typeface="华文行楷"/>
              </a:rPr>
              <a:t>读准字音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26840" y="3273120"/>
            <a:ext cx="63025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角锥形 轮廓 摩天大厦 砌成 曝晒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牲畜 木橇 埋葬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1042920" y="2492280"/>
            <a:ext cx="7058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422640" indent="-4226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66"/>
                </a:solidFill>
                <a:latin typeface="Verdana"/>
              </a:rPr>
              <a:t>       </a:t>
            </a:r>
            <a:r>
              <a:rPr b="0" lang="zh-CN" sz="3000" spc="-1" strike="noStrike">
                <a:solidFill>
                  <a:srgbClr val="000066"/>
                </a:solidFill>
                <a:latin typeface="Verdana"/>
              </a:rPr>
              <a:t>zhuī     kuò          shà qì      pù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25200" y="3760920"/>
            <a:ext cx="189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chù  qiā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>
    <p:wedg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8200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 u="sng">
                <a:solidFill>
                  <a:srgbClr val="ff0000"/>
                </a:solidFill>
                <a:uFillTx/>
                <a:latin typeface="Verdana"/>
              </a:rPr>
              <a:t>金字塔高（ </a:t>
            </a:r>
            <a:r>
              <a:rPr b="1" lang="zh-CN" sz="2100" spc="-1" strike="noStrike" u="sng">
                <a:solidFill>
                  <a:srgbClr val="ff0000"/>
                </a:solidFill>
                <a:uFillTx/>
                <a:latin typeface="Verdana"/>
              </a:rPr>
              <a:t> </a:t>
            </a:r>
            <a:r>
              <a:rPr b="0" lang="zh-CN" sz="2100" spc="-1" strike="noStrike" u="sng">
                <a:solidFill>
                  <a:srgbClr val="ff0000"/>
                </a:solidFill>
                <a:uFillTx/>
                <a:latin typeface="Verdana"/>
              </a:rPr>
              <a:t>    ）米多，相当于（   ）层高的摩天大厦。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绕金字塔（   ）周，差不多要走（    ）公里的路程。塔身由（       ）万块巨石砌成，这些石块平均每块重（      ）吨。</a:t>
            </a:r>
            <a:r>
              <a:rPr b="0" lang="zh-CN" sz="2100" spc="-1" strike="noStrike" u="sng">
                <a:solidFill>
                  <a:srgbClr val="000066"/>
                </a:solidFill>
                <a:uFillTx/>
                <a:latin typeface="Verdana"/>
              </a:rPr>
              <a:t>有人估计，如果将这座金字塔的石块铺成一条三分之一米宽的道路，可绕地球一周；如果用火车装运，需要（      ）万个车皮</a:t>
            </a:r>
            <a:r>
              <a:rPr b="0" lang="zh-CN" sz="2100" spc="-1" strike="noStrike">
                <a:solidFill>
                  <a:srgbClr val="000066"/>
                </a:solidFill>
                <a:latin typeface="Verdana"/>
              </a:rPr>
              <a:t>。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这些石块磨得很平整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，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石块与石块之间砌合得很紧密，</a:t>
            </a:r>
            <a:r>
              <a:rPr b="0" lang="zh-CN" sz="2100" spc="-1" strike="noStrike">
                <a:solidFill>
                  <a:srgbClr val="ff0000"/>
                </a:solidFill>
                <a:latin typeface="Verdana"/>
              </a:rPr>
              <a:t>几千年过去了，这些石块的接缝处连锋利的刀片都插不进去。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为了建造这座金字塔，经常有（    ）万人在烈日曝晒下干活儿。全部工程用了整整（     ）年时间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4076640"/>
            <a:ext cx="867564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短文中填上合适的数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段话写出了金字塔                    的特点， 作者采用了             、                   和                  的说明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仿照第一句话，写一句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35640" y="5589720"/>
            <a:ext cx="10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56000" y="5445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列数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 rot="10726800">
            <a:off x="755280" y="5444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作比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68360" y="544500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举例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42040" y="4052880"/>
            <a:ext cx="45864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35280" y="33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16360" y="333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357440" y="606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92360" y="494172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宏伟和精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30960" y="701640"/>
            <a:ext cx="1354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64320" y="765000"/>
            <a:ext cx="1506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35680" y="1125360"/>
            <a:ext cx="1598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12200" y="1916280"/>
            <a:ext cx="1354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678760" y="3141720"/>
            <a:ext cx="1354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35280" y="3500280"/>
            <a:ext cx="1027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>
    <p:wedg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7T02:55:33Z</dcterms:created>
  <dc:creator/>
  <dc:description/>
  <dc:language>en-US</dc:language>
  <cp:lastModifiedBy>宋玉交</cp:lastModifiedBy>
  <dcterms:modified xsi:type="dcterms:W3CDTF">2014-07-28T15:26:33Z</dcterms:modified>
  <cp:revision>1</cp:revision>
  <dc:subject/>
  <dc:title>幻灯片 1</dc:title>
</cp:coreProperties>
</file>