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8D6-C250-45C0-95D4-BB3E56B0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74B-09AA-4D0D-8F09-148743E1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9B9-7EB0-427F-BC73-6A17909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3BE-B12B-43A0-843D-A7554666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9D08-6CEC-480F-8534-6C6D2E89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B8E-F4B0-4B14-BBEF-904BCF6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0C2F-4C8C-4BD3-A51C-C9AE3D43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8D1-25F7-4C9D-A757-016A72D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DFFD-672F-4F43-9EA6-8FAD560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AC6-FB2C-4E4E-BDCF-9BF9E46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9243-ACEC-46D3-845F-8115763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7C7-9C38-41BB-8572-4208B3C4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F9B-005E-45B1-AD4F-86803E9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984-3C0E-478D-BFB0-9B58AD5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8906-3D99-4C0E-8005-B08E1953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5B15-3173-442F-A3CE-56BFE89B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81B-11C6-4B48-88AA-215272DD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34D-F777-4626-8979-1E56E88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B66-1F0D-4CF6-8827-8A2BD47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5FC-5241-4086-B601-63E5D0D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FF2-077F-4D88-AE3A-BB79274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C56-636A-4ABE-8A5B-15A54BC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F69-901C-49D4-B537-FCA9615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5E4-DE93-463E-BB4B-232C3F8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3892-89F1-4884-85A1-682FAEFF6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A10-5A7B-4AE5-BC04-F16EBBE1D846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0"/>
          <p:cNvSpPr/>
          <p:nvPr/>
        </p:nvSpPr>
        <p:spPr>
          <a:xfrm>
            <a:off x="1979640" y="2287440"/>
            <a:ext cx="7182000" cy="493920"/>
          </a:xfrm>
          <a:prstGeom prst="pie">
            <a:avLst/>
          </a:pr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Freeform 13"/>
          <p:cNvSpPr/>
          <p:nvPr/>
        </p:nvSpPr>
        <p:spPr>
          <a:xfrm>
            <a:off x="2359080" y="2503440"/>
            <a:ext cx="7181640" cy="493920"/>
          </a:xfrm>
          <a:prstGeom prst="pie">
            <a:avLst/>
          </a:prstGeom>
          <a:noFill/>
          <a:ln w="9360">
            <a:solidFill>
              <a:srgbClr val="33993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WordArt 6" descr=""/>
          <p:cNvPicPr/>
          <p:nvPr/>
        </p:nvPicPr>
        <p:blipFill>
          <a:blip r:embed="rId2"/>
          <a:stretch/>
        </p:blipFill>
        <p:spPr>
          <a:xfrm>
            <a:off x="-12600" y="1122480"/>
            <a:ext cx="804708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cca11f4df077377dcc474d9"/>
          <p:cNvPicPr/>
          <p:nvPr/>
        </p:nvPicPr>
        <p:blipFill>
          <a:blip r:embed="rId1"/>
          <a:srcRect l="28757" t="17739" r="0" b="0"/>
          <a:stretch/>
        </p:blipFill>
        <p:spPr>
          <a:xfrm>
            <a:off x="446076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380880" y="2057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由读读课文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然段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从哪些地方感受到父母之间的爱如茉莉？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可以是一个字，一个词，一个句子，或者一个段落，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你在旁边写上自己的体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80880" y="254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362320" y="49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00040" y="97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然而，爸爸没有吃我买的饺子，也没听我花尽心思编的谎话，便直奔医院。此后，他每天都去医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0880" y="4571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直奔医院匆匆而去的身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2384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79280" y="189000"/>
            <a:ext cx="36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味“爱如茉莉”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547640" y="62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映儿，本来我答应今天包饺子给你爸爸吃，现在看来不行了，你呆会儿就买点现成的饺子煮给你爸吃。记住，要等他吃完了再告诉他我进了医院，不然他会吃不下去的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79280" y="29923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然而，爸爸没有吃我买的饺子，也没听我花尽心思编的谎话，便直奔医院。此后，他每天都去医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56680" y="112536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华文隶书"/>
              </a:rPr>
              <a:t>虚  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738680" y="2344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妈妈生病与爸爸吃饺子哪一个重要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401880" y="3357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华文隶书"/>
              </a:rPr>
              <a:t>直奔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68360" y="465948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妈妈病中想着爸爸，爸爸想着病中的妈妈，这种爱是相互的，如茉莉板平淡，但却真真切切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Picture 18" descr="m1"/>
          <p:cNvPicPr/>
          <p:nvPr/>
        </p:nvPicPr>
        <p:blipFill>
          <a:blip r:embed="rId4"/>
          <a:stretch/>
        </p:blipFill>
        <p:spPr>
          <a:xfrm>
            <a:off x="6732720" y="5013360"/>
            <a:ext cx="223200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7"/>
          <p:cNvSpPr/>
          <p:nvPr/>
        </p:nvSpPr>
        <p:spPr>
          <a:xfrm>
            <a:off x="4932360" y="693720"/>
            <a:ext cx="4032360" cy="0"/>
          </a:xfrm>
          <a:prstGeom prst="line">
            <a:avLst/>
          </a:prstGeom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5219640" y="189000"/>
            <a:ext cx="36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味“爱如茉莉”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95280" y="792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一天清晨，我按照爸爸的叮嘱，剪了一大把茉莉花带到医院去。当我推开病房的门，不禁怔住了：妈妈睡在病床上，嘴角挂着恬静的微笑；爸爸坐在床前的椅子上，一只手紧握着妈妈的手，头伏在床沿边睡着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189040" y="82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叮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695840" y="1654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恬静的微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38868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紧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68360" y="321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从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恬静的微笑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紧握着的手</a:t>
            </a:r>
            <a:r>
              <a:rPr b="1" lang="zh-CN" sz="2800" spc="-1" strike="noStrike">
                <a:solidFill>
                  <a:srgbClr val="800000"/>
                </a:solidFill>
                <a:latin typeface="华文中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看出什么？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437360" y="4149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这里除了作者？还有谁被这一幕深深地感动了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15" descr="m2"/>
          <p:cNvPicPr/>
          <p:nvPr/>
        </p:nvPicPr>
        <p:blipFill>
          <a:blip r:embed="rId4"/>
          <a:stretch/>
        </p:blipFill>
        <p:spPr>
          <a:xfrm>
            <a:off x="6732720" y="4902120"/>
            <a:ext cx="2016000" cy="1551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3"/>
          <p:cNvSpPr/>
          <p:nvPr/>
        </p:nvSpPr>
        <p:spPr>
          <a:xfrm>
            <a:off x="4861080" y="762120"/>
            <a:ext cx="4032000" cy="0"/>
          </a:xfrm>
          <a:prstGeom prst="line">
            <a:avLst/>
          </a:prstGeom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219640" y="189000"/>
            <a:ext cx="36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味“爱如茉莉”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611280" y="620640"/>
            <a:ext cx="19065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阳光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187280" y="1557360"/>
            <a:ext cx="712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初升的阳光从窗外悄悄地探了进来，轻轻柔柔地笼罩着他们。一切都是那么静谧美好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一切都浸润在生命的芬芳与光泽里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042920" y="3141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为什么这里要写阳光？阳光是悄悄地“探”了进来，一个“探”字让你想到了什么？如果换成“照”可以吗？为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Picture 13" descr="m2"/>
          <p:cNvPicPr/>
          <p:nvPr/>
        </p:nvPicPr>
        <p:blipFill>
          <a:blip r:embed="rId6"/>
          <a:stretch/>
        </p:blipFill>
        <p:spPr>
          <a:xfrm>
            <a:off x="6732720" y="4902120"/>
            <a:ext cx="2016000" cy="1551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22860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8600" y="1295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似乎是我惊醒了爸爸。他睡眼蒙眬地抬起头，轻轻放下妈妈的手，然后蹑手蹑脚地走到门边，把我拉了出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62120" y="4876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蹑手蹑脚地走到门边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80880" y="11131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望着爸爸布满血丝的眼睛，我心疼地说：“爸，你怎么不在陪床上睡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?”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爸爸边打哈欠边说：“我夜里睡得沉，你妈妈有事又不肯叫醒我，这样睡，她一动我就惊醒了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523880" y="472356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布满血丝的双眼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4"/>
          <p:cNvSpPr/>
          <p:nvPr/>
        </p:nvSpPr>
        <p:spPr>
          <a:xfrm flipH="1">
            <a:off x="5580000" y="836640"/>
            <a:ext cx="3168720" cy="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 flipH="1">
            <a:off x="5219640" y="765000"/>
            <a:ext cx="3168720" cy="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219640" y="189000"/>
            <a:ext cx="36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味“爱如茉莉”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Picture 10" descr="m4"/>
          <p:cNvPicPr/>
          <p:nvPr/>
        </p:nvPicPr>
        <p:blipFill>
          <a:blip r:embed="rId3"/>
          <a:stretch/>
        </p:blipFill>
        <p:spPr>
          <a:xfrm>
            <a:off x="6443640" y="4653000"/>
            <a:ext cx="2305080" cy="1776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684360" y="1084320"/>
            <a:ext cx="80708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爸爸去洗漱，我悄悄溜进病房，把一大束茉莉花插进瓶里，一股清香顿时弥漫开来。我开心地想：妈妈在这花香中欣欣然睁开双眼，该多有诗意呀！我笑着回头，却触到妈妈一双清醒含笑的眸子。 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映儿，来帮妈妈揉揉胳膊和腿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妈，你怎么啦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我好生奇怪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你爸爸伏在床边睡着了，我怕惊动他不敢动。不知不觉，手脚都麻木了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7496640" y="37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不敢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822760" y="4133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手脚都麻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7"/>
          <p:cNvSpPr/>
          <p:nvPr/>
        </p:nvSpPr>
        <p:spPr>
          <a:xfrm>
            <a:off x="684360" y="1844640"/>
            <a:ext cx="0" cy="316872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611280" y="1197000"/>
            <a:ext cx="0" cy="316872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38240" y="1341360"/>
            <a:ext cx="48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98560" y="1052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我夜里睡得沉，你妈妈有事又不肯叫醒我。这样睡，她一动我就惊醒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50840" y="31240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你爸爸伏在床边睡着了，我怕惊动他不敢动。不知不觉，手脚都麻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71640" y="4724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妈妈睡好了吗？爸爸睡好了吗？你从中又体会到了什么？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549360"/>
            <a:ext cx="84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　　病房里，那簇茉莉显得更加洁白纯净。它送来的缕缕幽香，袅袅地钻到我们的心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684360" y="1844640"/>
            <a:ext cx="0" cy="316872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611280" y="1197000"/>
            <a:ext cx="0" cy="3168720"/>
          </a:xfrm>
          <a:prstGeom prst="line">
            <a:avLst/>
          </a:prstGeom>
          <a:ln w="1260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38240" y="1341360"/>
            <a:ext cx="48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554520" y="5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洁白纯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09052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缕缕幽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16780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钻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719532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123200" y="359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洁白纯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123200" y="438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缕缕幽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123200" y="273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平淡无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69920" y="2708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这也叫爱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WordArt 16"/>
          <p:cNvSpPr txBox="1"/>
          <p:nvPr/>
        </p:nvSpPr>
        <p:spPr>
          <a:xfrm>
            <a:off x="7093080" y="1628640"/>
            <a:ext cx="1400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鼻中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695520" y="4002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钻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847880" y="402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心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159600" y="180540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真爱像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Picture 22" descr="m5"/>
          <p:cNvPicPr/>
          <p:nvPr/>
        </p:nvPicPr>
        <p:blipFill>
          <a:blip r:embed="rId2"/>
          <a:stretch/>
        </p:blipFill>
        <p:spPr>
          <a:xfrm>
            <a:off x="7020000" y="5084640"/>
            <a:ext cx="1863720" cy="1441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4025520" y="580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琥珀"/>
              </a:rPr>
              <a:t>哦，爱如茉莉，爱如茉莉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3 0.00578 L 0.31389 0.00578 E">
                                      <p:cBhvr>
                                        <p:cTn id="20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854 0 E">
                                      <p:cBhvr>
                                        <p:cTn id="23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854 0 E">
                                      <p:cBhvr>
                                        <p:cTn id="23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m5"/>
          <p:cNvPicPr/>
          <p:nvPr/>
        </p:nvPicPr>
        <p:blipFill>
          <a:blip r:embed="rId1"/>
          <a:stretch/>
        </p:blipFill>
        <p:spPr>
          <a:xfrm>
            <a:off x="611280" y="692280"/>
            <a:ext cx="8137440" cy="567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38240" y="1341360"/>
            <a:ext cx="48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39640" y="422280"/>
            <a:ext cx="69138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</a:t>
            </a:r>
            <a:r>
              <a:rPr b="0" lang="zh-CN" sz="4400" spc="-1" strike="noStrike">
                <a:solidFill>
                  <a:srgbClr val="cc0066"/>
                </a:solidFill>
                <a:latin typeface="华文新魏"/>
                <a:ea typeface="华文新魏"/>
              </a:rPr>
              <a:t>真爱是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真爱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真爱是那一丝的牵挂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真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那一声叮嘱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真爱是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嘴角挂着的微笑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真爱是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紧握着的双手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真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清晨里淡淡的阳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真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病房里那簇芬芳的茉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如茉莉，纯净洁白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如茉莉，幽香缕缕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爱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如茉莉，平淡无奇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却又钻进心里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4"/>
          <a:stretch/>
        </p:blipFill>
        <p:spPr>
          <a:xfrm>
            <a:off x="6372360" y="4076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5"/>
          <a:stretch/>
        </p:blipFill>
        <p:spPr>
          <a:xfrm>
            <a:off x="6877080" y="5535720"/>
            <a:ext cx="1763640" cy="132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980720"/>
            <a:ext cx="854064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C:\Users\user\AppData\Roaming\Tencent\Users\495567727\QQ\WinTemp\RichOle\Q%Y@O939C]V`OFGB8[%}5HY.jpg"/>
          <p:cNvPicPr/>
          <p:nvPr/>
        </p:nvPicPr>
        <p:blipFill>
          <a:blip r:embed="rId2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dell\AppData\Roaming\Tencent\Users\712326765\QQ\WinTemp\RichOle\{NA__(7KBR`J8{$6]}KTEIL.png"/>
          <p:cNvPicPr/>
          <p:nvPr/>
        </p:nvPicPr>
        <p:blipFill>
          <a:blip r:embed="rId3"/>
          <a:stretch/>
        </p:blipFill>
        <p:spPr>
          <a:xfrm>
            <a:off x="7500960" y="6470640"/>
            <a:ext cx="113184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6"/>
          <p:cNvSpPr/>
          <p:nvPr/>
        </p:nvSpPr>
        <p:spPr>
          <a:xfrm>
            <a:off x="4788000" y="333360"/>
            <a:ext cx="4008240" cy="3552840"/>
          </a:xfrm>
          <a:prstGeom prst="irregularSeal2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方正毡笔黑简体"/>
                <a:ea typeface="方正毡笔黑简体"/>
              </a:rPr>
              <a:t>作   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684360" y="692280"/>
            <a:ext cx="140004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小练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116000" y="2565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在生活中，把你曾经感受到的或者付出过的如茉莉般的真爱写一个小片段。（注意细节，用词生动形象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324080" y="1209600"/>
            <a:ext cx="649584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4876920" y="172404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952880" y="21337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淡无奇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洁白纯净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缕缕幽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"/>
          <p:cNvSpPr/>
          <p:nvPr/>
        </p:nvSpPr>
        <p:spPr>
          <a:xfrm>
            <a:off x="324000" y="1197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6c0a"/>
                </a:solidFill>
                <a:latin typeface="Arial"/>
                <a:ea typeface="楷体_GB2312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4000" y="2349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  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-214200" y="1143000"/>
            <a:ext cx="9683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茉莉</a:t>
            </a: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虚弱  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揉胳膊  </a:t>
            </a: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哈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蹑手蹑脚   睡眼朦胧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平淡无奇   洁白纯净 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缕</a:t>
            </a: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缕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幽</a:t>
            </a:r>
            <a:r>
              <a:rPr b="0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香   恬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楷体_GB2312"/>
              </a:rPr>
              <a:t>蹑手蹑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茉莉花1"/>
          <p:cNvPicPr/>
          <p:nvPr/>
        </p:nvPicPr>
        <p:blipFill>
          <a:blip r:embed="rId2"/>
          <a:srcRect l="16404" t="30654" r="7394" b="17934"/>
          <a:stretch/>
        </p:blipFill>
        <p:spPr>
          <a:xfrm>
            <a:off x="611280" y="620640"/>
            <a:ext cx="3959280" cy="2879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716360" y="692280"/>
            <a:ext cx="4032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妈，那你说真爱像什么？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就像茉莉吧。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29080" y="35002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黑体"/>
                <a:ea typeface="黑体"/>
              </a:rPr>
              <a:t>这也叫爱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80000" y="3500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348000" y="4724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平淡无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971640" y="1268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爱，往往在细节。请同学们</a:t>
            </a: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细读</a:t>
            </a: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6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华文新魏"/>
              </a:rPr>
              <a:t>—</a:t>
            </a: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17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小节，看看哪些细节打动了你，哪些词语让你感受到</a:t>
            </a: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真爱就如茉莉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？用笔圈圈画画，写写感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79280" y="1341360"/>
            <a:ext cx="64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方正毡笔黑简体"/>
              </a:rPr>
              <a:t>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方正毡笔黑简体"/>
              </a:rPr>
              <a:t>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方正毡笔黑简体"/>
              </a:rPr>
              <a:t>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方正毡笔黑简体"/>
              </a:rPr>
              <a:t>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8" descr="P001"/>
          <p:cNvPicPr/>
          <p:nvPr/>
        </p:nvPicPr>
        <p:blipFill>
          <a:blip r:embed="rId2"/>
          <a:stretch/>
        </p:blipFill>
        <p:spPr>
          <a:xfrm>
            <a:off x="6300720" y="443700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11320" y="1341360"/>
            <a:ext cx="48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方正毡笔黑简体"/>
                <a:ea typeface="方正毡笔黑简体"/>
              </a:rPr>
              <a:t>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7" descr="１１"/>
          <p:cNvPicPr/>
          <p:nvPr/>
        </p:nvPicPr>
        <p:blipFill>
          <a:blip r:embed="rId2"/>
          <a:stretch/>
        </p:blipFill>
        <p:spPr>
          <a:xfrm>
            <a:off x="6877080" y="189000"/>
            <a:ext cx="2093760" cy="1697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900000" y="692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你从哪些细节中体会到父母之间的爱？先读找到的细节，在说说自己的感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9" descr="m1"/>
          <p:cNvPicPr/>
          <p:nvPr/>
        </p:nvPicPr>
        <p:blipFill>
          <a:blip r:embed="rId3"/>
          <a:stretch/>
        </p:blipFill>
        <p:spPr>
          <a:xfrm>
            <a:off x="826920" y="3213000"/>
            <a:ext cx="1872000" cy="144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m2"/>
          <p:cNvPicPr/>
          <p:nvPr/>
        </p:nvPicPr>
        <p:blipFill>
          <a:blip r:embed="rId4"/>
          <a:stretch/>
        </p:blipFill>
        <p:spPr>
          <a:xfrm>
            <a:off x="2843280" y="371628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m4"/>
          <p:cNvPicPr/>
          <p:nvPr/>
        </p:nvPicPr>
        <p:blipFill>
          <a:blip r:embed="rId5"/>
          <a:stretch/>
        </p:blipFill>
        <p:spPr>
          <a:xfrm>
            <a:off x="4861080" y="2924280"/>
            <a:ext cx="1871640" cy="144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5"/>
          <p:cNvPicPr/>
          <p:nvPr/>
        </p:nvPicPr>
        <p:blipFill>
          <a:blip r:embed="rId6"/>
          <a:stretch/>
        </p:blipFill>
        <p:spPr>
          <a:xfrm>
            <a:off x="6877080" y="3500280"/>
            <a:ext cx="186372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57120" y="30002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由读读课文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然段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从哪些地方感受到父母之间的爱如茉莉？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可以是一个字，一个词，一个句子，或者一个段落，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你在旁边写上自己的体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57120" y="1312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映儿，本来我答应今天包饺子给你爸爸吃，现在看来不行了。你呆会儿就买点现成的饺子煮给你爸吃。记住，要等他吃完了再告诉他我进了医院，不然他会吃不下去的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280040" y="479988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善意的谎言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3:48:20Z</dcterms:created>
  <dc:creator>YlmF</dc:creator>
  <dc:description/>
  <dc:language>en-US</dc:language>
  <cp:lastModifiedBy>dell</cp:lastModifiedBy>
  <dcterms:modified xsi:type="dcterms:W3CDTF">2016-03-25T02:38:04Z</dcterms:modified>
  <cp:revision>244</cp:revision>
  <dc:subject/>
  <dc:title>幻灯片 1</dc:title>
</cp:coreProperties>
</file>