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A81-3500-4236-A252-B27177BF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725-808B-4AFC-8524-3F2697E6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E86-79E5-4186-9535-ECEB9A18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603-F45A-47FB-99A6-11F2135C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2A0E-B4D3-4207-AA21-B524C2E1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82CD-10BD-4775-AFE5-7EC15E99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7791-82ED-48C4-9A92-07EE48A9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61D7-D0F7-418C-A008-EC923247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A91F-B203-44ED-891B-A37D6061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E825-6328-4FED-8277-C00FFE4C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5EC8-8E42-46D2-905A-024C1BCB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A645-465B-42A6-941B-BC9E67AF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F0E6-D425-44CC-B945-0B94017B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823A-A87D-42DF-85ED-F8FFD62A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BD36-D96E-4A6C-AF83-3BDF3BD9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693B-AD66-4C53-8DC7-9C089B88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9526-B66E-4E94-997A-DAB23F9D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79A8-6B32-4216-8EDE-14BF5C11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367-DBCD-48CF-9DF7-34E20958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E98-0373-42A7-B344-E39B05B2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457E-F2B2-499D-98EE-2A9F3E85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CC2-6D2C-4D76-BEE7-6DE1853B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901-0DF9-4064-8D43-DEE04CAA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A722-41BE-46DB-B906-E1B9B7C5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69E6-C837-4E4B-9002-E9034A37A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6F45-801C-48A9-89DD-74CD7FDCAF83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749085505281505611"/>
          <p:cNvPicPr/>
          <p:nvPr/>
        </p:nvPicPr>
        <p:blipFill>
          <a:blip r:embed="rId1"/>
          <a:srcRect l="4706" t="4885" r="3529" b="26867"/>
          <a:stretch/>
        </p:blipFill>
        <p:spPr>
          <a:xfrm>
            <a:off x="0" y="2852640"/>
            <a:ext cx="9145440" cy="400536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3" descr=""/>
          <p:cNvPicPr/>
          <p:nvPr/>
        </p:nvPicPr>
        <p:blipFill>
          <a:blip r:embed="rId2"/>
          <a:stretch/>
        </p:blipFill>
        <p:spPr>
          <a:xfrm>
            <a:off x="1109520" y="390600"/>
            <a:ext cx="7070760" cy="20844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4"/>
          <p:cNvGrpSpPr/>
          <p:nvPr/>
        </p:nvGrpSpPr>
        <p:grpSpPr>
          <a:xfrm>
            <a:off x="5076720" y="2492280"/>
            <a:ext cx="1150920" cy="216000"/>
            <a:chOff x="5076720" y="2492280"/>
            <a:chExt cx="1150920" cy="216000"/>
          </a:xfrm>
        </p:grpSpPr>
        <p:sp>
          <p:nvSpPr>
            <p:cNvPr id="85" name="Oval 5"/>
            <p:cNvSpPr/>
            <p:nvPr/>
          </p:nvSpPr>
          <p:spPr>
            <a:xfrm>
              <a:off x="5076720" y="2492280"/>
              <a:ext cx="287280" cy="2160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" name="Oval 6"/>
            <p:cNvSpPr/>
            <p:nvPr/>
          </p:nvSpPr>
          <p:spPr>
            <a:xfrm>
              <a:off x="5940360" y="2492280"/>
              <a:ext cx="287280" cy="2160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7" name="Rectangle 7"/>
          <p:cNvSpPr/>
          <p:nvPr/>
        </p:nvSpPr>
        <p:spPr>
          <a:xfrm>
            <a:off x="0" y="2852640"/>
            <a:ext cx="9144000" cy="400536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24000" y="11908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每次打仗，鲍叔牙都紧紧跟在管仲身边。冲锋时，他跑到管仲的前头；后退时，他又走在管仲的后边。遇到危险，鲍叔牙都毫不犹豫地用自己的身体去保护管仲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24000" y="363240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次战斗中，鲍叔牙受了伤，管仲急忙为他包扎伤口。管仲看到流血的伤口，难过地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为了我才受了伤的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鲍叔牙笑了笑，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关系！没关系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人问鲍叔牙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朋友，你可真是做到家了。这样做是为了什么呀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鲍叔牙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不这样做，管仲也会这样做。我总以为，他比我有本领，有胆量，总有一天，他会干出更大的事业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24000" y="977760"/>
            <a:ext cx="86421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每次打仗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鲍叔牙都紧紧跟在管仲身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冲锋时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他跑到管仲的前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后退时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他又走在管仲的后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遇到危险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鲍叔牙都毫不犹豫地用自己的身体去保护管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24000" y="363240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次战斗中，鲍叔牙受了伤，管仲急忙为他包扎伤口。管仲看到流血的伤口，难过地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为了我才受了伤的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鲍叔牙笑了笑，说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没关系！没关系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人问鲍叔牙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朋友，你可真是做到家了。这样做是为了什么呀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鲍叔牙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不这样做，管仲也会这样做。我总以为，他比我有本领，有胆量，总有一天，他会干出更大的事业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539640" y="549360"/>
            <a:ext cx="8425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根据下列提示，说一说鲍叔牙以身护友的故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次打仗，鲍叔牙都仅仅跟在管仲身边是为了（                 ）。冲锋时，他跑到管仲的前头，是为了（          ）；后退时，他又走在管仲的后边，是为了（             ）；遇到危险时，他都毫不犹豫地用自己的身体去保护他，为了（               ）。甚至在战斗中受了伤时，他还是（                    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539640" y="3179160"/>
            <a:ext cx="82803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796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来，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他们在齐国做了官，都是很有才华的政治家。管仲在鲍叔牙的支持下成功地进行了改革，使齐国成为当时最强大的国家。不久，管仲的官职超过了鲍叔牙。这时，一些大臣议论纷纷，替鲍叔牙抱不平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395280" y="2333520"/>
            <a:ext cx="84978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仲做官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br>
              <a:rPr sz="2400"/>
            </a:b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      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平王东迁洛邑以后的东周，又分“春秋”和“战国”两个时期。春秋时期，周王室衰落，周天子名义上是各国共同的君主，实际上他的地位只相当一个中等国的诸侯。一些比较强大的诸侯国家用武力兼并小国，大国之间也互相争夺土地，经常打仗。战胜的大国诸侯可以号令其他诸侯。这种人称做霸主。　　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    公元前６８６年，齐国发生了一次内乱。国君齐襄公被杀。襄公有两个兄弟，一个叫公子纠，当时在鲁国（都城在今山东曲阜）；一个叫公子小白，当时在莒（音ｊ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国（都城在今树东莒县）。两个人身边都有个师傅，公子纠的师傅叫管仲，公子小白的师傅叫鲍叔牙。两个公子听到齐襄公被杀的消息，都急着要回齐国争夺君位。后来，公子小白在鲍叔牙的帮助下，用巧计抢先回国，做了国君，就是齐桓公。他把公子纠杀害，并要治罪于管仲。在鲍叔牙的竭力推荐下，任命管仲为相，让他管理国政。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　　</a:t>
            </a: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332000" y="60321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   </a:t>
            </a: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 </a:t>
            </a: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95280" y="3197160"/>
            <a:ext cx="84978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796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鲍叔牙知道自己如果继续做官，可能对管仲不利，于是就毅然决定向齐桓公辞官回乡。齐桓公挽留他，说：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你是一位品德高尚的人呀！管仲就是您推荐给我的。现在为了他，你要辞官了。我要管仲，也需要你。请你留下吧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管仲也劝鲍叔牙：“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你不要走。别人议论什么，我不在乎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第二天，鲍叔牙还是悄悄地离去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3564000" y="5589720"/>
            <a:ext cx="48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755640" y="17866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想象说话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假如多年以后，管仲和鲍叔牙再次相见，他们怎样回忆鲍叔牙辞官的往事呢？请你展开想想，以“重逢”为题，说一段话。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755640" y="2349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管仲逢人就说：“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生我的是父母，而真心待我的是鲍叔牙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0" y="79848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内存知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涯若比邻 。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勃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桃花潭水深千尺，不及汪伦送我情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白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生离不开友谊，但要得到真正的友谊才是不容易；友谊总需要忠诚去播种，用热情去灌溉，用原则去培养，用谅解去护理。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马克思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真实的十分理智的友谊是人生最美好的无价之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尔基                                                                     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真正的朋友不把友谊挂在口上，他们并不为了友谊而互相要求一点什么，而是彼此为对方做一切办得到的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别林斯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"/>
          <p:cNvPicPr/>
          <p:nvPr/>
        </p:nvPicPr>
        <p:blipFill>
          <a:blip r:embed="rId1"/>
          <a:stretch/>
        </p:blipFill>
        <p:spPr>
          <a:xfrm>
            <a:off x="900000" y="549360"/>
            <a:ext cx="7272360" cy="3527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395280" y="45666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管仲和鲍叔牙是春秋时期的齐国人。他们从小就是好朋友，整天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形影不离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r>
              <a:rPr b="0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900000" y="1989000"/>
            <a:ext cx="77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情同手足   亲如兄弟    生死相随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休戚与共   肝胆相照    同舟共济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250920" y="549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默读课文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用概括的语句说说课文是通过哪几件事来说明鲍叔牙真心待友的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00000" y="393372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                                      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11280" y="2238840"/>
            <a:ext cx="7848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400" spc="-1" strike="noStrike">
                <a:solidFill>
                  <a:srgbClr val="000000"/>
                </a:solidFill>
                <a:latin typeface="楷体"/>
                <a:ea typeface="楷体"/>
              </a:rPr>
              <a:t>、管仲家境贫困时，鲍叔牙出钱帮助做买卖。</a:t>
            </a:r>
            <a:endParaRPr b="0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611280" y="31330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打仗时，鲍叔牙为保护管仲而受伤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11280" y="4004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做官后，鲍叔牙为成全管仲而辞官。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5280" y="1125360"/>
            <a:ext cx="769788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  <a:ea typeface="黑体"/>
              </a:rPr>
              <a:t>列小标题要抓住要点，简明醒目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755640" y="1628640"/>
            <a:ext cx="7632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  <a:ea typeface="黑体"/>
              </a:rPr>
              <a:t>可以利用文中的词句，也可以用自己的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55640" y="2133720"/>
            <a:ext cx="763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  <a:ea typeface="黑体"/>
              </a:rPr>
              <a:t>形式尽量要保持一致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Picture 15" descr="53"/>
          <p:cNvPicPr/>
          <p:nvPr/>
        </p:nvPicPr>
        <p:blipFill>
          <a:blip r:embed="rId1"/>
          <a:stretch/>
        </p:blipFill>
        <p:spPr>
          <a:xfrm>
            <a:off x="395280" y="1341360"/>
            <a:ext cx="358920" cy="3002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7"/>
          <p:cNvSpPr/>
          <p:nvPr/>
        </p:nvSpPr>
        <p:spPr>
          <a:xfrm>
            <a:off x="3635280" y="3068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出资助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1" name="Picture 18" descr="53"/>
          <p:cNvPicPr/>
          <p:nvPr/>
        </p:nvPicPr>
        <p:blipFill>
          <a:blip r:embed="rId2"/>
          <a:stretch/>
        </p:blipFill>
        <p:spPr>
          <a:xfrm>
            <a:off x="395280" y="1760400"/>
            <a:ext cx="358920" cy="300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53"/>
          <p:cNvPicPr/>
          <p:nvPr/>
        </p:nvPicPr>
        <p:blipFill>
          <a:blip r:embed="rId3"/>
          <a:stretch/>
        </p:blipFill>
        <p:spPr>
          <a:xfrm>
            <a:off x="395280" y="2205000"/>
            <a:ext cx="358920" cy="3002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0"/>
          <p:cNvSpPr/>
          <p:nvPr/>
        </p:nvSpPr>
        <p:spPr>
          <a:xfrm>
            <a:off x="395280" y="270828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管仲家境贫困时，鲍叔牙出钱帮助做买卖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395280" y="3573360"/>
            <a:ext cx="7489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打仗时，鲍叔牙为保护管仲而受伤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做官后，鲍叔牙为成全管仲而辞官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755640" y="1628640"/>
            <a:ext cx="7632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  <a:ea typeface="黑体"/>
              </a:rPr>
              <a:t>可以利用文中的词句，也可以用自己的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755640" y="1125360"/>
            <a:ext cx="76978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  <a:ea typeface="黑体"/>
              </a:rPr>
              <a:t>列小标题要抓住要点，简明醒目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755640" y="1628640"/>
            <a:ext cx="7632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  <a:ea typeface="黑体"/>
              </a:rPr>
              <a:t>可以利用文中的词句，也可以用自己的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468360" y="404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33cc"/>
                </a:solidFill>
                <a:latin typeface="Arial"/>
              </a:rPr>
              <a:t>列小标题的方法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353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小组合作学习，快速默读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~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小节，圈划出能体现鲍叔牙真心对待管仲的词句，说说理由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有一回，鲍叔牙对管仲说：“咱们都已经是大小伙子了，不能总靠家里养活。我们是不是去做买卖？” 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     管仲想了想，有些为难，说：“我家自从父亲去世以后，我和母亲吃了上顿没下顿。哪有钱去做生意？” 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管仲知道朋友是在照顾自己，答应一定要周密考虑。经过一番准备，他俩真的做起了生意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管仲有些过意不去，说：“这样，我心里很不安。是你出的资金，你应该拿大部分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1" name="Picture 3" descr="caihui2_004"/>
          <p:cNvPicPr/>
          <p:nvPr/>
        </p:nvPicPr>
        <p:blipFill>
          <a:blip r:embed="rId1"/>
          <a:stretch/>
        </p:blipFill>
        <p:spPr>
          <a:xfrm>
            <a:off x="2771640" y="6264360"/>
            <a:ext cx="936720" cy="620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aihui2_004"/>
          <p:cNvPicPr/>
          <p:nvPr/>
        </p:nvPicPr>
        <p:blipFill>
          <a:blip r:embed="rId2"/>
          <a:stretch/>
        </p:blipFill>
        <p:spPr>
          <a:xfrm>
            <a:off x="3995640" y="6237360"/>
            <a:ext cx="936720" cy="620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aihui2_004"/>
          <p:cNvPicPr/>
          <p:nvPr/>
        </p:nvPicPr>
        <p:blipFill>
          <a:blip r:embed="rId3"/>
          <a:stretch/>
        </p:blipFill>
        <p:spPr>
          <a:xfrm>
            <a:off x="5219640" y="6237360"/>
            <a:ext cx="936720" cy="620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0051229104845671"/>
          <p:cNvPicPr/>
          <p:nvPr/>
        </p:nvPicPr>
        <p:blipFill>
          <a:blip r:embed="rId4"/>
          <a:stretch/>
        </p:blipFill>
        <p:spPr>
          <a:xfrm>
            <a:off x="7956720" y="6237360"/>
            <a:ext cx="936360" cy="620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468360" y="177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鲍叔牙掰着手指算了算，说：“钱由我出，你就想想怎样做生意吧。”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25440" y="3645000"/>
            <a:ext cx="871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每次赚了钱，鲍叔牙总是把大部分给管仲，自己只留一小半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24000" y="321300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                           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两人起早贪黑，四处奔波忙碌，谁也不叫苦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24000" y="501336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                      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鲍叔牙诚恳地说：“我们是朋友，你家有困难，我理应帮助。你就收下吧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!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0" y="0"/>
            <a:ext cx="914400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有一回，鲍叔牙对管仲说：“咱们都已经是大小伙子了，不能总靠家里养活。我们是不是去做买卖？” 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     管仲想了想，有些为难，说：“我家自从父亲去世以后，我和母亲吃了上顿没下顿。哪有钱去做生意？” 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管仲知道朋友是在照顾自己，答应一定要周密考虑。经过一番准备，他俩真的做起了生意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管仲有些过意不去，说：“这样，我心里很不安。是你出的资金，你应该拿大部分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57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8"/>
          <p:cNvSpPr/>
          <p:nvPr/>
        </p:nvSpPr>
        <p:spPr>
          <a:xfrm>
            <a:off x="468360" y="981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鲍叔牙掰着手指算了算，说：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钱由我出，你就想想怎样做生意吧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539640" y="2195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每次赚了钱，鲍叔牙总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把大部分给管仲，自己只留一小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576360" y="350028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鲍叔牙诚恳地说：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我们是朋友，你家有困难，我理应帮助。你就收下吧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539640" y="1628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在打仗时，鲍叔牙是怎样以身护友的呢？快速默读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7~9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小节，找到相关句子，同桌进行交流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20:15:43Z</dcterms:created>
  <dc:creator/>
  <dc:description/>
  <dc:language>en-US</dc:language>
  <cp:lastModifiedBy/>
  <dcterms:modified xsi:type="dcterms:W3CDTF">2016-01-14T06:08:12Z</dcterms:modified>
  <cp:revision>0</cp:revision>
  <dc:subject/>
  <dc:title/>
</cp:coreProperties>
</file>