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4.gif" ContentType="image/gif"/>
  <Override PartName="/ppt/media/image6.jpeg" ContentType="image/jpeg"/>
  <Override PartName="/ppt/media/image2.jpeg" ContentType="image/jpeg"/>
  <Override PartName="/ppt/media/image3.jpeg" ContentType="image/jpe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D23-89E9-497C-932C-C5592899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70C-19A1-486D-8C6A-112A282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9DAD5-AE84-4525-9AB2-2453547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129A6-BE69-4CE0-BA00-677FCEB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07910-03E2-408B-A4C4-90F17186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DE249-71F3-4515-9AE0-7CD4CF6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680A-75EA-4D01-A6D5-5B43193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C6E9-7803-48A2-BB40-A8BA4A6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53E0-6B92-4848-AC57-0EB062B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9FA2D-D4EC-4B3B-9E4E-C4EBECEE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65F6-F961-4B35-B8FD-5306D994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F2D-2511-4A54-AB03-BBAB4961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7D4-927E-4E99-A505-9EE63FF3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62A-4C37-461D-B87F-EDBFF4B3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D67-3503-4A3F-AFE2-FE84ADC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7AA5-DF3C-438E-B9FB-02B98B1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5FAF-31B1-4717-919B-CE3FDBD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7140-AC94-4D06-B177-EAA2161B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B0EF-AF39-4588-85C5-83A6C887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4C46-543E-4D7A-ADC5-B80D074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904-6438-4854-820D-24AEEB0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E13-BB93-4268-BBFF-D1EE8F3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A89-5F1F-4A3C-B0AB-8BF2EC4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641B-9E1C-48D2-9B7E-4441BC2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61A1-ECA0-42D7-890C-F6A80F2E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305-C7D6-4135-97A4-F8ACC6AA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C745-A418-40B2-A318-9018584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5DC1-CC8F-47E6-B843-E824DE06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DCCB-65F0-482F-8600-C3E22C94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92DE-0440-4DAC-9D0A-652FB29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EE4C-CDD9-46B9-98AF-A7BAE6D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9D2-4A9A-46CE-B247-C7409321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CD0A-8ED4-4522-82A6-8636EDB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13AC-8DF7-4697-A013-D89C8E3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0862-1E7A-4E87-ABDC-8A31C029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19B7-1742-4E7C-A6F0-0F2D895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A8CC-E0EF-491E-8CF5-336F416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16ED-E2E5-48DA-B5C5-5203A464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9957-1EC5-45E8-B146-9827EA90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4AC6-89DE-4615-A76D-1D829EB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C736-9766-415A-9F73-813E1E90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2E4B-0290-4748-8EB9-DD415B0F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043-ECB0-450F-A53D-FAFFA6E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1798-4C78-4D22-A135-F9B3F2C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0DA6-22D2-4E7F-BEF7-37D7838E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D984-B01E-41DC-8DA4-0696BB4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B4B1-C656-47B5-81F7-F96844F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433B-70C6-4F16-BF4B-72173F44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5B6A-9CA5-4B48-AA19-304B811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2CA00-CFFF-47E8-B679-D631D40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BE2A-7D91-417B-93D8-3007A7A5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E5DB-5725-4112-9911-B53CF29D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0B2D-F15C-49EA-8623-C95F6616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A56-0B1E-4EDC-A022-2D2D3DFF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64B0-62F5-43D8-8F50-DE882F7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A645-019C-42E3-97A5-6BBFE37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F8109-B396-4999-A78D-A5586356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4131-4376-47D5-A977-B1BCC29E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961B-9600-4CB9-A2B3-5E0D0B8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6CCC-A633-409A-86E8-C30BAE3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BED1-9776-4FA6-8569-DE964A2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6D4F-970B-4451-BABA-9759125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FFCD-60DB-44EA-A51B-C28B38CD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553A-DAA7-4ECF-B00C-E3E3F26B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A4A-22A0-47EB-B242-124F929A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D24A-D84F-443F-BBB0-AA2D31EE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A0D6-618A-4298-9FC4-F0F9D1BC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339C7-B406-4085-8C10-9AC9107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A7E5-3810-4DF1-AA38-570F47F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0AEC-43B3-47CF-B895-0E7C890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8906-C8F2-489B-984A-23EFB7FB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FD82-9ADB-49AF-91A7-9C64234D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34F9-76BD-4353-95D7-32C89C0F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A3FF-9485-41BE-921B-BF51D47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FC69-8A82-4AD8-9D6D-B026B6A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EEA-A1A3-4C5E-B62C-8CBD8BA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805E-8D6D-4CCF-8D10-FED1DEEA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B415D-F266-4C33-B7DB-434CD3D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4270D-D6D1-42F3-808A-3677C005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ADE7-C586-4FC1-9F01-B4A77186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8498-5CB9-4F04-8B20-06F9482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CFEA-AF43-41E1-BA14-9D4BF534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9D54-11FB-4A88-A3A8-7EBD28CB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E89E3-36F4-4905-87B6-CF992776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9A7C-6429-420C-8E0A-A507A7C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26A2-6435-4178-AD9A-E0F8A277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A01-1925-4086-AD48-E74EEB7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31E7-F19C-424D-B626-ED680A5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A8B5-3586-41B1-8B21-343436C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C40B-B687-4430-BEBF-CE56CB8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E7D4-3FE0-4E83-9395-1A4EDF49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60C96-66CA-4AB2-B320-0373B9FF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71C6-060A-4EE0-93DC-295BFC94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BDFA1-D1C9-4380-827A-5B0BEEC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D96B-315B-4813-A51F-67AE7C4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7FDA-38EC-41E3-BFEE-AC46D63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C700-E81E-43E5-8BC5-CD550DC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345-AC37-4ABC-8F6E-AE62D24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39952-2DB9-46E1-98EA-5D277686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8DE8-BE36-4087-8311-1F2C06E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5B01-1790-420F-9B30-9F7A13B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4A70-6C0E-4452-88BE-91AF458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A06F-853C-4FFE-8C2B-6643ED3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76C9-1F5B-4ACE-BB8F-20C9FE2F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998B-D3FA-4A02-B526-F77279B8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E71B5-9169-4195-A594-E011FEC9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B4E2C-E026-4B17-9BB8-8442059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6773-7732-41A5-9867-7B5DD53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FA51-C8E0-48F5-9E57-644F508180C6}" type="slidenum">
              <a:rPr b="0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0" name="Freeform 9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Freeform 16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7795800" y="4318200"/>
            <a:ext cx="979560" cy="1159560"/>
            <a:chOff x="7795800" y="4318200"/>
            <a:chExt cx="979560" cy="1159560"/>
          </a:xfrm>
        </p:grpSpPr>
        <p:sp>
          <p:nvSpPr>
            <p:cNvPr id="60" name="Freeform 19"/>
            <p:cNvSpPr/>
            <p:nvPr/>
          </p:nvSpPr>
          <p:spPr>
            <a:xfrm rot="7320000">
              <a:off x="7790040" y="465984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7320000">
              <a:off x="7767000" y="4638240"/>
              <a:ext cx="995400" cy="459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7320000">
              <a:off x="7934040" y="4623840"/>
              <a:ext cx="660240" cy="4197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7795800" y="4318200"/>
              <a:ext cx="979560" cy="1159560"/>
              <a:chOff x="7795800" y="4318200"/>
              <a:chExt cx="979560" cy="1159560"/>
            </a:xfrm>
          </p:grpSpPr>
          <p:sp>
            <p:nvSpPr>
              <p:cNvPr id="64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" name="Freeform 24"/>
              <p:cNvSpPr/>
              <p:nvPr/>
            </p:nvSpPr>
            <p:spPr>
              <a:xfrm rot="7320000">
                <a:off x="7755840" y="4651200"/>
                <a:ext cx="1058760" cy="49356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7320000">
                <a:off x="8035920" y="4757760"/>
                <a:ext cx="749160" cy="27936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7320000">
                <a:off x="8514000" y="4558320"/>
                <a:ext cx="100080" cy="18756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 rot="7320000">
                <a:off x="8153640" y="4759920"/>
                <a:ext cx="306360" cy="1652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4E93-21BB-4251-841C-BC36EE23497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CD6B-993B-44F7-93BB-E673D44F3ABC}" type="slidenum">
              <a:rPr b="0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1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2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453-6993-4881-838B-388C121BC6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B3F-16A2-4F87-829C-37BAC5EA4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1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2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EC5-9834-48D0-8A1F-8D803862D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11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B3EA-AB50-4158-A2C2-607781DDD8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C82F-2142-49EE-9390-3B8723394EE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6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grpSp>
        <p:nvGrpSpPr>
          <p:cNvPr id="39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9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40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85D-CA4F-4DA2-8EF2-6A93918129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6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6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第八单元习作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——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场面描写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990720" y="0"/>
            <a:ext cx="73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拔河比赛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加油、加油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操场上响起了一片助威声，四年级的同学正在紧张地进行拔河比赛，有四一班对四二班。比赛刚一开始，四一班先发制人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ahoma"/>
              </a:rPr>
              <a:t>只见他们一个个像小老虎似的使足了劲，双手紧握绳子，身子往后倾，双腿用劲蹬着地。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四二班的同学没有防备，绳子一下子移过了中点，向四一班慢慢移动。这下，助威加油的同学们忍不住了，呼喊声一阵高过一阵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四二班加油！四二班加油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他们一边跺脚，一边挥舞着拳头，仿佛自己也是参赛的队员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914400" y="60948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顿时，四二班的同学不知从哪儿来的一股劲，只见他们咬着牙，绷着脸，瞪着眼，用足劲把绳子往这边拽。眼看绳子一点点朝中点移过来了。突然，绳子不动了，四一班的同学也不示弱，比赛进入了坚持阶段。这时，操场又响起了阵阵喊声。带头鼓劲的同学挥着小红旗，有节奏地喊着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一、二、加油！一、二、加油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其他助威的同学也都跟着喊起来。　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914400" y="1219320"/>
            <a:ext cx="7315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双方大约僵持了七、八秒钟，四二班同学齐心合力，迸发出一股巨大的力量，猛地将绳子拉了过去，红色的标志一下子过了河界。随着裁判的哨声一响，四二班的同学扔下了绳子，全都跳了起来。“哦，我们赢了！我们赢了！”一旁助威的同学也跑了过来，大家抱在一起又喊又跳，那高兴劲就别提了。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　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0193"/>
          <p:cNvPicPr/>
          <p:nvPr/>
        </p:nvPicPr>
        <p:blipFill>
          <a:blip r:embed="rId1"/>
          <a:stretch/>
        </p:blipFill>
        <p:spPr>
          <a:xfrm>
            <a:off x="3352680" y="4697280"/>
            <a:ext cx="6134400" cy="21607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8"/>
          <p:cNvSpPr/>
          <p:nvPr/>
        </p:nvSpPr>
        <p:spPr>
          <a:xfrm>
            <a:off x="1523880" y="1219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500cc"/>
                </a:solidFill>
                <a:latin typeface="Tahoma"/>
              </a:rPr>
              <a:t>我们来找一找，哪些地方属于场面描写？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1371600" y="2971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500cc"/>
                </a:solidFill>
                <a:latin typeface="Tahoma"/>
              </a:rPr>
              <a:t>我们来想一想，这篇作文中场面描写有什么作用呢？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"/>
          <p:cNvSpPr/>
          <p:nvPr/>
        </p:nvSpPr>
        <p:spPr>
          <a:xfrm>
            <a:off x="990720" y="0"/>
            <a:ext cx="73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拔河比赛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加油、加油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操场上响起了一片助威声，四年级的同学正在紧张地进行拔河比赛，有四一班对四二班。比赛刚一开始，四一班先发制人。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只见他们一个个像小老虎似的使足了劲，双手紧握绳子，身子往后倾，双腿用劲蹬着地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四二班的同学没有防备，绳子一下子移过了中点，向四一班慢慢移动。这下，助威加油的同学们忍不住了，呼喊声一阵高过一阵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四二班加油！四二班加油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他们一边跺脚，一边挥舞着拳头，仿佛自己也是参赛的队员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914400" y="609480"/>
            <a:ext cx="73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顿时，四二班的同学不知从哪儿来的一股劲，只见他们咬着牙，绷着脸，瞪着眼，用足劲把绳子往这边拽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眼看绳子一点点朝中点移过来了。突然，绳子不动了，四一班的同学也不示弱，比赛进入了坚持阶段。这时，操场又响起了阵阵喊声。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带头鼓劲的同学挥着小红旗，有节奏地喊着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一、二、加油！一、二、加油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其他助威的同学也都跟着喊起来。　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914400" y="1219320"/>
            <a:ext cx="7315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双方大约僵持了七、八秒钟，四二班同学齐心合力，迸发出一股巨大的力量，猛地将绳子拉了过去，红色的标志一下子过了河界。随着裁判的哨声一响，</a:t>
            </a:r>
            <a:r>
              <a:rPr b="1" lang="zh-CN" sz="3200" spc="-1" strike="noStrike">
                <a:solidFill>
                  <a:srgbClr val="ffb800"/>
                </a:solidFill>
                <a:latin typeface="Times New Roman"/>
              </a:rPr>
              <a:t>四二班的同学扔下了绳子，全都跳了起来。“哦，我们赢了！我们赢了！”一旁助威的同学也跑了过来，大家抱在一起又喊又跳，那高兴劲就别提了。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0193"/>
          <p:cNvPicPr/>
          <p:nvPr/>
        </p:nvPicPr>
        <p:blipFill>
          <a:blip r:embed="rId1"/>
          <a:stretch/>
        </p:blipFill>
        <p:spPr>
          <a:xfrm>
            <a:off x="3352680" y="4697280"/>
            <a:ext cx="6134400" cy="2160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45720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一、注意写好每一个</a:t>
            </a:r>
            <a:r>
              <a:rPr b="1" i="1" lang="zh-CN" sz="3600" spc="-1" strike="noStrike">
                <a:solidFill>
                  <a:srgbClr val="cc0000"/>
                </a:solidFill>
                <a:latin typeface="楷体"/>
                <a:ea typeface="经典超圆简"/>
              </a:rPr>
              <a:t>“</a:t>
            </a: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点</a:t>
            </a:r>
            <a:r>
              <a:rPr b="1" i="1" lang="zh-CN" sz="3600" spc="-1" strike="noStrike">
                <a:solidFill>
                  <a:srgbClr val="cc0000"/>
                </a:solidFill>
                <a:latin typeface="楷体"/>
                <a:ea typeface="经典超圆简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80880" y="19051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场面的描写，首先要注意写好整个场面中在同一时间出现的几个点。同一个时间里，不同位置、不同身份的人，所表现的状态是不同的，他们的言行举止、心理活动也不相同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31840" y="297000"/>
            <a:ext cx="5735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看足球比赛的时候，观众席上的人的表现就不一样。特别是球接近球门的那一刻，一会发现，观众的举动非常有意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有的是屏住呼吸，一声不吭，眼睛直盯足球；有的则几个人一起大喊大叫，声势浩大；还有的呢，独自小声念叨：“稳住！稳住！传球！”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·····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3"/>
          <p:cNvSpPr/>
          <p:nvPr/>
        </p:nvSpPr>
        <p:spPr>
          <a:xfrm>
            <a:off x="45720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二</a:t>
            </a:r>
            <a:r>
              <a:rPr b="1" i="1" lang="en-US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.</a:t>
            </a: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注意运用</a:t>
            </a:r>
            <a:r>
              <a:rPr b="1" i="1" lang="zh-CN" sz="3600" spc="-1" strike="noStrike">
                <a:solidFill>
                  <a:srgbClr val="cc0000"/>
                </a:solidFill>
                <a:latin typeface="楷体"/>
                <a:ea typeface="经典超圆简"/>
              </a:rPr>
              <a:t>“</a:t>
            </a: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点面结合</a:t>
            </a:r>
            <a:r>
              <a:rPr b="1" i="1" lang="zh-CN" sz="3600" spc="-1" strike="noStrike">
                <a:solidFill>
                  <a:srgbClr val="cc0000"/>
                </a:solidFill>
                <a:latin typeface="楷体"/>
                <a:ea typeface="经典超圆简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80880" y="1371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场面描写中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不仅要注意写好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点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，还要注意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点面结合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面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就是对整体情况的概括。前面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拔河比赛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中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“‘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加油加油</a:t>
            </a: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!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操场上响起了一片助威声，这是我们四年级的同学正在紧张地进行拔河比赛。以及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这时，操场上又响起了阵阵喊声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都是对整个场景的概括描写。有了这样的描写，拔河比赛的场面就是显得更加的热烈了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场面描写：（活动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会场描写：就是要“面”的描写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地点 时间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会场布置：有顺序，东，南，西，北，空中，地面。 布置成什么样：字，条幅，舞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人物描写：就是“点”的描写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可以写自己，也可以写别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写清人物的语言，动作，心理，神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般按时间顺序写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一段：时间，地点，活动及会场布置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二段：活动开始了，（必写），先整体写活动项目及内容。 抓住具体的一两个人或一两个群体，写清他们的语言，动作，心理，神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三段：活动结束了（必写），自己有什么收获，今后怎么做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45720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三．注意抓动态的场景来写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2280" y="1447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活动或比赛都是人来参加的，而且都是动态的，因此，场面描写就要重点描述人物的活动情况，通过人物的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一言一行，一举一动，来反映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点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或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面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状态，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从而使人了解整个活动或比赛情况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380880" y="41911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在描写事件发展，活动过程的时候，还要注意将人物的活动情况，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包括语言、动作、神态以及心理活动进行相应的描写</a:t>
            </a:r>
            <a:r>
              <a:rPr b="1" i="1" lang="zh-CN" sz="3200" spc="-1" strike="noStrike">
                <a:solidFill>
                  <a:srgbClr val="ffffff"/>
                </a:solidFill>
                <a:latin typeface="Tahoma"/>
              </a:rPr>
              <a:t>，这也是写好场面的一个方面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5720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经典超圆简"/>
              </a:rPr>
              <a:t>四、画龙点睛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22860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ahoma"/>
                <a:ea typeface="楷体"/>
              </a:rPr>
              <a:t>在场面描写中还要有</a:t>
            </a:r>
            <a:r>
              <a:rPr b="1" i="1" lang="zh-CN" sz="3600" spc="-1" strike="noStrike">
                <a:solidFill>
                  <a:srgbClr val="cc0000"/>
                </a:solidFill>
                <a:latin typeface="Tahoma"/>
                <a:ea typeface="楷体"/>
              </a:rPr>
              <a:t>点睛之笔</a:t>
            </a:r>
            <a:r>
              <a:rPr b="1" i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i="1" lang="zh-CN" sz="3600" spc="-1" strike="noStrike">
                <a:solidFill>
                  <a:srgbClr val="ffffff"/>
                </a:solidFill>
                <a:latin typeface="Tahoma"/>
                <a:ea typeface="楷体"/>
              </a:rPr>
              <a:t>最有代表性、最能打动人、最能感动人、最能给人留下深刻印象的传神之笔。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807920" y="817560"/>
            <a:ext cx="5146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场面描写的方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057400" y="2590560"/>
            <a:ext cx="4191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点面结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动静相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画龙点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7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7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7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7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5"/>
          <p:cNvSpPr/>
          <p:nvPr/>
        </p:nvSpPr>
        <p:spPr>
          <a:xfrm>
            <a:off x="990720" y="1143000"/>
            <a:ext cx="784836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ahoma"/>
              </a:rPr>
              <a:t>一次大扫除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大扫除开始了！同学们争先恐后地奔向自己的劳动岗位。有的挥着扫把清扫地面，有的拿着板擦擦黑板，有的把桌椅摆得整整齐齐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哗哗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撩水声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唰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扫地声，朗朗的欢笑声响成一片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457200" y="45720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靠边点！靠边点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只见王明拎着一个大拖布走进教室里。他拖地面最认真，挥动着湿淋淋的拖布，把地面擦得干干净净。张芳同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负责摆桌椅，你看，她摆的桌椅横看一条线，竖看一条线，谁见了都发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啧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赞叹声。卫生委员让我擦玻璃，我拿起抹布登上窗台，就开始一下一下地擦。刚下过雨，玻璃上有许多小泥点，擦起来可费事啦。我先用湿抹布擦，又把干抹布裹在手指上，擦拭窗框的四周。嘿，那泥点一下子就无影无踪了。透过明亮的玻璃窗，看见校园里的小树正在向我点头笑哩！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4"/>
          <p:cNvSpPr/>
          <p:nvPr/>
        </p:nvSpPr>
        <p:spPr>
          <a:xfrm>
            <a:off x="11430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紧张的大扫除在同学们的欢声笑语中结束了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080" y="33526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                     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思 考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在这篇例文中，场面描写的三种方法都体现在哪？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0193"/>
          <p:cNvPicPr/>
          <p:nvPr/>
        </p:nvPicPr>
        <p:blipFill>
          <a:blip r:embed="rId1"/>
          <a:stretch/>
        </p:blipFill>
        <p:spPr>
          <a:xfrm>
            <a:off x="3352680" y="4697280"/>
            <a:ext cx="6134400" cy="21607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1523880" y="1295280"/>
            <a:ext cx="63248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500cc"/>
                </a:solidFill>
                <a:latin typeface="Tahoma"/>
                <a:ea typeface="华文新魏"/>
              </a:rPr>
              <a:t>大显身手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500cc"/>
                </a:solidFill>
                <a:latin typeface="Tahoma"/>
                <a:ea typeface="华文新魏"/>
              </a:rPr>
              <a:t>让我们运用学到的方法来描写几个场面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Oval 3"/>
          <p:cNvSpPr/>
          <p:nvPr/>
        </p:nvSpPr>
        <p:spPr>
          <a:xfrm>
            <a:off x="685800" y="380880"/>
            <a:ext cx="266688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609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我来露一手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68580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请你在以下推荐目录中选择一个内容，也可以自己确定其他内容，写一个场面的片段。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旗的场面 欢乐的场面 晨练的场面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戏的场面 比赛的场面 街头的场面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in" orient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a1_007"/>
          <p:cNvPicPr/>
          <p:nvPr/>
        </p:nvPicPr>
        <p:blipFill>
          <a:blip r:embed="rId1"/>
          <a:stretch/>
        </p:blipFill>
        <p:spPr>
          <a:xfrm>
            <a:off x="6019920" y="4419720"/>
            <a:ext cx="2438280" cy="192060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609480" y="2133720"/>
            <a:ext cx="7620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场 面 描 写 我 能 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5 -0.16693 C -0.26459 -0.16462 -0.26719 -0.1637 -0.27118 -0.16023 C -0.27361 -0.15838 -0.275 -0.15398 -0.27743 -0.15329 C -0.28854 -0.15121 -0.29948 -0.15167 -0.31042 -0.15121 C -0.31875 -0.14867 -0.3257 -0.14635 -0.3342 -0.14427 C -0.34514 -0.13896 -0.35591 -0.13572 -0.36736 -0.13271 C -0.41702 -0.13572 -0.46841 -0.1341 -0.51754 -0.14427 C -0.52431 -0.15075 -0.53629 -0.15468 -0.54445 -0.15768 C -0.54983 -0.16531 -0.55625 -0.16555 -0.56198 -0.17364 C -0.56702 -0.18057 -0.56789 -0.18612 -0.57466 -0.18936 C -0.58125 -0.19884 -0.58993 -0.203 -0.5967 -0.21202 C -0.60018 -0.21641 -0.60625 -0.22543 -0.60625 -0.2252 C -0.60868 -0.23907 -0.61164 -0.25225 -0.61424 -0.26589 C -0.6158 -0.29109 -0.61719 -0.31144 -0.62518 -0.33364 C -0.62848 -0.36323 -0.62778 -0.37387 -0.62657 -0.41017 C -0.625 -0.47422 -0.63334 -0.45433 -0.62188 -0.47768 C -0.62101 -0.48416 -0.62049 -0.49271 -0.61719 -0.49826 C -0.61563 -0.50104 -0.61285 -0.50242 -0.61094 -0.50497 C -0.59827 -0.523 -0.59184 -0.54497 -0.57309 -0.54982 C -0.54098 -0.57711 -0.51285 -0.57109 -0.47344 -0.57271 C -0.45764 -0.57318 -0.44184 -0.57433 -0.42604 -0.57479 C -0.39914 -0.57595 -0.37223 -0.57641 -0.34532 -0.57711 C -0.29219 -0.57641 -0.23907 -0.57641 -0.18594 -0.57479 C -0.18039 -0.57479 -0.17014 -0.56809 -0.17014 -0.56763 C -0.16268 -0.55768 -0.15677 -0.54497 -0.14948 -0.53433 C -0.14809 -0.52624 -0.14584 -0.52023 -0.1415 -0.51398 C -0.13403 -0.50289 -0.13976 -0.5156 -0.13368 -0.50497 C -0.13264 -0.50289 -0.13177 -0.50011 -0.13056 -0.49826 C -0.12848 -0.49503 -0.12448 -0.48924 -0.12448 -0.48878 C -0.11962 -0.47005 -0.11789 -0.45294 -0.11789 -0.4326 L 0.14166 -0.59491 L -0.10521 -0.45988 E">
                                      <p:cBhvr>
                                        <p:cTn id="373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2" name="Picture 4" descr="bjxml20040419001-xwzc-gjc-z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74520" y="-379440"/>
            <a:ext cx="921852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一）</a:t>
            </a:r>
            <a:r>
              <a:rPr b="1" lang="zh-CN" sz="3100" spc="-1" strike="noStrike">
                <a:solidFill>
                  <a:srgbClr val="000000"/>
                </a:solidFill>
                <a:latin typeface="Comic Sans MS"/>
              </a:rPr>
              <a:t>写作要求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： 一次有趣的活动，是多么激动人心，我们不会忘记。请你写写在学校参加过的一项活动，把活动的场景写具体，写清楚。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二）</a:t>
            </a:r>
            <a:r>
              <a:rPr b="1" lang="zh-CN" sz="3100" spc="-1" strike="noStrike">
                <a:solidFill>
                  <a:srgbClr val="000000"/>
                </a:solidFill>
                <a:latin typeface="Comic Sans MS"/>
              </a:rPr>
              <a:t>写作指导：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）把你参加活动的基本要素写清楚，如时间、地点、参加人员、活动内容等等。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）按时间顺序把活动经过写清楚，重点写详细。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）要注意点面结合，既要简单地写出整个场面的全景，又要有选择地具体地描写主要人物的活动。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3100" spc="-1" strike="noStrike">
                <a:solidFill>
                  <a:srgbClr val="000000"/>
                </a:solidFill>
                <a:latin typeface="Comic Sans MS"/>
              </a:rPr>
              <a:t>）在描述中要表达出自己内心的感触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907920"/>
            <a:ext cx="712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习作例文欣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、升　旗　仪　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880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每个星期一清晨，我们学校都要举行升旗仪式（除了雨雪天气）。参加升旗仪式的有校领导和全校师生。 　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随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运动员进行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的响起，同学们在班干部的带领下，像赶集似地奔向操场，参加升旗仪式。 我们学校的升旗台没有那么宽广，也没有那么美观，但它却是神圣而庄严的！ 　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当每个班的师生到齐时，大队部辅导员艾老师就会准时出现在升旗台上，用她那清脆悦耳的声音郑重地宣布：“升旗仪式现在开始，第一项，请升旗手、护旗手出列！” 艾老师话音刚落，三位训练有素的升旗手便迈着矫健、整齐的步伐走上了升旗台。 　　“第二项，请升旗手、护旗手作自我介绍。”艾老师说着，便把话筒递给了升旗手。升旗手向台下敬了个少年队队礼，更开始了精彩的自我介绍，随后，两位护旗手也陆续作了介绍。 　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三项，也是最隆重的：升国旗、奏国歌。和着昂扬的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义勇军进行曲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，鲜艳的五星红旗徐徐上升。护旗手和全体学生一旗举起右手，敬了一个标准的少先队队礼，一直目送着五星红旗升到旗杆的顶端。五星红旗在风中微微飘动着，是多么的壮观啊！此时，我不由自主地想起了那些革命先烈，在抗日战争中、在解放战争中、在抗美援朝中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，为了新中国的诞生、为了国家的和平，用他们的鲜血染红了五星红旗！一股爱国情感顿时涌上了我的心头。 　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四项，唱国歌。”“起来，不愿做奴隶的人们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我们的歌声也许不那么标准，也许不那么洪亮，但这是我们发自内心的感受。这歌声一定会传到长城内外、大江南北。 　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第五项，呼号。“人民为先，祖国至上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。”仅仅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个字，就表达了作为一名小学生，我们应该做的和努力的。 　　接下来，由校领导讲话。主要是公布上周各班的考核情况，我们班又名列前茅。 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升旗仪式结束后，操声上已空无一人，但雄壮的国歌声似乎仍在在操场上空久久回荡，鲜艳的五星红旗仍在操场上空高高飘扬！ 本篇文章来源于 布衣教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今天下午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在学校里传来的不是琅琅的读书声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而是一浪高过一浪的加油声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原来这时操场上正在举行五年级全体同学的拔河比赛。我们班已经一路过关斩将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闯入了决赛。决赛里的对手是五（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）班，他们身强体壮，又精明，真是强敌呀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          “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嘟”随着一声哨响，决赛里的第一场比赛开始了。只见我们班的队员都鼓足了劲，一只脚挨着一只脚，用力地往后拉。对方也不是好惹的，不过，我们班的队员还是把绳子上的铁锁拉出了我们这边的底线。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Yes</a:t>
            </a: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，棋开得胜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精彩的拔河比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接着，第二场比赛开始了。这一回，对方显得厉害了，铁锁一直在对方的领地里徘徊，对方的拉拉队有规律地喊着“一、二，加油。”我们班围观的同学也在自发地大声喊着：“加油</a:t>
            </a:r>
            <a:r>
              <a:rPr b="0" lang="en-US" sz="2700" spc="-1" strike="noStrike">
                <a:solidFill>
                  <a:srgbClr val="ffef66"/>
                </a:solidFill>
                <a:latin typeface="Comic Sans MS"/>
              </a:rPr>
              <a:t>-- 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加油</a:t>
            </a:r>
            <a:r>
              <a:rPr b="0" lang="en-US" sz="2700" spc="-1" strike="noStrike">
                <a:solidFill>
                  <a:srgbClr val="ffef66"/>
                </a:solidFill>
                <a:latin typeface="Comic Sans MS"/>
              </a:rPr>
              <a:t>-- 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。”可是不一会儿，我们队就败下阵来。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          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决胜盘开始了。野老师和赵老师带着同学们齐声喊道：“加油！加油！</a:t>
            </a:r>
            <a:r>
              <a:rPr b="0" lang="en-US" sz="2700" spc="-1" strike="noStrike">
                <a:solidFill>
                  <a:srgbClr val="ffef66"/>
                </a:solidFill>
                <a:latin typeface="Comic Sans MS"/>
              </a:rPr>
              <a:t>——”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这震耳欲聋的加油声使得场上场下的同学们心往一处想，劲儿往一处使。只见我们班参赛的同学就像喝醉了酒一样，时左时右，忽东忽西，眼看就要撑不住了。拉拉队的加油声越来越响亮了，参赛队员听了这呐喊助威的声音，像注射了兴奋剂一样，一下子来了劲儿，他们一跺脚，一用力，把五（</a:t>
            </a:r>
            <a:r>
              <a:rPr b="0" lang="en-US" sz="27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）班拉出了中线外。在大家顽强的拼搏下，我们终于赢得了决胜盘，夺取了冠军。场下同学为队员们的胜利而欢呼，场上的队员们也都个个乐的合不拢嘴了。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           </a:t>
            </a:r>
            <a:r>
              <a:rPr b="0" lang="zh-CN" sz="2700" spc="-1" strike="noStrike">
                <a:solidFill>
                  <a:srgbClr val="ffef66"/>
                </a:solidFill>
                <a:latin typeface="Comic Sans MS"/>
              </a:rPr>
              <a:t>团结就是力量！这次比赛真让我受益匪浅。</a:t>
            </a:r>
            <a:r>
              <a:rPr b="0" lang="zh-CN" sz="2400" spc="-1" strike="noStrike">
                <a:solidFill>
                  <a:srgbClr val="ffe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、记一次精彩的辩论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mic Sans MS"/>
              </a:rPr>
              <a:t>       </a:t>
            </a:r>
            <a:r>
              <a:rPr b="0" lang="zh-CN" sz="2600" spc="-1" strike="noStrike">
                <a:solidFill>
                  <a:srgbClr val="ff0000"/>
                </a:solidFill>
                <a:latin typeface="Comic Sans MS"/>
              </a:rPr>
              <a:t>今天上午，老师宣布下午要开一场辩论赛，大家兴奋的欢呼雀跃，个个精神焕发，看来又是一场精彩的舌战呀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mic Sans MS"/>
              </a:rPr>
              <a:t>     </a:t>
            </a:r>
            <a:r>
              <a:rPr b="0" lang="zh-CN" sz="2600" spc="-1" strike="noStrike">
                <a:solidFill>
                  <a:srgbClr val="ff0000"/>
                </a:solidFill>
                <a:latin typeface="Comic Sans MS"/>
              </a:rPr>
              <a:t>下午第二节课，大队长王佳琪进行了精彩的开场白，便开始了唇舌之间的交锋。这次辩题是“小学生要不要多看电视”。每方四位辩手，我是正方，我担任二辩，看对方辩友个个信心十足，胸有成竹。再看我方已擦好唇枪舌剑，要到楚河汉界一决雌雄了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mic Sans MS"/>
              </a:rPr>
              <a:t>     </a:t>
            </a:r>
            <a:r>
              <a:rPr b="0" lang="zh-CN" sz="2600" spc="-1" strike="noStrike">
                <a:solidFill>
                  <a:srgbClr val="ff0000"/>
                </a:solidFill>
                <a:latin typeface="Comic Sans MS"/>
              </a:rPr>
              <a:t>辩论开始了，我方一辩刘泽表明了我方的观点，小学生多看电视好，根据对方一辩孟轲的性格我事先早已料到他的观点，果然，他答的和我想的差不多，我便按照计划的回答。但是战场风云，瞬息万变，我忘了王天阳，俗话说的好：打人不打脸，骂人不揭短。可这家伙一向不懂“游戏规则”，他在答辩时把我扯了进去，还乱说一气，把莫须有罪名往我身上扣，说我因为看电视多了而戴眼睛，请大家不要以我为例。这哪是辩论，分明是挑衅。我不服气了，“你咋知道我戴眼睛是因为看电视？妄下定论有些孤陋寡闻了吧。弱视、近视、散光，眼病多了去了。我戴眼镜，跟电视没关系。再说，说戴眼睛有很多不便，百米飞人胡凯戴个眼镜但还不是冠军？扒机少年陈攀龙戴眼镜，还抱着飞机轮子在两万米高空飞了一个小时呢！戴眼镜咋了？”我毫不示弱，对方竟一时语塞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   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第一局还算平静，但第二局却使激发观众与辩友的斗志到达了高潮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     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由于自由发言，大家便尽情的说，全场乱哄哄的，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名辩友也急了，把礼仪抛在脑后，都站了起来，大声快速的说，生怕对方听不见，台下，观众有的也纷纷的站了起来，高声发表自己的见解。我想这便是高潮了，才正是辩论的精妙所在吧！看对方答辩孟轲不急不忙的嘴一张一合，流出的文字，针针见血，好一口伶牙俐齿，那个小个子周伟龙嘴部肌肉发达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叭叽叭叽的说个没完，很有些道理，我方三辩张逸文和对方三辩刘洋可都是急性子，才不管老师在不在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口一直合不上，也不做窈窕淑女了。看到对方的说法，自己有不同的见意，便都控制不住了，那场面真叫一个火，那感觉真叫一个爽！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      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比赛结束了，大家可是一发不可收拾，王佳琪大喊“比赛结束”，大家还余音未尽，在整场中我方占据了主动，对方虽然也破釜沉舟，奋力反抗，但还是以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11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分之差名落孙山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      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好一场惊心动魄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zh-CN" sz="3000" spc="-1" strike="noStrike">
                <a:solidFill>
                  <a:srgbClr val="ff0000"/>
                </a:solidFill>
                <a:latin typeface="Comic Sans MS"/>
              </a:rPr>
              <a:t>别开生面的辩论会！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、记一次运动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星期五，我们学校隆重地举行了秋季田径运动会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这天，操场上热闹非凡，加油声、欢呼声、鼓掌声此起彼伏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瞧，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米跑步比赛马上就要开始了，场上的运动员蓄势待发，就像战场上的勇士，一个个雄心勃勃，因为他们要为集体的荣誉而战。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“啪”随着一声哨响，运动员们就像离弦的箭向终点冲去，从我们面前飞速地“过”。“加油，加油！”拉拉队的喊声震耳欲聋，全场一片沸腾。你瞧，我们班的跑步健将卢俊宇，只见他摆动着双臂，双脚生风似的，总算跑在最前面。可别班同学也不甘示弱，紧追着卢俊宇使劲往前跑。离终点越来越近时，还是不分上下，拉拉队的喊声更是一浪高过一浪。同学们的心绷得紧紧的，我的心简直提到了嗓子眼，真想过去推卢俊宇一把。卢俊宇果然没有辜负我们的的希望，他听到拉拉队在为自己喊加油，好像注入兴奋剂，双脚就像踩着风火轮，最后终于第一个冲过了终点。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“我们赢了，我们胜利了！”我们班的同学欢呼起来，那股高兴的劲儿真是无法形容。这次运动会，卢俊宇还得了一个立定跳远第三名，李丁子是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米的第一名，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米的第二名是余美慧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这些同学为我们班争得了荣誉，是我们班的骄傲。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　这次田径运动会真激烈！真精彩！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、记一次联欢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zh-CN" sz="2800" spc="-1" strike="noStrike">
                <a:solidFill>
                  <a:srgbClr val="99ff33"/>
                </a:solidFill>
                <a:latin typeface="Comic Sans MS"/>
              </a:rPr>
              <a:t>  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刚过完“五</a:t>
            </a:r>
            <a:r>
              <a:rPr b="1" lang="en-US" sz="2800" spc="-1" strike="noStrike">
                <a:solidFill>
                  <a:srgbClr val="99ff33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一”长假，同学们就盼着过“六一”儿童节，因为这毕竟是我们自己的节日。大家掰着手指盼呀盼，还为此做了许多准备，这不，终于盼来了。下午，我们班举行了一场热烈欢快的联欢会。</a:t>
            </a:r>
            <a:br>
              <a:rPr sz="2800"/>
            </a:b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   </a:t>
            </a:r>
            <a:r>
              <a:rPr b="0" lang="zh-CN" sz="2800" spc="-1" strike="noStrike">
                <a:solidFill>
                  <a:srgbClr val="99ff33"/>
                </a:solidFill>
                <a:latin typeface="Comic Sans MS"/>
              </a:rPr>
              <a:t>   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节日的班级里，到处洋溢着欢乐的气氛，同学们用气球、彩带，还有自己动手剪的窗花，把教室布置成了一派热闹的景象。随着主持人的开场白，联欢会拉开了序幕。第一个节目是小合唱</a:t>
            </a:r>
            <a:r>
              <a:rPr b="1" lang="en-US" sz="2800" spc="-1" strike="noStrike">
                <a:solidFill>
                  <a:srgbClr val="99ff33"/>
                </a:solidFill>
                <a:latin typeface="Comic Sans MS"/>
              </a:rPr>
              <a:t>――《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茉莉花</a:t>
            </a:r>
            <a:r>
              <a:rPr b="1" lang="en-US" sz="2800" spc="-1" strike="noStrike">
                <a:solidFill>
                  <a:srgbClr val="99ff33"/>
                </a:solidFill>
                <a:latin typeface="Comic Sans MS"/>
              </a:rPr>
              <a:t>》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，这是由我们班校合唱队、舞蹈队的同学表演的。这是一首脍炙人口的歌曲，旋律优美，三声部合唱，我担任了其中的领唱，一曲唱完，台下响起热烈的掌声。</a:t>
            </a:r>
            <a:br>
              <a:rPr sz="2800"/>
            </a:b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   </a:t>
            </a:r>
            <a:r>
              <a:rPr b="0" lang="zh-CN" sz="2800" spc="-1" strike="noStrike">
                <a:solidFill>
                  <a:srgbClr val="99ff33"/>
                </a:solidFill>
                <a:latin typeface="Comic Sans MS"/>
              </a:rPr>
              <a:t>   </a:t>
            </a:r>
            <a:r>
              <a:rPr b="1" lang="zh-CN" sz="2800" spc="-1" strike="noStrike">
                <a:solidFill>
                  <a:srgbClr val="99ff33"/>
                </a:solidFill>
                <a:latin typeface="Comic Sans MS"/>
              </a:rPr>
              <a:t>一个个节目都很精彩，李晓强的抖空竹一下子就“粘”住了我们的眼球。只见他用绳子在空竹上绕了一圈，两手拿着竹竿，然后迅速提了起来，上下左右拉动，空竹一下子就旋转起来了！只见他</a:t>
            </a:r>
            <a:r>
              <a:rPr b="0" lang="zh-CN" sz="28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-530280"/>
            <a:ext cx="2133720" cy="4797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WordArt 3"/>
          <p:cNvSpPr txBox="1"/>
          <p:nvPr/>
        </p:nvSpPr>
        <p:spPr>
          <a:xfrm>
            <a:off x="1143000" y="281952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橄榄体简"/>
              </a:rPr>
              <a:t>场面描写我能行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橄榄体简"/>
              <a:ea typeface="汉仪橄榄体简"/>
            </a:endParaRPr>
          </a:p>
        </p:txBody>
      </p:sp>
      <p:pic>
        <p:nvPicPr>
          <p:cNvPr id="516" name="Picture 5" descr="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715000" y="-455760"/>
            <a:ext cx="290520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把空竹转得越来越快，我们的心也随即提了起来，生怕空竹掉下来。李晓强不愧是空竹高手，花样真不少，他抖着抖着，便把一只手高举，空竹就从高处滑下来，太精彩了，大家不由自主地拍起手来。他越玩越得意，又把绝活亮了出来，用绳子在空竹又绕一圈，然后放在地上，猛地一拉，空竹就成了一个大陀螺，大家都被他的精彩表演所折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   </a:t>
            </a:r>
            <a:r>
              <a:rPr b="0" lang="zh-CN" sz="3200" spc="-1" strike="noStrike">
                <a:solidFill>
                  <a:srgbClr val="99ff33"/>
                </a:solidFill>
                <a:latin typeface="Comic Sans MS"/>
              </a:rPr>
              <a:t> </a:t>
            </a: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要说最精彩的，当属周德胜等几个同学表演的跆拳道了！首先是周德胜和盛音皓表演对打。他俩先向对方鞠了一躬，然后就拉开了架式。周德胜先向对方打出一个有力的直拳，盛音皓用手轻轻一挡就避开了。</a:t>
            </a:r>
            <a:r>
              <a:rPr b="0" lang="zh-CN" sz="32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99ff33"/>
                </a:solidFill>
                <a:latin typeface="Comic Sans MS"/>
              </a:rPr>
              <a:t>周德胜见一招落空，就用另一只手挽住盛音皓的肩，用力往旁一顶，盛音皓“叭叽”一声就摔倒在地，我们都惊呆了，忍不住尖叫起来，以为这下盛音皓摔惨了，没想到盛音皓一骨碌爬了起来，哦，原来这个动作是他俩早就设计好的，演得真是逼真！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99ff33"/>
                </a:solidFill>
                <a:latin typeface="Comic Sans MS"/>
              </a:rPr>
              <a:t>    “</a:t>
            </a:r>
            <a:r>
              <a:rPr b="1" lang="zh-CN" sz="3100" spc="-1" strike="noStrike">
                <a:solidFill>
                  <a:srgbClr val="99ff33"/>
                </a:solidFill>
                <a:latin typeface="Comic Sans MS"/>
              </a:rPr>
              <a:t>最厉害的”，还是周雪仪，她一人和顾经纬、盛音皓两人过招，我们都为她捏了一把汗。双方开打后，顾经纬向周雪仪猛扑过去，只见她用手一推，顾经纬就坐在了地上。盛音皓见顾经纬倒了，也向周雪仪发起进攻，只见她不慌不忙，来了个漂亮的下压，盛音皓随即就趴在了地上。顾经纬见正面不成，就来个背后袭击，但见周雪仪猛一转身，用胳膊肘一顶，顾经纬这下是彻底地“爬”不起来了。“哦</a:t>
            </a:r>
            <a:r>
              <a:rPr b="1" lang="en-US" sz="3100" spc="-1" strike="noStrike">
                <a:solidFill>
                  <a:srgbClr val="99ff33"/>
                </a:solidFill>
                <a:latin typeface="Comic Sans MS"/>
              </a:rPr>
              <a:t>……”</a:t>
            </a:r>
            <a:r>
              <a:rPr b="1" lang="zh-CN" sz="3100" spc="-1" strike="noStrike">
                <a:solidFill>
                  <a:srgbClr val="99ff33"/>
                </a:solidFill>
                <a:latin typeface="Comic Sans MS"/>
              </a:rPr>
              <a:t>大家一阵欢呼，既是为周雪仪的勇敢呐喊，更是为他们三人的精彩表演喝采。</a:t>
            </a:r>
            <a:br>
              <a:rPr sz="3100"/>
            </a:br>
            <a:br>
              <a:rPr sz="2400"/>
            </a:br>
            <a:r>
              <a:rPr b="1" lang="zh-CN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 </a:t>
            </a: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那天的节目非常丰富，我们还进行了时装表演，器乐演奏，邹珏慧的扬琴，我和朱奇苗的二胡，都受到了同学们的欢迎。快乐总是短暂的，欢乐的时光就在不知不觉中过去了，当所有节目结束时，我们还意犹未尽。这真是一个难忘的“六一”节，它将永远烙印在我童年的记忆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500cc"/>
                </a:solidFill>
                <a:latin typeface="Comic Sans MS"/>
              </a:rPr>
              <a:t>我来思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500cc"/>
                </a:solidFill>
                <a:latin typeface="Comic Sans MS"/>
              </a:rPr>
              <a:t>读读下面的描述，想想写的是什么场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同学们围着篝火，尽情地跳呀，唱呀，整个操场成了欢乐的海洋。（          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鲜嫩的黄瓜、青里透红的西红柿、碧绿的青菜都似乎在张着笑脸迎接前来买菜的人们。周围一片嘈杂的声音，讨价声、叫卖声此起彼伏，我不由得也融入到了其中。（          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同学们你一言，我一语地说起来了，有的说这个办法好，有的说这个办法行不通，大家各抒己见，互不相让。（       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510552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5334120" y="2133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篝火晚会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91440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菜市场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4952880" y="6278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讨论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Comic Sans MS"/>
              </a:rPr>
              <a:t>看看下面的几组词，你能联想到什么场面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哨声一响 拼抢激烈 运球过人 三分球（      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动人的旋律 静静地欣赏 陶醉其中（      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眼花缭乱 震耳欲聋 五彩缤纷 仿佛是白天（     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、花的海洋 人头攒动 照相 赞叹不已          （      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685800" y="2286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篮球比赛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685800" y="3429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音乐会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52388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放烟花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762120" y="5562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逛花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67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67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67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67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31840" y="297000"/>
            <a:ext cx="5735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我来归纳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哪个地方发生的事情，当时周围的情况如何，我们把它描写下来，就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场面描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场面描写经常在记事文章中出现，而且一般都是在多数人参与的时候下所表现出来的情况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4" name="Picture 4" descr="20061020115119426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Picture 4" descr="200799192927812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ingan</dc:creator>
  <dc:description/>
  <cp:keywords/>
  <dc:language>en-US</dc:language>
  <cp:lastModifiedBy>Administrator</cp:lastModifiedBy>
  <dcterms:modified xsi:type="dcterms:W3CDTF">2015-04-02T12:42:07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1</vt:r8>
  </property>
</Properties>
</file>