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breeze.wav" ContentType="audio/x-wav"/>
  <Override PartName="/ppt/media/image3.png" ContentType="image/png"/>
  <Override PartName="/ppt/media/image4.jpeg" ContentType="image/jpeg"/>
  <Override PartName="/ppt/media/image5.jpeg" ContentType="image/jpeg"/>
  <Override PartName="/ppt/media/projcto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E23-6A7A-4828-8B5A-6474362D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D3C-953E-4426-A7BD-2F4DEEA3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F54-EA5C-41C1-ADFF-12419B63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C61-5456-405A-B2C4-D4D7A9F3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72DF-2031-4495-B43B-9565DED7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1453-4792-4EC3-91B9-9E177FF6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F49-F253-4F7D-8FDD-AA16FF9A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3A67-79CB-4CA1-9964-8034BFE4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AE94-329B-4643-A617-3FED11C0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701E-1FD1-4B58-ADE8-EAB01FD9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FE0D-A418-4A1B-BE23-759EB01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B4D-7FA4-46DE-B36E-8BD3F871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7CFE-9C60-4CF2-853A-2BB01B0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EEEA-2561-4FFA-B350-8918CFDA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37D4-C176-4258-8C3C-A2B9CA3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0ACC-91B4-4CBD-B07D-28177A37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86E-B604-4894-BC99-ACDD99F0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375-15F0-47AF-A4CE-2B6340EE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568-2C93-4B8D-ABD8-71D91A3E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BA3-7CC8-4D81-A968-3741326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AD8-9925-4A44-ACBF-93522D2B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EDA-081B-40DA-81BD-1024345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A4E-80B6-4E40-977E-F13D28D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6A9-7C36-4934-93B6-D84C89B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C21E-B3C5-4F5F-A83F-EC121924A1D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0523-8559-4A60-A3CC-8F209F121C8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7uyunnan.com/jqjj.asp?jq=&#20840;&#24030;&#26053;&#28216;&#26223;&#21306;" TargetMode="External"/><Relationship Id="rId3" Type="http://schemas.openxmlformats.org/officeDocument/2006/relationships/image" Target="../media/image4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210.39.136.85:8008/sd/teacher/d12/shihai/DDSC/INDEX.HTM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210.39.136.85:8008/sd/teacher/d12/shihai/DDSC/INDEX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howjqim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76212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80808"/>
                </a:solidFill>
                <a:latin typeface="Times New Roman"/>
                <a:ea typeface="华文隶书"/>
              </a:rPr>
              <a:t>滁州西涧</a:t>
            </a:r>
            <a:endParaRPr b="0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84000" y="2708280"/>
            <a:ext cx="403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200b5b"/>
                </a:solidFill>
                <a:latin typeface="华文新魏"/>
                <a:ea typeface="华文新魏"/>
              </a:rPr>
              <a:t>唐  韦应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diamond/>
    <p:sndAc>
      <p:stSnd>
        <p:snd r:embed="rId4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有关问题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用自己的话说说这首诗所描绘的景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独怜是什么意思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首诗那句比较出名，为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首诗表达了诗人什么样的感情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260280"/>
            <a:ext cx="2349360" cy="266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71640" y="979560"/>
            <a:ext cx="7200720" cy="5472360"/>
            <a:chOff x="971640" y="979560"/>
            <a:chExt cx="7200720" cy="5472360"/>
          </a:xfrm>
        </p:grpSpPr>
        <p:grpSp>
          <p:nvGrpSpPr>
            <p:cNvPr id="96" name=""/>
            <p:cNvGrpSpPr/>
            <p:nvPr/>
          </p:nvGrpSpPr>
          <p:grpSpPr>
            <a:xfrm>
              <a:off x="971640" y="979560"/>
              <a:ext cx="7200720" cy="5470920"/>
              <a:chOff x="971640" y="979560"/>
              <a:chExt cx="7200720" cy="5470920"/>
            </a:xfrm>
          </p:grpSpPr>
          <p:sp>
            <p:nvSpPr>
              <p:cNvPr id="97" name=""/>
              <p:cNvSpPr/>
              <p:nvPr/>
            </p:nvSpPr>
            <p:spPr>
              <a:xfrm>
                <a:off x="971640" y="979560"/>
                <a:ext cx="7200720" cy="54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1" lang="zh-CN" sz="3200" spc="-1" strike="noStrike">
                    <a:solidFill>
                      <a:srgbClr val="660033"/>
                    </a:solidFill>
                    <a:latin typeface="Times New Roman"/>
                  </a:rPr>
                  <a:t>关于韦应物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660033"/>
                    </a:solidFill>
                    <a:latin typeface="Times New Roman"/>
                  </a:rPr>
                  <a:t>           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韦应物（７３７一７９３）中盛唐之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交一位杰出的诗人，京兆万年（今陕西省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西安市）人，少年时以三卫郎事玄宗，历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任洛阳丞、高陵宰、鄠县令、栎阳令、滁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州刺史、江州刺史、苏州刺史等地方官，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故称韦江州或韦苏州。</a:t>
                </a:r>
                <a:r>
                  <a:rPr b="0" lang="zh-CN" sz="2000" spc="-1" strike="noStrike" u="sng">
                    <a:solidFill>
                      <a:srgbClr val="ff33cc"/>
                    </a:solidFill>
                    <a:uFillTx/>
                    <a:latin typeface="Times New Roman"/>
                    <a:hlinkClick r:id="rId4"/>
                  </a:rPr>
                  <a:t>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        </a:t>
                </a:r>
                <a:r>
                  <a:rPr b="1" lang="zh-CN" sz="2000" spc="-1" strike="noStrike">
                    <a:solidFill>
                      <a:srgbClr val="200b5b"/>
                    </a:solidFill>
                    <a:latin typeface="Times New Roman"/>
                  </a:rPr>
                  <a:t>他的诗歌较真实地反映了现实生活，具有较浓厚的生活气息。风格潇洒自然，淳厚朴实，清远简净中时见秾丽，淘洗锤炼而又生机活泼，在有唐一代诗人中，卓然自成名家。白居易说他的五言诗“高雅闲淡，自成一家之体。”苏东坡有一首诗甚至说：“乐天（白居易）长短三千首，却逊韦郎五字诗。”因此，韦应物在文学史上具有相当的地位。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71640" y="979560"/>
                <a:ext cx="7200720" cy="54709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971640" y="979560"/>
              <a:ext cx="7200720" cy="5472360"/>
            </a:xfrm>
            <a:prstGeom prst="rect">
              <a:avLst/>
            </a:prstGeom>
            <a:noFill/>
            <a:ln cap="sq" w="0">
              <a:solidFill>
                <a:srgbClr val="0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-18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-316080"/>
            <a:ext cx="9143640" cy="7174080"/>
            <a:chOff x="0" y="-316080"/>
            <a:chExt cx="9143640" cy="7174080"/>
          </a:xfrm>
        </p:grpSpPr>
        <p:grpSp>
          <p:nvGrpSpPr>
            <p:cNvPr id="102" name=""/>
            <p:cNvGrpSpPr/>
            <p:nvPr/>
          </p:nvGrpSpPr>
          <p:grpSpPr>
            <a:xfrm>
              <a:off x="0" y="-316080"/>
              <a:ext cx="9143280" cy="7174080"/>
              <a:chOff x="0" y="-316080"/>
              <a:chExt cx="9143280" cy="717408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0" y="-316080"/>
                <a:ext cx="9142920" cy="7174080"/>
                <a:chOff x="0" y="-316080"/>
                <a:chExt cx="9142920" cy="7174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0" y="-316080"/>
                  <a:ext cx="9142920" cy="717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-316080"/>
                  <a:ext cx="9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0" y="-316080"/>
                <a:ext cx="9143280" cy="71740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0" y="-316080"/>
              <a:ext cx="9143640" cy="7174080"/>
            </a:xfrm>
            <a:prstGeom prst="rect">
              <a:avLst/>
            </a:prstGeom>
            <a:noFill/>
            <a:ln cap="sq" w="0">
              <a:solidFill>
                <a:srgbClr val="0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339280" y="838080"/>
            <a:ext cx="8924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独怜幽草涧边生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上有黄鹂深树鸣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春潮带雨晚来急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Times New Roman"/>
              </a:rPr>
              <a:t>野渡无人舟自横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7280" y="1270080"/>
            <a:ext cx="705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这是一首山水诗的名篇，也是韦应物的代表作之一。诗写于唐德宗建中二年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781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）诗人出任滁州刺史期间。唐滁州治所即今安徽滁县，西涧在滁州城西郊野。这诗写春游西涧赏景和晚雨野渡所见。诗人以情写景，借景述意，写自己喜爱与不喜爱的景物，说自己合意与不合意的情事，而其胸襟恬淡，情怀忧伤，便自然流露出来。但是诗中有无寄托，寄托何意，历来争论不休。有人认为它通首比兴，是刺“君子在下，小人在上”；有人认为“此偶赋西涧之景，不必有所托意”。实则各有偏颇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304920"/>
            <a:ext cx="84582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【注解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_x000b__x000c_"/>
              </a:rPr>
              <a:t>１、滁州：在今安徽滁县以西。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_x000b__x000c_"/>
              </a:rPr>
              <a:t>２、西涧：在滁县城西，俗名称上马河。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_x000b__x000c_"/>
              </a:rPr>
              <a:t>３、幽草：幽谷里的小草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【韵译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Times New Roman"/>
                <a:ea typeface="_x000b__x000c_"/>
              </a:rPr>
              <a:t>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我怜爱生长在涧边的幽草，</a:t>
            </a:r>
            <a:br>
              <a:rPr sz="36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    涧上有黄鹂在深林中啼叫。</a:t>
            </a:r>
            <a:br>
              <a:rPr sz="36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    春潮伴着夜雨急急地涌来，</a:t>
            </a:r>
            <a:br>
              <a:rPr sz="3600"/>
            </a:b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    渡口无人船只随波浪横漂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8900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评析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125360"/>
            <a:ext cx="85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诗的前二句，在春天繁荣景物中，诗人独爱自甘寂寞的涧边幽草，而对深树上鸣声诱人的黄莺儿却表示无意，置之陪衬，以相比照。幽草安贫守节，黄鹂居高媚时，其喻仕宦世态，寓意显然，清楚表露出诗人恬淡的胸襟。后二句，晚潮加上春雨，水势更急。而郊野渡口，本来行人无多，此刻更其无人。因此，连船夫也不在了，只见空空的渡船自在浮泊，悠然漠然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8900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评析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125360"/>
            <a:ext cx="85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</a:rPr>
              <a:t>水急舟横，由于渡口在郊野，无人问津。倘使在要津，则傍晚雨中潮涨，正是渡船大用之时，不能悠然空泊了。因此，在这水急舟横的悠闲景象里，蕴含着一种不在其位、不得其用的无奈而忧伤的情怀。在前、后二句中，诗人都用了对比手法，并用“独怜”、“急”、“横”这样醒目的字眼加以强调，应当说是有引人思索的用意的。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189000"/>
            <a:ext cx="7956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由此看来，这诗是有寄托的。但是，诗人为什么有这样的寄托呢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62864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在中唐前期，韦应物是个洁身自好的诗人，也是个关心民生疾苦的好官。在仕宦生涯中，他“身多疾病思田里，邑有流亡愧俸钱”（《寄李儋元锡》），常处于进仕退隐的矛盾。他为中唐政治弊败而忧虑，为百姓生活贫困而内疚，有志改革而无力，思欲归隐而不能，进退两为难，只好不进不退，任其自然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diamond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7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庄子说：“巧者劳而知者忧；无能者无所求，饱食而遨游。泛若不系之舟，虚而遨游者也。”（《庄子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列御寇》）韦应物对此深有体会，曾明确说自己是“扁舟不系与心同”（《自巩洛舟行入黄河即事寄府县僚友》），表示自己虽怀知者之忧，但自愧无能，因而仕宦如同遨游，悠然无所作为。其实，《滁州西涧》就是抒发这样的矛盾无奈的处境和心情。思欲归隐，故独怜幽草；无所作为，恰同水急舟横。所以诗中表露着恬淡的胸襟和忧伤的情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5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9:28:26Z</dcterms:created>
  <dc:creator> </dc:creator>
  <dc:description> </dc:description>
  <dc:language>en-US</dc:language>
  <cp:lastModifiedBy>微软用户</cp:lastModifiedBy>
  <dcterms:modified xsi:type="dcterms:W3CDTF">2013-06-03T23:46:25Z</dcterms:modified>
  <cp:revision>0</cp:revision>
  <dc:subject> </dc:subject>
  <dc:title> </dc:title>
</cp:coreProperties>
</file>