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chimes.wav" ContentType="audio/x-wav"/>
  <Override PartName="/ppt/media/image16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9.png" ContentType="image/png"/>
  <Override PartName="/ppt/media/image18.jpeg" ContentType="image/jpeg"/>
  <Override PartName="/ppt/media/image15.jpeg" ContentType="image/jpeg"/>
  <Override PartName="/ppt/media/image13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6.png" ContentType="image/pn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06D3B-5A0B-4552-906F-9A4462173C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7C56F-209F-43E2-ADF2-394D3B4BA832}" type="slidenum">
              <a:rPr b="0" lang="en-US" sz="12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用鼠标点击生字，依次出现该字的拼音和组词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5EAE2-0DFE-4C40-8739-3FCA033018C3}" type="slidenum">
              <a:rPr b="0" lang="en-US" sz="12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用鼠标点击生字，依次出现该字的拼音和组词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275CA-C0AA-4849-9249-169049C91E7F}" type="slidenum">
              <a:rPr b="0" lang="en-US" sz="12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用鼠标点击生字，依次出现该字的拼音和组词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0516-1579-4E8E-8325-688D98B45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9156-AA3D-4F6F-A201-9865CBB34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B356-8DB5-4BEE-808E-E4A14BE3C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8BF2-3E72-4DBE-84B5-700049D22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A9B44-0667-40EA-9982-457C5692F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15A0E-F6F8-4AEB-8CB8-AFB496ADD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6562D-4050-42F1-91B4-289C75B16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4C21B-4D2C-454D-9182-35A1467E3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06AA5-B109-4D77-8E99-FD1444146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D67B2-AA6B-4CB2-9F42-47E12346F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E3D51-A8F0-4F11-85CA-8877EC95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AF76-7CEC-49D8-ADDD-99DD2578D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F9A03-1029-4058-9AB2-4B909A87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7CC52-5D1C-46D4-B71C-DDFABF09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13422-BC73-440E-90F3-3F9B833C3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0B4FA-A076-4539-ADF6-DFA4DF944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C7DD3-00F3-4B13-BBE1-68B7E1E4D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D5A2-42D5-4BED-861D-653048E60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000D-68D9-4DF6-BFFF-4A24CDE71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8C79-5B79-4AE3-8F2F-B63B86B47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E324-7D9E-4EA8-BEDF-DD11D6DD4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01F2-2F7C-4529-8306-4042E638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9143-73F4-496F-8448-46F2CA8E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4443-39D4-4604-85FA-F37476B2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651DC-9A0C-4698-8560-D234553056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6ECB5-0642-4F6F-B6A6-11BC7C086FBE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14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黑体"/>
                <a:ea typeface="黑体"/>
              </a:rPr>
              <a:t>春光染绿我们双脚</a:t>
            </a:r>
            <a:endParaRPr b="0" lang="en-US" sz="7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24000" y="476280"/>
            <a:ext cx="8640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默读课文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楷体"/>
              </a:rPr>
              <a:t>            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、思考诗歌有什么结构特点，哪些小节内容联系紧密，用</a:t>
            </a: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黑体"/>
              </a:rPr>
              <a:t>“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‖</a:t>
            </a:r>
            <a:r>
              <a:rPr b="1" lang="en-US" sz="3600" spc="-1" strike="noStrike">
                <a:solidFill>
                  <a:srgbClr val="0000ff"/>
                </a:solidFill>
                <a:latin typeface="楷体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给诗歌分段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   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、写出段意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（时间：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分钟）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152280" y="609480"/>
            <a:ext cx="8839440" cy="5867640"/>
            <a:chOff x="152280" y="609480"/>
            <a:chExt cx="8839440" cy="5867640"/>
          </a:xfrm>
        </p:grpSpPr>
        <p:sp>
          <p:nvSpPr>
            <p:cNvPr id="163" name="Rectangle 3"/>
            <p:cNvSpPr/>
            <p:nvPr/>
          </p:nvSpPr>
          <p:spPr>
            <a:xfrm>
              <a:off x="152280" y="609480"/>
              <a:ext cx="8839440" cy="586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pic>
          <p:nvPicPr>
            <p:cNvPr id="164" name="Picture 4" descr="102"/>
            <p:cNvPicPr/>
            <p:nvPr/>
          </p:nvPicPr>
          <p:blipFill>
            <a:blip r:embed="rId1"/>
            <a:srcRect l="0" t="59847" r="0" b="0"/>
            <a:stretch/>
          </p:blipFill>
          <p:spPr>
            <a:xfrm>
              <a:off x="152280" y="4343400"/>
              <a:ext cx="8839440" cy="213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Text Box 5"/>
          <p:cNvSpPr/>
          <p:nvPr/>
        </p:nvSpPr>
        <p:spPr>
          <a:xfrm>
            <a:off x="324000" y="1413000"/>
            <a:ext cx="8153280" cy="15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第一部分（ 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1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）：写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我们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踏着春风向荒山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         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野岭进军。</a:t>
            </a:r>
            <a:br>
              <a:rPr sz="3200"/>
            </a:b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250920" y="2852640"/>
            <a:ext cx="8153280" cy="17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第二部分（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－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7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）：写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我们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用双手为荒山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          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披上绿装，使动物有了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          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家园，让环境变得美丽。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324000" y="476280"/>
            <a:ext cx="899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给课文分段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2"/>
          <p:cNvGrpSpPr/>
          <p:nvPr/>
        </p:nvGrpSpPr>
        <p:grpSpPr>
          <a:xfrm>
            <a:off x="152280" y="609480"/>
            <a:ext cx="8839440" cy="5867640"/>
            <a:chOff x="152280" y="609480"/>
            <a:chExt cx="8839440" cy="5867640"/>
          </a:xfrm>
        </p:grpSpPr>
        <p:sp>
          <p:nvSpPr>
            <p:cNvPr id="169" name="Rectangle 3"/>
            <p:cNvSpPr/>
            <p:nvPr/>
          </p:nvSpPr>
          <p:spPr>
            <a:xfrm>
              <a:off x="152280" y="609480"/>
              <a:ext cx="8839440" cy="586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pic>
          <p:nvPicPr>
            <p:cNvPr id="170" name="Picture 4" descr="102"/>
            <p:cNvPicPr/>
            <p:nvPr/>
          </p:nvPicPr>
          <p:blipFill>
            <a:blip r:embed="rId1"/>
            <a:srcRect l="0" t="59847" r="0" b="0"/>
            <a:stretch/>
          </p:blipFill>
          <p:spPr>
            <a:xfrm>
              <a:off x="152280" y="4343400"/>
              <a:ext cx="8839440" cy="213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Text Box 5"/>
          <p:cNvSpPr/>
          <p:nvPr/>
        </p:nvSpPr>
        <p:spPr>
          <a:xfrm>
            <a:off x="380880" y="914400"/>
            <a:ext cx="89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给课文分段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762120" y="1828800"/>
            <a:ext cx="7696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第三部分（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8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）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我们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要绿化祖国山山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       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岭岭的决心。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755640" y="342900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  <a:ea typeface="隶书"/>
              </a:rPr>
              <a:t>　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　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请同学们选择自己喜欢的部分读一读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2"/>
          <p:cNvGrpSpPr/>
          <p:nvPr/>
        </p:nvGrpSpPr>
        <p:grpSpPr>
          <a:xfrm>
            <a:off x="179280" y="549360"/>
            <a:ext cx="8839440" cy="5867280"/>
            <a:chOff x="179280" y="549360"/>
            <a:chExt cx="8839440" cy="5867280"/>
          </a:xfrm>
        </p:grpSpPr>
        <p:sp>
          <p:nvSpPr>
            <p:cNvPr id="175" name="Rectangle 3"/>
            <p:cNvSpPr/>
            <p:nvPr/>
          </p:nvSpPr>
          <p:spPr>
            <a:xfrm>
              <a:off x="179280" y="549360"/>
              <a:ext cx="8839440" cy="586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pic>
          <p:nvPicPr>
            <p:cNvPr id="176" name="Picture 4" descr="102"/>
            <p:cNvPicPr/>
            <p:nvPr/>
          </p:nvPicPr>
          <p:blipFill>
            <a:blip r:embed="rId1"/>
            <a:srcRect l="0" t="59847" r="0" b="0"/>
            <a:stretch/>
          </p:blipFill>
          <p:spPr>
            <a:xfrm>
              <a:off x="179280" y="4282920"/>
              <a:ext cx="8839440" cy="213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Text Box 5"/>
          <p:cNvSpPr/>
          <p:nvPr/>
        </p:nvSpPr>
        <p:spPr>
          <a:xfrm>
            <a:off x="755640" y="620640"/>
            <a:ext cx="7696080" cy="27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黑体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踏一路春风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撒一路欢笑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向荒山野岭进军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春光染绿我们双脚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611280" y="350028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黑体"/>
              </a:rPr>
              <a:t>①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读一读，说说你读懂了什么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539640" y="414972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黑体"/>
              </a:rPr>
              <a:t>②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同学们是怎样到荒山野岭进行植树活动的？</a:t>
            </a:r>
            <a:br>
              <a:rPr sz="3200"/>
            </a:b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2"/>
          <p:cNvGrpSpPr/>
          <p:nvPr/>
        </p:nvGrpSpPr>
        <p:grpSpPr>
          <a:xfrm>
            <a:off x="152280" y="609480"/>
            <a:ext cx="8839440" cy="5867640"/>
            <a:chOff x="152280" y="609480"/>
            <a:chExt cx="8839440" cy="5867640"/>
          </a:xfrm>
        </p:grpSpPr>
        <p:sp>
          <p:nvSpPr>
            <p:cNvPr id="181" name="Rectangle 3"/>
            <p:cNvSpPr/>
            <p:nvPr/>
          </p:nvSpPr>
          <p:spPr>
            <a:xfrm>
              <a:off x="152280" y="609480"/>
              <a:ext cx="8839440" cy="586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pic>
          <p:nvPicPr>
            <p:cNvPr id="182" name="Picture 4" descr="102"/>
            <p:cNvPicPr/>
            <p:nvPr/>
          </p:nvPicPr>
          <p:blipFill>
            <a:blip r:embed="rId1"/>
            <a:srcRect l="0" t="59847" r="0" b="0"/>
            <a:stretch/>
          </p:blipFill>
          <p:spPr>
            <a:xfrm>
              <a:off x="152280" y="4343400"/>
              <a:ext cx="8839440" cy="213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Text Box 5"/>
          <p:cNvSpPr/>
          <p:nvPr/>
        </p:nvSpPr>
        <p:spPr>
          <a:xfrm>
            <a:off x="468360" y="40464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请同学们齐读第一节，想想，这节在全文中起什么作用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0" y="1413000"/>
            <a:ext cx="7391520" cy="21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踏一路春风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撒一路欢笑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向荒山野岭进军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春光染绿我们双脚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179280" y="357336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这一节在全文中起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总领全文作用，表达了同学们绿化祖国，美化自然的豪情壮志。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152280" y="609480"/>
            <a:ext cx="8839440" cy="5867640"/>
            <a:chOff x="152280" y="609480"/>
            <a:chExt cx="8839440" cy="5867640"/>
          </a:xfrm>
        </p:grpSpPr>
        <p:sp>
          <p:nvSpPr>
            <p:cNvPr id="187" name="Rectangle 3"/>
            <p:cNvSpPr/>
            <p:nvPr/>
          </p:nvSpPr>
          <p:spPr>
            <a:xfrm>
              <a:off x="152280" y="609480"/>
              <a:ext cx="8839440" cy="586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pic>
          <p:nvPicPr>
            <p:cNvPr id="188" name="Picture 4" descr="102"/>
            <p:cNvPicPr/>
            <p:nvPr/>
          </p:nvPicPr>
          <p:blipFill>
            <a:blip r:embed="rId1"/>
            <a:srcRect l="0" t="59847" r="0" b="0"/>
            <a:stretch/>
          </p:blipFill>
          <p:spPr>
            <a:xfrm>
              <a:off x="152280" y="4343400"/>
              <a:ext cx="8839440" cy="213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Text Box 5"/>
          <p:cNvSpPr/>
          <p:nvPr/>
        </p:nvSpPr>
        <p:spPr>
          <a:xfrm>
            <a:off x="0" y="549360"/>
            <a:ext cx="7391520" cy="19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踏一路春风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撒一路欢笑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走遍青山碧岭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春光染绿我们双脚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179280" y="256536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       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春风拂面，一路欢笑。句中用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0" lang="zh-CN" sz="3600" spc="-1" strike="noStrike" u="sng">
                <a:solidFill>
                  <a:srgbClr val="0000ff"/>
                </a:solidFill>
                <a:uFillTx/>
                <a:latin typeface="Arial"/>
                <a:ea typeface="黑体"/>
              </a:rPr>
              <a:t>     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和</a:t>
            </a:r>
            <a:r>
              <a:rPr b="0" lang="zh-CN" sz="3600" spc="-1" strike="noStrike" u="sng">
                <a:solidFill>
                  <a:srgbClr val="0000ff"/>
                </a:solidFill>
                <a:uFillTx/>
                <a:latin typeface="Arial"/>
                <a:ea typeface="黑体"/>
              </a:rPr>
              <a:t>“        ”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两个动词，精妙地写出了我们当时愉快的心情；一个</a:t>
            </a:r>
            <a:r>
              <a:rPr b="0" lang="zh-CN" sz="3600" spc="-1" strike="noStrike" u="sng">
                <a:solidFill>
                  <a:srgbClr val="0000ff"/>
                </a:solidFill>
                <a:uFillTx/>
                <a:latin typeface="Arial"/>
                <a:ea typeface="黑体"/>
              </a:rPr>
              <a:t>“         ”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字，写活了满山的翠色。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oup 2"/>
          <p:cNvGrpSpPr/>
          <p:nvPr/>
        </p:nvGrpSpPr>
        <p:grpSpPr>
          <a:xfrm>
            <a:off x="152280" y="609480"/>
            <a:ext cx="8839440" cy="5867640"/>
            <a:chOff x="152280" y="609480"/>
            <a:chExt cx="8839440" cy="5867640"/>
          </a:xfrm>
        </p:grpSpPr>
        <p:sp>
          <p:nvSpPr>
            <p:cNvPr id="192" name="Rectangle 3"/>
            <p:cNvSpPr/>
            <p:nvPr/>
          </p:nvSpPr>
          <p:spPr>
            <a:xfrm>
              <a:off x="152280" y="609480"/>
              <a:ext cx="8839440" cy="586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pic>
          <p:nvPicPr>
            <p:cNvPr id="193" name="Picture 4" descr="102"/>
            <p:cNvPicPr/>
            <p:nvPr/>
          </p:nvPicPr>
          <p:blipFill>
            <a:blip r:embed="rId1"/>
            <a:srcRect l="0" t="59847" r="0" b="0"/>
            <a:stretch/>
          </p:blipFill>
          <p:spPr>
            <a:xfrm>
              <a:off x="152280" y="4343400"/>
              <a:ext cx="8839440" cy="213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4" name="Text Box 5"/>
          <p:cNvSpPr/>
          <p:nvPr/>
        </p:nvSpPr>
        <p:spPr>
          <a:xfrm>
            <a:off x="0" y="549360"/>
            <a:ext cx="7391520" cy="19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踏一路春风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撒一路欢笑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走遍青山碧岭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春光染绿我们双脚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179280" y="256536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       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春风拂面，一路欢笑。句中用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0" lang="zh-CN" sz="3600" spc="-1" strike="noStrike" u="sng">
                <a:solidFill>
                  <a:srgbClr val="0000ff"/>
                </a:solidFill>
                <a:uFillTx/>
                <a:latin typeface="Arial"/>
                <a:ea typeface="黑体"/>
              </a:rPr>
              <a:t>  踏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和</a:t>
            </a:r>
            <a:r>
              <a:rPr b="0" lang="zh-CN" sz="3600" spc="-1" strike="noStrike" u="sng">
                <a:solidFill>
                  <a:srgbClr val="0000ff"/>
                </a:solidFill>
                <a:uFillTx/>
                <a:latin typeface="Arial"/>
                <a:ea typeface="黑体"/>
              </a:rPr>
              <a:t>“ 撒 ”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两个动词，精妙地写出了我们当时愉快的心情；一个</a:t>
            </a:r>
            <a:r>
              <a:rPr b="0" lang="zh-CN" sz="3600" spc="-1" strike="noStrike" u="sng">
                <a:solidFill>
                  <a:srgbClr val="0000ff"/>
                </a:solidFill>
                <a:uFillTx/>
                <a:latin typeface="Arial"/>
                <a:ea typeface="黑体"/>
              </a:rPr>
              <a:t>“  碧  ”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字，写活了满山的翠色。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2"/>
          <p:cNvGrpSpPr/>
          <p:nvPr/>
        </p:nvGrpSpPr>
        <p:grpSpPr>
          <a:xfrm>
            <a:off x="152280" y="609480"/>
            <a:ext cx="8839440" cy="5867640"/>
            <a:chOff x="152280" y="609480"/>
            <a:chExt cx="8839440" cy="5867640"/>
          </a:xfrm>
        </p:grpSpPr>
        <p:sp>
          <p:nvSpPr>
            <p:cNvPr id="197" name="Rectangle 3"/>
            <p:cNvSpPr/>
            <p:nvPr/>
          </p:nvSpPr>
          <p:spPr>
            <a:xfrm>
              <a:off x="152280" y="609480"/>
              <a:ext cx="8839440" cy="586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pic>
          <p:nvPicPr>
            <p:cNvPr id="198" name="Picture 4" descr="102"/>
            <p:cNvPicPr/>
            <p:nvPr/>
          </p:nvPicPr>
          <p:blipFill>
            <a:blip r:embed="rId1"/>
            <a:srcRect l="0" t="59847" r="0" b="0"/>
            <a:stretch/>
          </p:blipFill>
          <p:spPr>
            <a:xfrm>
              <a:off x="152280" y="4343400"/>
              <a:ext cx="8839440" cy="213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9" name="Text Box 5"/>
          <p:cNvSpPr/>
          <p:nvPr/>
        </p:nvSpPr>
        <p:spPr>
          <a:xfrm>
            <a:off x="468360" y="62064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请同学们齐读最后一节，想想，这节在全文中起什么作用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0" y="1773360"/>
            <a:ext cx="7391520" cy="21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踏一路春风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撒一路欢笑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走遍青山碧岭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春光染绿我们双脚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179280" y="422100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这一节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呼应开头，点明主题，深化中心。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Group 2"/>
          <p:cNvGrpSpPr/>
          <p:nvPr/>
        </p:nvGrpSpPr>
        <p:grpSpPr>
          <a:xfrm>
            <a:off x="152280" y="609480"/>
            <a:ext cx="8839440" cy="5867640"/>
            <a:chOff x="152280" y="609480"/>
            <a:chExt cx="8839440" cy="5867640"/>
          </a:xfrm>
        </p:grpSpPr>
        <p:sp>
          <p:nvSpPr>
            <p:cNvPr id="203" name="Rectangle 3"/>
            <p:cNvSpPr/>
            <p:nvPr/>
          </p:nvSpPr>
          <p:spPr>
            <a:xfrm>
              <a:off x="152280" y="609480"/>
              <a:ext cx="8839440" cy="586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pic>
          <p:nvPicPr>
            <p:cNvPr id="204" name="Picture 4" descr="102"/>
            <p:cNvPicPr/>
            <p:nvPr/>
          </p:nvPicPr>
          <p:blipFill>
            <a:blip r:embed="rId1"/>
            <a:srcRect l="0" t="59847" r="0" b="0"/>
            <a:stretch/>
          </p:blipFill>
          <p:spPr>
            <a:xfrm>
              <a:off x="152280" y="4343400"/>
              <a:ext cx="8839440" cy="213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5" name="Text Box 5"/>
          <p:cNvSpPr/>
          <p:nvPr/>
        </p:nvSpPr>
        <p:spPr>
          <a:xfrm>
            <a:off x="539640" y="83664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自由读第</a:t>
            </a:r>
            <a:r>
              <a:rPr b="1" lang="en-US" sz="4000" spc="-1" strike="noStrike">
                <a:solidFill>
                  <a:srgbClr val="ff3300"/>
                </a:solidFill>
                <a:latin typeface="黑体"/>
                <a:ea typeface="黑体"/>
              </a:rPr>
              <a:t>2</a:t>
            </a:r>
            <a:r>
              <a:rPr b="1" lang="en-US" sz="4000" spc="-1" strike="noStrike">
                <a:solidFill>
                  <a:srgbClr val="ff3300"/>
                </a:solidFill>
                <a:latin typeface="宋体"/>
                <a:ea typeface="黑体"/>
              </a:rPr>
              <a:t>—</a:t>
            </a:r>
            <a:r>
              <a:rPr b="1" lang="en-US" sz="4000" spc="-1" strike="noStrike">
                <a:solidFill>
                  <a:srgbClr val="ff3300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节，想一想：这部分写了哪些方面的内容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395280" y="2637000"/>
            <a:ext cx="8497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华文中宋"/>
                <a:ea typeface="华文中宋"/>
              </a:rPr>
              <a:t>    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这部分写了同学们热闹的植树场面和美好的遐想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07" name="Picture 7" descr="北北"/>
          <p:cNvPicPr/>
          <p:nvPr/>
        </p:nvPicPr>
        <p:blipFill>
          <a:blip r:embed="rId2"/>
          <a:stretch/>
        </p:blipFill>
        <p:spPr>
          <a:xfrm>
            <a:off x="7543800" y="914400"/>
            <a:ext cx="11574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152280" y="609480"/>
            <a:ext cx="8839440" cy="5867640"/>
            <a:chOff x="152280" y="609480"/>
            <a:chExt cx="8839440" cy="5867640"/>
          </a:xfrm>
        </p:grpSpPr>
        <p:sp>
          <p:nvSpPr>
            <p:cNvPr id="209" name="Rectangle 3"/>
            <p:cNvSpPr/>
            <p:nvPr/>
          </p:nvSpPr>
          <p:spPr>
            <a:xfrm>
              <a:off x="152280" y="609480"/>
              <a:ext cx="8839440" cy="586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pic>
          <p:nvPicPr>
            <p:cNvPr id="210" name="Picture 4" descr="102"/>
            <p:cNvPicPr/>
            <p:nvPr/>
          </p:nvPicPr>
          <p:blipFill>
            <a:blip r:embed="rId1"/>
            <a:srcRect l="0" t="59847" r="0" b="0"/>
            <a:stretch/>
          </p:blipFill>
          <p:spPr>
            <a:xfrm>
              <a:off x="152280" y="4343400"/>
              <a:ext cx="8839440" cy="213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1" name="Text Box 5"/>
          <p:cNvSpPr/>
          <p:nvPr/>
        </p:nvSpPr>
        <p:spPr>
          <a:xfrm>
            <a:off x="1403280" y="1268280"/>
            <a:ext cx="62485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锨镐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/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丁丁当当，</a:t>
            </a:r>
            <a:br>
              <a:rPr sz="4000"/>
            </a:b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奏响了植树歌谣；</a:t>
            </a:r>
            <a:br>
              <a:rPr sz="4000"/>
            </a:b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清水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/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哗哗流淌，</a:t>
            </a:r>
            <a:br>
              <a:rPr sz="4000"/>
            </a:b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滋润着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/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颗颗树苗。</a:t>
            </a:r>
            <a:br>
              <a:rPr sz="4000"/>
            </a:b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684360" y="407664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谁能读出同学们劳动的干劲？</a:t>
            </a:r>
            <a:br>
              <a:rPr sz="3600"/>
            </a:b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3" name="WordArt 7"/>
          <p:cNvSpPr txBox="1"/>
          <p:nvPr/>
        </p:nvSpPr>
        <p:spPr>
          <a:xfrm>
            <a:off x="1547640" y="620640"/>
            <a:ext cx="14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黑体"/>
              </a:rPr>
              <a:t>读一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黑体"/>
              <a:ea typeface="黑体"/>
            </a:endParaRPr>
          </a:p>
        </p:txBody>
      </p:sp>
      <p:pic>
        <p:nvPicPr>
          <p:cNvPr id="214" name="Picture 8" descr="丁丁"/>
          <p:cNvPicPr/>
          <p:nvPr/>
        </p:nvPicPr>
        <p:blipFill>
          <a:blip r:embed="rId2"/>
          <a:stretch/>
        </p:blipFill>
        <p:spPr>
          <a:xfrm>
            <a:off x="250920" y="620640"/>
            <a:ext cx="100944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846144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         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春暖花开     姹紫嫣红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桃红柳绿     鸟语花香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万紫千红     春色满园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"/>
                <a:ea typeface="楷体"/>
              </a:rPr>
              <a:t>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沾衣欲湿杏花雨，吹面不寒杨柳风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竹外桃花三两枝，春江水暖鸭先知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碧玉妆成一树高，万条垂下绿丝绦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2"/>
          <p:cNvGrpSpPr/>
          <p:nvPr/>
        </p:nvGrpSpPr>
        <p:grpSpPr>
          <a:xfrm>
            <a:off x="152280" y="609480"/>
            <a:ext cx="8839440" cy="5867640"/>
            <a:chOff x="152280" y="609480"/>
            <a:chExt cx="8839440" cy="5867640"/>
          </a:xfrm>
        </p:grpSpPr>
        <p:sp>
          <p:nvSpPr>
            <p:cNvPr id="216" name="Rectangle 3"/>
            <p:cNvSpPr/>
            <p:nvPr/>
          </p:nvSpPr>
          <p:spPr>
            <a:xfrm>
              <a:off x="152280" y="609480"/>
              <a:ext cx="8839440" cy="586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pic>
          <p:nvPicPr>
            <p:cNvPr id="217" name="Picture 4" descr="102"/>
            <p:cNvPicPr/>
            <p:nvPr/>
          </p:nvPicPr>
          <p:blipFill>
            <a:blip r:embed="rId1"/>
            <a:srcRect l="0" t="59847" r="0" b="0"/>
            <a:stretch/>
          </p:blipFill>
          <p:spPr>
            <a:xfrm>
              <a:off x="152280" y="4343400"/>
              <a:ext cx="8839440" cy="213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8" name="Text Box 5"/>
          <p:cNvSpPr/>
          <p:nvPr/>
        </p:nvSpPr>
        <p:spPr>
          <a:xfrm>
            <a:off x="250920" y="692280"/>
            <a:ext cx="878508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植树活动给荒山野岭带来了什么变化？</a:t>
            </a:r>
            <a:br>
              <a:rPr sz="3600"/>
            </a:b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1187280" y="1700280"/>
            <a:ext cx="640080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  <a:ea typeface="华文中宋"/>
              </a:rPr>
              <a:t>     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荒山披绿袍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动物有家园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环境变美丽。</a:t>
            </a:r>
            <a:br>
              <a:rPr sz="3600"/>
            </a:b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611280" y="400536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请同学们选择你喜欢的部分读一读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2"/>
          <p:cNvGrpSpPr/>
          <p:nvPr/>
        </p:nvGrpSpPr>
        <p:grpSpPr>
          <a:xfrm>
            <a:off x="152280" y="609480"/>
            <a:ext cx="8839440" cy="5867640"/>
            <a:chOff x="152280" y="609480"/>
            <a:chExt cx="8839440" cy="5867640"/>
          </a:xfrm>
        </p:grpSpPr>
        <p:sp>
          <p:nvSpPr>
            <p:cNvPr id="222" name="Rectangle 3"/>
            <p:cNvSpPr/>
            <p:nvPr/>
          </p:nvSpPr>
          <p:spPr>
            <a:xfrm>
              <a:off x="152280" y="609480"/>
              <a:ext cx="8839440" cy="586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pic>
          <p:nvPicPr>
            <p:cNvPr id="223" name="Picture 4" descr="102"/>
            <p:cNvPicPr/>
            <p:nvPr/>
          </p:nvPicPr>
          <p:blipFill>
            <a:blip r:embed="rId1"/>
            <a:srcRect l="0" t="59847" r="0" b="0"/>
            <a:stretch/>
          </p:blipFill>
          <p:spPr>
            <a:xfrm>
              <a:off x="152280" y="4343400"/>
              <a:ext cx="8839440" cy="213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4" name="Text Box 5"/>
          <p:cNvSpPr/>
          <p:nvPr/>
        </p:nvSpPr>
        <p:spPr>
          <a:xfrm>
            <a:off x="755640" y="692280"/>
            <a:ext cx="7620120" cy="53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我们走到哪里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哪里便披上绿袍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千年裸露的山岩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结束了烈日的煎熬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寂寞多年的荒山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如今已枝繁叶茂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当风儿吹过的时候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便涌起阵阵林涛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5076720" y="256536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这部分写出了荒山换新颜的喜人景象。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829440" y="1159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黑体"/>
              </a:rPr>
              <a:t>荒山披绿袍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2"/>
          <p:cNvGrpSpPr/>
          <p:nvPr/>
        </p:nvGrpSpPr>
        <p:grpSpPr>
          <a:xfrm>
            <a:off x="152280" y="609480"/>
            <a:ext cx="8839440" cy="5867640"/>
            <a:chOff x="152280" y="609480"/>
            <a:chExt cx="8839440" cy="5867640"/>
          </a:xfrm>
        </p:grpSpPr>
        <p:sp>
          <p:nvSpPr>
            <p:cNvPr id="228" name="Rectangle 3"/>
            <p:cNvSpPr/>
            <p:nvPr/>
          </p:nvSpPr>
          <p:spPr>
            <a:xfrm>
              <a:off x="152280" y="609480"/>
              <a:ext cx="8839440" cy="586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pic>
          <p:nvPicPr>
            <p:cNvPr id="229" name="Picture 4" descr="102"/>
            <p:cNvPicPr/>
            <p:nvPr/>
          </p:nvPicPr>
          <p:blipFill>
            <a:blip r:embed="rId1"/>
            <a:srcRect l="0" t="59847" r="0" b="0"/>
            <a:stretch/>
          </p:blipFill>
          <p:spPr>
            <a:xfrm>
              <a:off x="152280" y="4343400"/>
              <a:ext cx="8839440" cy="213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0" name="Text Box 5"/>
          <p:cNvSpPr/>
          <p:nvPr/>
        </p:nvSpPr>
        <p:spPr>
          <a:xfrm>
            <a:off x="755640" y="692280"/>
            <a:ext cx="7620120" cy="53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小鸟抖动彩翼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来这里搭窝筑巢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松鼠有了美丽的家园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快活得叽叽直叫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撑起绿色的大伞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小兔再也不怕天上的老雕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在茂密的树丛中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小猴开心得又蹦又跳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5076720" y="256536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这部分写出了动物无忧无虑的情景。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829440" y="1159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黑体"/>
              </a:rPr>
              <a:t>动物有家园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152280" y="609480"/>
            <a:ext cx="8839440" cy="5867640"/>
            <a:chOff x="152280" y="609480"/>
            <a:chExt cx="8839440" cy="5867640"/>
          </a:xfrm>
        </p:grpSpPr>
        <p:sp>
          <p:nvSpPr>
            <p:cNvPr id="234" name="Rectangle 3"/>
            <p:cNvSpPr/>
            <p:nvPr/>
          </p:nvSpPr>
          <p:spPr>
            <a:xfrm>
              <a:off x="152280" y="609480"/>
              <a:ext cx="8839440" cy="586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pic>
          <p:nvPicPr>
            <p:cNvPr id="235" name="Picture 4" descr="102"/>
            <p:cNvPicPr/>
            <p:nvPr/>
          </p:nvPicPr>
          <p:blipFill>
            <a:blip r:embed="rId1"/>
            <a:srcRect l="0" t="59847" r="0" b="0"/>
            <a:stretch/>
          </p:blipFill>
          <p:spPr>
            <a:xfrm>
              <a:off x="152280" y="4343400"/>
              <a:ext cx="8839440" cy="213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6" name="Text Box 5"/>
          <p:cNvSpPr/>
          <p:nvPr/>
        </p:nvSpPr>
        <p:spPr>
          <a:xfrm>
            <a:off x="179280" y="765000"/>
            <a:ext cx="8785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这两小节描写的动物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  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  <a:ea typeface="黑体"/>
              </a:rPr>
              <a:t>   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、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  <a:ea typeface="黑体"/>
              </a:rPr>
              <a:t> 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、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、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表现他们心情的词语有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  <a:ea typeface="黑体"/>
              </a:rPr>
              <a:t>  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、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  <a:ea typeface="黑体"/>
              </a:rPr>
              <a:t>          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展开丰富的想象，练说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松鼠有了美丽的家园，快活得叽叽直叫，好像在说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  <a:ea typeface="黑体"/>
              </a:rPr>
              <a:t>：“                                                    。”</a:t>
            </a:r>
            <a:r>
              <a:rPr b="1" lang="zh-CN" sz="1800" spc="-1" strike="noStrike" u="sng">
                <a:solidFill>
                  <a:srgbClr val="0000ff"/>
                </a:solidFill>
                <a:uFillTx/>
                <a:latin typeface="Arial"/>
              </a:rPr>
              <a:t>  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829440" y="1159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黑体"/>
              </a:rPr>
              <a:t>动物有家园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Group 2"/>
          <p:cNvGrpSpPr/>
          <p:nvPr/>
        </p:nvGrpSpPr>
        <p:grpSpPr>
          <a:xfrm>
            <a:off x="152280" y="609480"/>
            <a:ext cx="8839440" cy="5867640"/>
            <a:chOff x="152280" y="609480"/>
            <a:chExt cx="8839440" cy="5867640"/>
          </a:xfrm>
        </p:grpSpPr>
        <p:sp>
          <p:nvSpPr>
            <p:cNvPr id="239" name="Rectangle 3"/>
            <p:cNvSpPr/>
            <p:nvPr/>
          </p:nvSpPr>
          <p:spPr>
            <a:xfrm>
              <a:off x="152280" y="609480"/>
              <a:ext cx="8839440" cy="586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pic>
          <p:nvPicPr>
            <p:cNvPr id="240" name="Picture 4" descr="102"/>
            <p:cNvPicPr/>
            <p:nvPr/>
          </p:nvPicPr>
          <p:blipFill>
            <a:blip r:embed="rId1"/>
            <a:srcRect l="0" t="59847" r="0" b="0"/>
            <a:stretch/>
          </p:blipFill>
          <p:spPr>
            <a:xfrm>
              <a:off x="152280" y="4343400"/>
              <a:ext cx="8839440" cy="213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1" name="Text Box 5"/>
          <p:cNvSpPr/>
          <p:nvPr/>
        </p:nvSpPr>
        <p:spPr>
          <a:xfrm>
            <a:off x="179280" y="765000"/>
            <a:ext cx="8785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这两小节描写的动物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  <a:ea typeface="黑体"/>
              </a:rPr>
              <a:t>   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小鸟、 松鼠、 小兔、 小猴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表现他们心情的词语有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  <a:ea typeface="黑体"/>
              </a:rPr>
              <a:t>  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快活   、  开心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  <a:ea typeface="黑体"/>
              </a:rPr>
              <a:t>   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展开丰富的想象，练说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松鼠有了美丽的家园，快活得叽叽直叫，好像在说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：“是植树造林让我们有了美丽的环境，美好的家园，我们真幸福  。”</a:t>
            </a:r>
            <a:r>
              <a:rPr b="1" lang="zh-CN" sz="1800" spc="-1" strike="noStrike" u="sng">
                <a:solidFill>
                  <a:srgbClr val="0000ff"/>
                </a:solidFill>
                <a:uFillTx/>
                <a:latin typeface="Arial"/>
              </a:rPr>
              <a:t>  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829440" y="1159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黑体"/>
              </a:rPr>
              <a:t>动物有家园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Group 2"/>
          <p:cNvGrpSpPr/>
          <p:nvPr/>
        </p:nvGrpSpPr>
        <p:grpSpPr>
          <a:xfrm>
            <a:off x="152280" y="609480"/>
            <a:ext cx="8839440" cy="5867640"/>
            <a:chOff x="152280" y="609480"/>
            <a:chExt cx="8839440" cy="5867640"/>
          </a:xfrm>
        </p:grpSpPr>
        <p:sp>
          <p:nvSpPr>
            <p:cNvPr id="244" name="Rectangle 3"/>
            <p:cNvSpPr/>
            <p:nvPr/>
          </p:nvSpPr>
          <p:spPr>
            <a:xfrm>
              <a:off x="152280" y="609480"/>
              <a:ext cx="8839440" cy="586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pic>
          <p:nvPicPr>
            <p:cNvPr id="245" name="Picture 4" descr="102"/>
            <p:cNvPicPr/>
            <p:nvPr/>
          </p:nvPicPr>
          <p:blipFill>
            <a:blip r:embed="rId1"/>
            <a:srcRect l="0" t="59847" r="0" b="0"/>
            <a:stretch/>
          </p:blipFill>
          <p:spPr>
            <a:xfrm>
              <a:off x="152280" y="4343400"/>
              <a:ext cx="8839440" cy="213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6" name="Text Box 5"/>
          <p:cNvSpPr/>
          <p:nvPr/>
        </p:nvSpPr>
        <p:spPr>
          <a:xfrm>
            <a:off x="539640" y="765000"/>
            <a:ext cx="762012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山下的河水不再浑浊咆哮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荡漾的碧波轻抚着河畔的小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待到金色的秋天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我们把丰收的果园拥抱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250920" y="3357720"/>
            <a:ext cx="864216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这部分写出了人们生活的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Arial"/>
                <a:ea typeface="黑体"/>
              </a:rPr>
              <a:t>                       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这一节中表现河水变化的词语有：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Arial"/>
                <a:ea typeface="黑体"/>
              </a:rPr>
              <a:t>                、           。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829440" y="1159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黑体"/>
              </a:rPr>
              <a:t>环境变美丽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Group 2"/>
          <p:cNvGrpSpPr/>
          <p:nvPr/>
        </p:nvGrpSpPr>
        <p:grpSpPr>
          <a:xfrm>
            <a:off x="152280" y="609480"/>
            <a:ext cx="8839440" cy="5867640"/>
            <a:chOff x="152280" y="609480"/>
            <a:chExt cx="8839440" cy="5867640"/>
          </a:xfrm>
        </p:grpSpPr>
        <p:sp>
          <p:nvSpPr>
            <p:cNvPr id="250" name="Rectangle 3"/>
            <p:cNvSpPr/>
            <p:nvPr/>
          </p:nvSpPr>
          <p:spPr>
            <a:xfrm>
              <a:off x="152280" y="609480"/>
              <a:ext cx="8839440" cy="586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pic>
          <p:nvPicPr>
            <p:cNvPr id="251" name="Picture 4" descr="102"/>
            <p:cNvPicPr/>
            <p:nvPr/>
          </p:nvPicPr>
          <p:blipFill>
            <a:blip r:embed="rId1"/>
            <a:srcRect l="0" t="59847" r="0" b="0"/>
            <a:stretch/>
          </p:blipFill>
          <p:spPr>
            <a:xfrm>
              <a:off x="152280" y="4343400"/>
              <a:ext cx="8839440" cy="213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2" name="Text Box 5"/>
          <p:cNvSpPr/>
          <p:nvPr/>
        </p:nvSpPr>
        <p:spPr>
          <a:xfrm>
            <a:off x="468360" y="620640"/>
            <a:ext cx="7620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山下的河水不再浑浊咆哮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荡漾的碧波轻抚着河畔的小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待到金色的秋天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我们把丰收的果园拥抱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250920" y="2565360"/>
            <a:ext cx="864216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这部分</a:t>
            </a:r>
            <a:r>
              <a:rPr b="0" lang="zh-CN" sz="3200" spc="-1" strike="noStrike">
                <a:solidFill>
                  <a:srgbClr val="cc3300"/>
                </a:solidFill>
                <a:latin typeface="华文中宋"/>
                <a:ea typeface="黑体"/>
              </a:rPr>
              <a:t>“</a:t>
            </a:r>
            <a:r>
              <a:rPr b="0" lang="zh-CN" sz="3200" spc="-1" strike="noStrike" u="sng">
                <a:solidFill>
                  <a:srgbClr val="cc3300"/>
                </a:solidFill>
                <a:uFillTx/>
                <a:latin typeface="Arial"/>
                <a:ea typeface="黑体"/>
              </a:rPr>
              <a:t>          </a:t>
            </a:r>
            <a:r>
              <a:rPr b="0" lang="zh-CN" sz="3200" spc="-1" strike="noStrike">
                <a:solidFill>
                  <a:srgbClr val="cc3300"/>
                </a:solidFill>
                <a:latin typeface="华文中宋"/>
                <a:ea typeface="黑体"/>
              </a:rPr>
              <a:t>”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一词用得非常精妙，有人情味，，充满情感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练说：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柔和的春风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华文中宋"/>
                <a:ea typeface="黑体"/>
              </a:rPr>
              <a:t>“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Arial"/>
                <a:ea typeface="黑体"/>
              </a:rPr>
              <a:t>                                    。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华文中宋"/>
                <a:ea typeface="黑体"/>
              </a:rPr>
              <a:t>”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829440" y="1159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黑体"/>
              </a:rPr>
              <a:t>环境变美丽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Group 2"/>
          <p:cNvGrpSpPr/>
          <p:nvPr/>
        </p:nvGrpSpPr>
        <p:grpSpPr>
          <a:xfrm>
            <a:off x="152280" y="609480"/>
            <a:ext cx="8839440" cy="5867640"/>
            <a:chOff x="152280" y="609480"/>
            <a:chExt cx="8839440" cy="5867640"/>
          </a:xfrm>
        </p:grpSpPr>
        <p:sp>
          <p:nvSpPr>
            <p:cNvPr id="256" name="Rectangle 3"/>
            <p:cNvSpPr/>
            <p:nvPr/>
          </p:nvSpPr>
          <p:spPr>
            <a:xfrm>
              <a:off x="152280" y="609480"/>
              <a:ext cx="8839440" cy="586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pic>
          <p:nvPicPr>
            <p:cNvPr id="257" name="Picture 4" descr="102"/>
            <p:cNvPicPr/>
            <p:nvPr/>
          </p:nvPicPr>
          <p:blipFill>
            <a:blip r:embed="rId1"/>
            <a:srcRect l="0" t="59847" r="0" b="0"/>
            <a:stretch/>
          </p:blipFill>
          <p:spPr>
            <a:xfrm>
              <a:off x="152280" y="4343400"/>
              <a:ext cx="8839440" cy="213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8" name="Text Box 6"/>
          <p:cNvSpPr/>
          <p:nvPr/>
        </p:nvSpPr>
        <p:spPr>
          <a:xfrm>
            <a:off x="250920" y="2708280"/>
            <a:ext cx="864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这部分</a:t>
            </a:r>
            <a:r>
              <a:rPr b="0" lang="zh-CN" sz="3200" spc="-1" strike="noStrike">
                <a:solidFill>
                  <a:srgbClr val="cc3300"/>
                </a:solidFill>
                <a:latin typeface="华文中宋"/>
                <a:ea typeface="黑体"/>
              </a:rPr>
              <a:t>“</a:t>
            </a:r>
            <a:r>
              <a:rPr b="0" lang="zh-CN" sz="3200" spc="-1" strike="noStrike" u="sng">
                <a:solidFill>
                  <a:srgbClr val="cc3300"/>
                </a:solidFill>
                <a:uFillTx/>
                <a:latin typeface="Arial"/>
                <a:ea typeface="黑体"/>
              </a:rPr>
              <a:t> 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Arial"/>
                <a:ea typeface="黑体"/>
              </a:rPr>
              <a:t>轻扶</a:t>
            </a:r>
            <a:r>
              <a:rPr b="0" lang="zh-CN" sz="3200" spc="-1" strike="noStrike" u="sng">
                <a:solidFill>
                  <a:srgbClr val="cc3300"/>
                </a:solidFill>
                <a:uFillTx/>
                <a:latin typeface="Arial"/>
                <a:ea typeface="黑体"/>
              </a:rPr>
              <a:t> </a:t>
            </a:r>
            <a:r>
              <a:rPr b="0" lang="zh-CN" sz="3200" spc="-1" strike="noStrike">
                <a:solidFill>
                  <a:srgbClr val="cc3300"/>
                </a:solidFill>
                <a:latin typeface="华文中宋"/>
                <a:ea typeface="黑体"/>
              </a:rPr>
              <a:t>”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一词用得非常精妙，有人情味，，充满情感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练说：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柔和的春风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华文中宋"/>
                <a:ea typeface="黑体"/>
              </a:rPr>
              <a:t>“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Arial"/>
                <a:ea typeface="黑体"/>
              </a:rPr>
              <a:t>轻拂着迎春花，让她绽开了笑脸  。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华文中宋"/>
                <a:ea typeface="黑体"/>
              </a:rPr>
              <a:t>”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829440" y="1159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黑体"/>
              </a:rPr>
              <a:t>环境变美丽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0" name="Text Box 8"/>
          <p:cNvSpPr/>
          <p:nvPr/>
        </p:nvSpPr>
        <p:spPr>
          <a:xfrm>
            <a:off x="611280" y="620640"/>
            <a:ext cx="7619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山下的河水不再浑浊咆哮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荡漾的碧波轻抚着河畔的小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待到金色的秋天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我们把丰收的果园拥抱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8200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思考</a:t>
            </a:r>
            <a:r>
              <a:rPr b="1" lang="zh-CN" sz="3600" spc="-1" strike="noStrike">
                <a:solidFill>
                  <a:srgbClr val="ff3300"/>
                </a:solidFill>
                <a:latin typeface="楷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春光染绿我们双脚</a:t>
            </a:r>
            <a:r>
              <a:rPr b="1" lang="zh-CN" sz="3600" spc="-1" strike="noStrike">
                <a:solidFill>
                  <a:srgbClr val="ff3300"/>
                </a:solidFill>
                <a:latin typeface="楷体"/>
                <a:ea typeface="黑体"/>
              </a:rPr>
              <a:t>”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是什么意思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250920" y="2133720"/>
            <a:ext cx="8640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楷体"/>
              </a:rPr>
              <a:t>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少先队员积极参加植树活动，他们走到哪里，就在哪里植树造林，哪里就绿意盎然，春光无限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2"/>
          <p:cNvGrpSpPr/>
          <p:nvPr/>
        </p:nvGrpSpPr>
        <p:grpSpPr>
          <a:xfrm>
            <a:off x="0" y="609480"/>
            <a:ext cx="9143640" cy="5867640"/>
            <a:chOff x="0" y="609480"/>
            <a:chExt cx="9143640" cy="5867640"/>
          </a:xfrm>
        </p:grpSpPr>
        <p:sp>
          <p:nvSpPr>
            <p:cNvPr id="264" name="Rectangle 3"/>
            <p:cNvSpPr/>
            <p:nvPr/>
          </p:nvSpPr>
          <p:spPr>
            <a:xfrm>
              <a:off x="0" y="609480"/>
              <a:ext cx="9143640" cy="586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pic>
          <p:nvPicPr>
            <p:cNvPr id="265" name="Picture 4" descr="102"/>
            <p:cNvPicPr/>
            <p:nvPr/>
          </p:nvPicPr>
          <p:blipFill>
            <a:blip r:embed="rId1"/>
            <a:srcRect l="0" t="59847" r="0" b="0"/>
            <a:stretch/>
          </p:blipFill>
          <p:spPr>
            <a:xfrm>
              <a:off x="0" y="4343400"/>
              <a:ext cx="9143640" cy="213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6" name="Text Box 5"/>
          <p:cNvSpPr/>
          <p:nvPr/>
        </p:nvSpPr>
        <p:spPr>
          <a:xfrm>
            <a:off x="179280" y="1197000"/>
            <a:ext cx="8713800" cy="27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黑体"/>
              </a:rPr>
              <a:t>《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春光染绿我们双脚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黑体"/>
              </a:rPr>
              <a:t>》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是一首轻快而又充满激情的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现代诗歌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。它主要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     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黑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、描绘了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植树活动给荒山带来的巨大变化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     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黑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、表达了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少年儿童以实际行动改造荒山野岭的决心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。</a:t>
            </a:r>
            <a:br>
              <a:rPr sz="3600"/>
            </a:b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7" name="WordArt 6"/>
          <p:cNvSpPr txBox="1"/>
          <p:nvPr/>
        </p:nvSpPr>
        <p:spPr>
          <a:xfrm>
            <a:off x="250920" y="62064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latin typeface="隶书"/>
              </a:rPr>
              <a:t>课文小结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cc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152280" y="609480"/>
            <a:ext cx="8839440" cy="5867640"/>
            <a:chOff x="152280" y="609480"/>
            <a:chExt cx="8839440" cy="5867640"/>
          </a:xfrm>
        </p:grpSpPr>
        <p:sp>
          <p:nvSpPr>
            <p:cNvPr id="92" name="Rectangle 3"/>
            <p:cNvSpPr/>
            <p:nvPr/>
          </p:nvSpPr>
          <p:spPr>
            <a:xfrm>
              <a:off x="152280" y="609480"/>
              <a:ext cx="8839440" cy="586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pic>
          <p:nvPicPr>
            <p:cNvPr id="93" name="Picture 4" descr="102"/>
            <p:cNvPicPr/>
            <p:nvPr/>
          </p:nvPicPr>
          <p:blipFill>
            <a:blip r:embed="rId1"/>
            <a:srcRect l="0" t="59847" r="0" b="0"/>
            <a:stretch/>
          </p:blipFill>
          <p:spPr>
            <a:xfrm>
              <a:off x="152280" y="4343400"/>
              <a:ext cx="8839440" cy="213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Text Box 5"/>
          <p:cNvSpPr/>
          <p:nvPr/>
        </p:nvSpPr>
        <p:spPr>
          <a:xfrm>
            <a:off x="609480" y="10666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我国人民历来有在春天种草、植树造林的习惯，为此，专门设立这个节日</a:t>
            </a:r>
            <a:r>
              <a:rPr b="1" lang="en-US" sz="3200" spc="-1" strike="noStrike">
                <a:solidFill>
                  <a:srgbClr val="0000ff"/>
                </a:solidFill>
                <a:latin typeface="楷体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植树节（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3.12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）。</a:t>
            </a:r>
            <a:br>
              <a:rPr sz="3200"/>
            </a:b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971640" y="3213000"/>
            <a:ext cx="716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今天，我们再来学习一首描写少先队员积极参加植树活动的诗歌。</a:t>
            </a:r>
            <a:br>
              <a:rPr sz="3200"/>
            </a:b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178920" y="404280"/>
            <a:ext cx="842508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  <a:ea typeface="楷体"/>
              </a:rPr>
              <a:t>      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植树造林作用大，请大家写一句公益广告，号召人们都加入植树造林的行列吧！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0" y="2781360"/>
            <a:ext cx="93614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栽下一棵树，就栽下了一道绿色的风景线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植树造林防风沙，栽花种草风光好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植树造林，功在当代，利在千秋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4" descr="无标题"/>
          <p:cNvPicPr/>
          <p:nvPr/>
        </p:nvPicPr>
        <p:blipFill>
          <a:blip r:embed="rId1"/>
          <a:stretch/>
        </p:blipFill>
        <p:spPr>
          <a:xfrm>
            <a:off x="250920" y="620640"/>
            <a:ext cx="86421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4" descr="无标题2"/>
          <p:cNvPicPr/>
          <p:nvPr/>
        </p:nvPicPr>
        <p:blipFill>
          <a:blip r:embed="rId1"/>
          <a:stretch/>
        </p:blipFill>
        <p:spPr>
          <a:xfrm>
            <a:off x="108000" y="549360"/>
            <a:ext cx="885672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74" name="Picture 7" descr="C:\Users\dell\AppData\Roaming\Tencent\Users\712326765\QQ\WinTemp\RichOle\7VS@}(WJRF~E0BV4HGP}OE4.png"/>
          <p:cNvPicPr/>
          <p:nvPr/>
        </p:nvPicPr>
        <p:blipFill>
          <a:blip r:embed="rId1"/>
          <a:stretch/>
        </p:blipFill>
        <p:spPr>
          <a:xfrm>
            <a:off x="714240" y="1143000"/>
            <a:ext cx="790596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6" descr="xc7100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6" descr="200110060213190001mendoza_6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zjut_3"/>
          <p:cNvPicPr/>
          <p:nvPr/>
        </p:nvPicPr>
        <p:blipFill>
          <a:blip r:embed="rId1"/>
          <a:stretch/>
        </p:blipFill>
        <p:spPr>
          <a:xfrm>
            <a:off x="179280" y="1052640"/>
            <a:ext cx="8713800" cy="5445000"/>
          </a:xfrm>
          <a:prstGeom prst="rect">
            <a:avLst/>
          </a:prstGeom>
          <a:ln w="0">
            <a:noFill/>
          </a:ln>
        </p:spPr>
      </p:pic>
      <p:sp>
        <p:nvSpPr>
          <p:cNvPr id="278" name="WordArt 5"/>
          <p:cNvSpPr txBox="1"/>
          <p:nvPr/>
        </p:nvSpPr>
        <p:spPr>
          <a:xfrm>
            <a:off x="395280" y="476280"/>
            <a:ext cx="163836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城市风景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4" descr="91870996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5" descr="XC9010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793080" y="63504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自学建议：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3564000" y="1600200"/>
            <a:ext cx="200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、自读课文，将字音读准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句子读通顺；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914400" y="3032280"/>
            <a:ext cx="7321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、再读课文，联系上下文理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解课文中词语的意思；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3705480" y="4479840"/>
            <a:ext cx="173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、三读课文，想想课文讲了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什么内容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Group 2"/>
          <p:cNvGrpSpPr/>
          <p:nvPr/>
        </p:nvGrpSpPr>
        <p:grpSpPr>
          <a:xfrm>
            <a:off x="179280" y="549360"/>
            <a:ext cx="8839440" cy="5867280"/>
            <a:chOff x="179280" y="549360"/>
            <a:chExt cx="8839440" cy="5867280"/>
          </a:xfrm>
        </p:grpSpPr>
        <p:sp>
          <p:nvSpPr>
            <p:cNvPr id="282" name="Rectangle 3"/>
            <p:cNvSpPr/>
            <p:nvPr/>
          </p:nvSpPr>
          <p:spPr>
            <a:xfrm>
              <a:off x="179280" y="549360"/>
              <a:ext cx="8839440" cy="586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pic>
          <p:nvPicPr>
            <p:cNvPr id="283" name="Picture 4" descr="102"/>
            <p:cNvPicPr/>
            <p:nvPr/>
          </p:nvPicPr>
          <p:blipFill>
            <a:blip r:embed="rId1"/>
            <a:srcRect l="0" t="59847" r="0" b="0"/>
            <a:stretch/>
          </p:blipFill>
          <p:spPr>
            <a:xfrm>
              <a:off x="179280" y="4282920"/>
              <a:ext cx="8839440" cy="213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Text Box 5"/>
          <p:cNvSpPr/>
          <p:nvPr/>
        </p:nvSpPr>
        <p:spPr>
          <a:xfrm>
            <a:off x="684360" y="1341360"/>
            <a:ext cx="799128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华文中宋"/>
              </a:rPr>
              <a:t>       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默读课文，想象荒山植树后的美好景象，写一段话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下面的词语可供选用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枝繁叶茂   青山碧岭   茂密   树丛  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搭窝筑巢   阵阵林涛   碧波   荡漾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5" name="WordArt 6"/>
          <p:cNvSpPr txBox="1"/>
          <p:nvPr/>
        </p:nvSpPr>
        <p:spPr>
          <a:xfrm>
            <a:off x="1619280" y="69228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课外作业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286" name="Picture 7" descr="灯"/>
          <p:cNvPicPr/>
          <p:nvPr/>
        </p:nvPicPr>
        <p:blipFill>
          <a:blip r:embed="rId2"/>
          <a:stretch/>
        </p:blipFill>
        <p:spPr>
          <a:xfrm>
            <a:off x="250920" y="692280"/>
            <a:ext cx="925560" cy="93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01_10"/>
          <p:cNvPicPr/>
          <p:nvPr/>
        </p:nvPicPr>
        <p:blipFill>
          <a:blip r:embed="rId1"/>
          <a:stretch/>
        </p:blipFill>
        <p:spPr>
          <a:xfrm>
            <a:off x="152280" y="380880"/>
            <a:ext cx="8839440" cy="5943600"/>
          </a:xfrm>
          <a:prstGeom prst="rect">
            <a:avLst/>
          </a:prstGeom>
          <a:ln w="0">
            <a:noFill/>
          </a:ln>
        </p:spPr>
      </p:pic>
      <p:pic>
        <p:nvPicPr>
          <p:cNvPr id="288" name="WordArt 3" descr=""/>
          <p:cNvPicPr/>
          <p:nvPr/>
        </p:nvPicPr>
        <p:blipFill>
          <a:blip r:embed="rId2"/>
          <a:stretch/>
        </p:blipFill>
        <p:spPr>
          <a:xfrm>
            <a:off x="1042920" y="1517760"/>
            <a:ext cx="432756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2"/>
          <p:cNvGrpSpPr/>
          <p:nvPr/>
        </p:nvGrpSpPr>
        <p:grpSpPr>
          <a:xfrm>
            <a:off x="152280" y="609480"/>
            <a:ext cx="8839440" cy="5867640"/>
            <a:chOff x="152280" y="609480"/>
            <a:chExt cx="8839440" cy="5867640"/>
          </a:xfrm>
        </p:grpSpPr>
        <p:sp>
          <p:nvSpPr>
            <p:cNvPr id="101" name="Rectangle 3"/>
            <p:cNvSpPr/>
            <p:nvPr/>
          </p:nvSpPr>
          <p:spPr>
            <a:xfrm>
              <a:off x="152280" y="609480"/>
              <a:ext cx="8839440" cy="586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pic>
          <p:nvPicPr>
            <p:cNvPr id="102" name="Picture 4" descr="102"/>
            <p:cNvPicPr/>
            <p:nvPr/>
          </p:nvPicPr>
          <p:blipFill>
            <a:blip r:embed="rId1"/>
            <a:srcRect l="0" t="59847" r="0" b="0"/>
            <a:stretch/>
          </p:blipFill>
          <p:spPr>
            <a:xfrm>
              <a:off x="152280" y="4800600"/>
              <a:ext cx="8839440" cy="1676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Text Box 5"/>
          <p:cNvSpPr/>
          <p:nvPr/>
        </p:nvSpPr>
        <p:spPr>
          <a:xfrm>
            <a:off x="1600200" y="309240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锨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3048120" y="304812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镐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4648320" y="304812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煎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6400800" y="304812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熬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1547640" y="4365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锨镐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2971800" y="43434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锨镐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4648320" y="43434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煎熬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6400800" y="43434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煎熬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1" name="Line 17"/>
          <p:cNvSpPr/>
          <p:nvPr/>
        </p:nvSpPr>
        <p:spPr>
          <a:xfrm>
            <a:off x="1371600" y="3048120"/>
            <a:ext cx="6248520" cy="0"/>
          </a:xfrm>
          <a:prstGeom prst="line">
            <a:avLst/>
          </a:prstGeom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2" name="Line 19"/>
          <p:cNvSpPr/>
          <p:nvPr/>
        </p:nvSpPr>
        <p:spPr>
          <a:xfrm>
            <a:off x="1295280" y="4267080"/>
            <a:ext cx="6324840" cy="0"/>
          </a:xfrm>
          <a:prstGeom prst="line">
            <a:avLst/>
          </a:prstGeom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Text Box 20"/>
          <p:cNvSpPr/>
          <p:nvPr/>
        </p:nvSpPr>
        <p:spPr>
          <a:xfrm>
            <a:off x="2286000" y="106668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华文中宋"/>
              </a:rPr>
              <a:t>我会认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14" name="Picture 21" descr="复件 思考"/>
          <p:cNvPicPr/>
          <p:nvPr/>
        </p:nvPicPr>
        <p:blipFill>
          <a:blip r:embed="rId2"/>
          <a:stretch/>
        </p:blipFill>
        <p:spPr>
          <a:xfrm>
            <a:off x="1295280" y="1066680"/>
            <a:ext cx="965160" cy="75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2"/>
          <p:cNvGrpSpPr/>
          <p:nvPr/>
        </p:nvGrpSpPr>
        <p:grpSpPr>
          <a:xfrm>
            <a:off x="152280" y="609480"/>
            <a:ext cx="8839440" cy="5867640"/>
            <a:chOff x="152280" y="609480"/>
            <a:chExt cx="8839440" cy="5867640"/>
          </a:xfrm>
        </p:grpSpPr>
        <p:sp>
          <p:nvSpPr>
            <p:cNvPr id="116" name="Rectangle 3"/>
            <p:cNvSpPr/>
            <p:nvPr/>
          </p:nvSpPr>
          <p:spPr>
            <a:xfrm>
              <a:off x="152280" y="609480"/>
              <a:ext cx="8839440" cy="586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pic>
          <p:nvPicPr>
            <p:cNvPr id="117" name="Picture 4" descr="102"/>
            <p:cNvPicPr/>
            <p:nvPr/>
          </p:nvPicPr>
          <p:blipFill>
            <a:blip r:embed="rId1"/>
            <a:srcRect l="0" t="59847" r="0" b="0"/>
            <a:stretch/>
          </p:blipFill>
          <p:spPr>
            <a:xfrm>
              <a:off x="152280" y="4800600"/>
              <a:ext cx="8839440" cy="1676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" name="Text Box 5"/>
          <p:cNvSpPr/>
          <p:nvPr/>
        </p:nvSpPr>
        <p:spPr>
          <a:xfrm>
            <a:off x="1611360" y="196056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叮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3059280" y="191628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谣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4659480" y="191628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裸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6238800" y="1936800"/>
            <a:ext cx="129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寂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1523880" y="43876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叮嘱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2971800" y="43434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民谣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4648320" y="43434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裸露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6400800" y="43434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寂静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Line 17"/>
          <p:cNvSpPr/>
          <p:nvPr/>
        </p:nvSpPr>
        <p:spPr>
          <a:xfrm>
            <a:off x="1382760" y="1916280"/>
            <a:ext cx="6248520" cy="0"/>
          </a:xfrm>
          <a:prstGeom prst="line">
            <a:avLst/>
          </a:prstGeom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Line 18"/>
          <p:cNvSpPr/>
          <p:nvPr/>
        </p:nvSpPr>
        <p:spPr>
          <a:xfrm>
            <a:off x="1371600" y="2133720"/>
            <a:ext cx="6248520" cy="0"/>
          </a:xfrm>
          <a:prstGeom prst="line">
            <a:avLst/>
          </a:prstGeom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1306440" y="3135240"/>
            <a:ext cx="6324840" cy="0"/>
          </a:xfrm>
          <a:prstGeom prst="line">
            <a:avLst/>
          </a:prstGeom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9" name="Text Box 20"/>
          <p:cNvSpPr/>
          <p:nvPr/>
        </p:nvSpPr>
        <p:spPr>
          <a:xfrm>
            <a:off x="2286000" y="106668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华文中宋"/>
              </a:rPr>
              <a:t>我会认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30" name="Picture 21" descr="复件 思考"/>
          <p:cNvPicPr/>
          <p:nvPr/>
        </p:nvPicPr>
        <p:blipFill>
          <a:blip r:embed="rId2"/>
          <a:stretch/>
        </p:blipFill>
        <p:spPr>
          <a:xfrm>
            <a:off x="1295280" y="1066680"/>
            <a:ext cx="965160" cy="75276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22"/>
          <p:cNvSpPr/>
          <p:nvPr/>
        </p:nvSpPr>
        <p:spPr>
          <a:xfrm>
            <a:off x="1042920" y="4581360"/>
            <a:ext cx="129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寞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2" name="Text Box 23"/>
          <p:cNvSpPr/>
          <p:nvPr/>
        </p:nvSpPr>
        <p:spPr>
          <a:xfrm>
            <a:off x="2490840" y="458136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叽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3" name="Text Box 24"/>
          <p:cNvSpPr/>
          <p:nvPr/>
        </p:nvSpPr>
        <p:spPr>
          <a:xfrm>
            <a:off x="4014720" y="4581360"/>
            <a:ext cx="129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蹦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Text Box 25"/>
          <p:cNvSpPr/>
          <p:nvPr/>
        </p:nvSpPr>
        <p:spPr>
          <a:xfrm>
            <a:off x="5462640" y="458136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咆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5" name="Text Box 26"/>
          <p:cNvSpPr/>
          <p:nvPr/>
        </p:nvSpPr>
        <p:spPr>
          <a:xfrm>
            <a:off x="6986520" y="4581360"/>
            <a:ext cx="129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哮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6" name="Line 27"/>
          <p:cNvSpPr/>
          <p:nvPr/>
        </p:nvSpPr>
        <p:spPr>
          <a:xfrm>
            <a:off x="966960" y="4581360"/>
            <a:ext cx="7238880" cy="0"/>
          </a:xfrm>
          <a:prstGeom prst="line">
            <a:avLst/>
          </a:prstGeom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" name="Line 28"/>
          <p:cNvSpPr/>
          <p:nvPr/>
        </p:nvSpPr>
        <p:spPr>
          <a:xfrm>
            <a:off x="890640" y="5800680"/>
            <a:ext cx="7238880" cy="0"/>
          </a:xfrm>
          <a:prstGeom prst="line">
            <a:avLst/>
          </a:prstGeom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0" y="0"/>
            <a:ext cx="8839080" cy="58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39" name="Picture 3" descr="102"/>
          <p:cNvPicPr/>
          <p:nvPr/>
        </p:nvPicPr>
        <p:blipFill>
          <a:blip r:embed="rId1"/>
          <a:srcRect l="0" t="59847" r="0" b="0"/>
          <a:stretch/>
        </p:blipFill>
        <p:spPr>
          <a:xfrm>
            <a:off x="152280" y="4800600"/>
            <a:ext cx="8839440" cy="16765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9"/>
          <p:cNvSpPr/>
          <p:nvPr/>
        </p:nvSpPr>
        <p:spPr>
          <a:xfrm>
            <a:off x="1143000" y="4191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寂寞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2590920" y="4191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叽咕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4114800" y="4191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蹦跳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5638680" y="4191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咆哮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Text Box 13"/>
          <p:cNvSpPr/>
          <p:nvPr/>
        </p:nvSpPr>
        <p:spPr>
          <a:xfrm>
            <a:off x="7162920" y="4191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哮喘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" name="Text Box 22"/>
          <p:cNvSpPr/>
          <p:nvPr/>
        </p:nvSpPr>
        <p:spPr>
          <a:xfrm>
            <a:off x="2286000" y="106668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华文中宋"/>
              </a:rPr>
              <a:t>我会认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46" name="Picture 23" descr="复件 思考"/>
          <p:cNvPicPr/>
          <p:nvPr/>
        </p:nvPicPr>
        <p:blipFill>
          <a:blip r:embed="rId2"/>
          <a:stretch/>
        </p:blipFill>
        <p:spPr>
          <a:xfrm>
            <a:off x="1295280" y="1066680"/>
            <a:ext cx="965160" cy="7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227240" y="69696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黑体"/>
              </a:rPr>
              <a:t>读一读：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2058480" y="1844640"/>
            <a:ext cx="526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歌</a:t>
            </a: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谣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咆哮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裸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露  煎熬  拥抱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1376640" y="2997360"/>
            <a:ext cx="613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寂寞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  松鼠  撑起  荡漾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茂密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2011680" y="4076640"/>
            <a:ext cx="552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荒山野岭  青山碧岭  </a:t>
            </a: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叮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当 </a:t>
            </a: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叽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喳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AutoShape 6">
            <a:hlinkClick r:id="" action="ppaction://hlinkshowjump?jump=previousslide"/>
          </p:cNvPr>
          <p:cNvSpPr/>
          <p:nvPr/>
        </p:nvSpPr>
        <p:spPr>
          <a:xfrm>
            <a:off x="7620120" y="6172200"/>
            <a:ext cx="761760" cy="380880"/>
          </a:xfrm>
          <a:prstGeom prst="beve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ebf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bf7ff"/>
                </a:solidFill>
                <a:latin typeface="Times New Roman"/>
                <a:ea typeface="楷体_GB2312"/>
              </a:rPr>
              <a:t>返回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158760" y="5307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1054080" y="5084640"/>
            <a:ext cx="4521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又</a:t>
            </a: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蹦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又跳  枝繁叶茂</a:t>
            </a:r>
            <a:r>
              <a:rPr b="1" lang="zh-CN" sz="4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  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2"/>
          <p:cNvSpPr txBox="1"/>
          <p:nvPr/>
        </p:nvSpPr>
        <p:spPr>
          <a:xfrm>
            <a:off x="539640" y="692280"/>
            <a:ext cx="24386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黑体"/>
              </a:rPr>
              <a:t>词语解释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黑体"/>
              <a:ea typeface="黑体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457200" y="198108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荒山野岭：没有人烟的山岭。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25909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枝繁叶茂：指树木长势好。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457200" y="32004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裸露：没有东西遮盖。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457200" y="380988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锨镐：劳动工具。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457200" y="4419720"/>
            <a:ext cx="868680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咆哮：原指动物疯狂吼叫，文中形容水奔腾轰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鸣。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60" name="Picture 8" descr="阿芳"/>
          <p:cNvPicPr/>
          <p:nvPr/>
        </p:nvPicPr>
        <p:blipFill>
          <a:blip r:embed="rId1"/>
          <a:stretch/>
        </p:blipFill>
        <p:spPr>
          <a:xfrm>
            <a:off x="6629400" y="1066680"/>
            <a:ext cx="15098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6T10:37:42Z</dcterms:created>
  <dc:creator>爸爸</dc:creator>
  <dc:description/>
  <dc:language>en-US</dc:language>
  <cp:lastModifiedBy>dell</cp:lastModifiedBy>
  <dcterms:modified xsi:type="dcterms:W3CDTF">2016-03-25T02:22:27Z</dcterms:modified>
  <cp:revision>45</cp:revision>
  <dc:subject/>
  <dc:title>PowerPoint 演示文稿</dc:title>
</cp:coreProperties>
</file>