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301-D532-44A9-A0EC-C292AD99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97B-79D3-4477-A118-E04DF95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C30-6B49-4DFF-9E14-9F76CD41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09B-4412-4335-8037-10DAFEC3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35E-DBCB-4494-8BE5-2180D164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4229-04B6-4E45-80BC-537AC35E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6E9A-FCF4-46B5-8A50-30945781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4A8-9B3A-4FB7-918A-DD60A9E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9B30-AC0F-46ED-8D3D-225D6B76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B5A8-8258-4522-8C9E-1E8DB4E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71EC-150E-4BD7-BB16-DEF53DAC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DE2-AA5E-482E-8D63-BA622ED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F0E8-59A3-48B5-8A0A-E22498B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B110-4A90-4FDA-926F-154D998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EB44-3DFB-4B45-BE0F-1054A315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B96B-4B42-4AE5-ACD2-1B74FA3F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F37-AD6D-467E-B693-09F2CB5A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94EF-1EF4-4079-9264-9182AA6C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B038-765C-4D6C-A47E-D3561D1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7372-C02F-4CDF-BFF2-E7F72DD0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EBF2-2C52-4D29-9149-409FCF1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6103-AAC8-40FF-82A6-C7D1CDF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517-9071-48E8-96D3-4F03BBF8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DF73-948B-445E-896A-7AC7B17F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0744-9BC6-41FA-8A46-B7D1F51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9F4F-D5EE-4B43-B7E3-CC363EB6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26C3-7385-43D6-A7FE-24413A0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1B5F-679B-4062-9CF8-1C7D0EC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9920-E2CE-4CB0-A607-FC0B662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E603-47E7-417C-8A2A-F1D8BDAF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A874-62EB-48B4-996F-4A62E9DC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946B-1030-43B3-98D1-C6E8F31B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F0EB-AE01-44FA-97A7-B46B139F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2DE-CD6E-4BE0-9084-7C673D03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2C2D-1D46-4AEE-BCEB-FC7B335B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5058-BE74-4362-8B05-21EFEBF8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B2F1-C509-4D86-B0F5-F8EFC75F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0089-8700-4A70-8ED9-C965605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9C64-7702-4EF7-9E03-4577FA9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D043-534F-43BD-9F86-38E3B43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BE49-0235-4F1E-91C0-D008DDD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BDBB-E7D5-44AD-A631-AF49224D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48B3-6D10-478C-905B-39E71D8C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178-6849-4F2A-A21C-0992123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003-0639-42C6-9BE8-C2CED54C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60F-8F9C-4CD4-906A-F4F18BC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CF2-499F-4040-B3D7-0FC54B7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33E-8D32-445B-90DD-FA2422A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C14-2B4B-4D37-B9A3-C15CA67F99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E72-CFD4-4FED-9346-CF66A24DE5A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2E5-BD0D-4F47-96E4-553AEDA69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8C28-ABB1-4EB4-971C-15465ED842B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4"/>
          <p:cNvSpPr/>
          <p:nvPr/>
        </p:nvSpPr>
        <p:spPr>
          <a:xfrm>
            <a:off x="1116000" y="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华文仿宋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161616"/>
                </a:solidFill>
                <a:latin typeface="华文仿宋"/>
                <a:ea typeface="华文仿宋"/>
              </a:rPr>
              <a:t>观看视频，看到这波涛滚滚的洪水，再想想文中哪些地方体现出情况紧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C:\Users\dell\AppData\Roaming\Tencent\Users\712326765\QQ\WinTemp\RichOle\ZX$_B)_(X{BKVM_QUHLPW89.png"/>
          <p:cNvPicPr/>
          <p:nvPr/>
        </p:nvPicPr>
        <p:blipFill>
          <a:blip r:embed="rId1"/>
          <a:stretch/>
        </p:blipFill>
        <p:spPr>
          <a:xfrm>
            <a:off x="1500120" y="2214720"/>
            <a:ext cx="604836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54064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737"/>
                </a:solidFill>
                <a:latin typeface="仿宋"/>
                <a:ea typeface="仿宋"/>
              </a:rPr>
              <a:t>    </a:t>
            </a:r>
            <a:r>
              <a:rPr b="1" lang="en-US" sz="3200" spc="-1" strike="noStrike">
                <a:solidFill>
                  <a:srgbClr val="161616"/>
                </a:solidFill>
                <a:latin typeface="仿宋"/>
                <a:ea typeface="仿宋"/>
              </a:rPr>
              <a:t>1998</a:t>
            </a:r>
            <a:r>
              <a:rPr b="1" lang="zh-CN" sz="3200" spc="-1" strike="noStrike">
                <a:solidFill>
                  <a:srgbClr val="161616"/>
                </a:solidFill>
                <a:latin typeface="仿宋"/>
                <a:ea typeface="仿宋"/>
              </a:rPr>
              <a:t>年的夏天。暴雨，大暴雨，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一场接着一场，奔腾不息的长江，转瞬间变成了一条暴怒的巨龙，疯狂地撕咬着千里江堤。</a:t>
            </a:r>
            <a:r>
              <a:rPr b="1" lang="zh-CN" sz="3200" spc="-1" strike="noStrike">
                <a:solidFill>
                  <a:srgbClr val="161616"/>
                </a:solidFill>
                <a:latin typeface="仿宋"/>
                <a:ea typeface="仿宋"/>
              </a:rPr>
              <a:t>荆江告急！武汉告急！九江告急！</a:t>
            </a:r>
            <a:r>
              <a:rPr b="1" lang="en-US" sz="3200" spc="-1" strike="noStrike">
                <a:solidFill>
                  <a:srgbClr val="161616"/>
                </a:solidFill>
                <a:latin typeface="仿宋"/>
                <a:ea typeface="仿宋"/>
              </a:rPr>
              <a:t>…… 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灾情就是命令，灾区就是战场。</a:t>
            </a:r>
            <a:r>
              <a:rPr b="1" lang="zh-CN" sz="3200" spc="-1" strike="noStrike">
                <a:solidFill>
                  <a:srgbClr val="161616"/>
                </a:solidFill>
                <a:latin typeface="仿宋"/>
                <a:ea typeface="仿宋"/>
              </a:rPr>
              <a:t>在这万分危急的关头，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几十万解放军官兵日夜兼程，朝着大江挺进</a:t>
            </a:r>
            <a:r>
              <a:rPr b="1" lang="zh-CN" sz="3200" spc="-1" strike="noStrike">
                <a:solidFill>
                  <a:srgbClr val="161616"/>
                </a:solidFill>
                <a:latin typeface="仿宋"/>
                <a:ea typeface="仿宋"/>
              </a:rPr>
              <a:t>。他们和几百万人民群众一起，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打响了气壮山河的大江保卫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WordArt 6"/>
          <p:cNvSpPr txBox="1"/>
          <p:nvPr/>
        </p:nvSpPr>
        <p:spPr>
          <a:xfrm>
            <a:off x="168120" y="476280"/>
            <a:ext cx="46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：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9"/>
          <p:cNvSpPr/>
          <p:nvPr/>
        </p:nvSpPr>
        <p:spPr>
          <a:xfrm>
            <a:off x="539640" y="90792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7093080" y="4365720"/>
            <a:ext cx="144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179280" y="33336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指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755640" y="13460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395280" y="177336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组自由读找出课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介绍了几处场景？分别用简短的语言慨括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个小组选择一处场景，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最令你感动或打动心灵的句子并认真朗读，认真品悟句子的含义，并说说自己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6"/>
          <p:cNvSpPr txBox="1"/>
          <p:nvPr/>
        </p:nvSpPr>
        <p:spPr>
          <a:xfrm>
            <a:off x="1116000" y="260280"/>
            <a:ext cx="30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任务二：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2">
            <a:hlinkClick r:id="rId1" action="ppaction://hlinksldjump"/>
          </p:cNvPr>
          <p:cNvSpPr/>
          <p:nvPr/>
        </p:nvSpPr>
        <p:spPr>
          <a:xfrm>
            <a:off x="2878920" y="121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91200"/>
                </a:solidFill>
                <a:latin typeface="Arial"/>
              </a:rPr>
              <a:t>预设句子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>
            <a:hlinkClick r:id="rId2" action="ppaction://hlinksldjump"/>
          </p:cNvPr>
          <p:cNvSpPr/>
          <p:nvPr/>
        </p:nvSpPr>
        <p:spPr>
          <a:xfrm>
            <a:off x="2412360" y="3071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91200"/>
                </a:solidFill>
                <a:latin typeface="Arial"/>
              </a:rPr>
              <a:t>预设句子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>
            <a:hlinkClick r:id="rId3" action="ppaction://hlinksldjump"/>
          </p:cNvPr>
          <p:cNvSpPr/>
          <p:nvPr/>
        </p:nvSpPr>
        <p:spPr>
          <a:xfrm>
            <a:off x="2483640" y="47862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91200"/>
                </a:solidFill>
                <a:latin typeface="Arial"/>
              </a:rPr>
              <a:t>预设句子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日凌晨两点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九江赛城湖的大堤塌陷了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四百多名官兵闻讯赶到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支队长一声令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上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顿时，一条长龙在崩塌的堤坝下出现了。官兵们肩扛沉重的沙包，在泥水中来回</a:t>
            </a:r>
            <a:r>
              <a:rPr b="0" lang="zh-CN" sz="4000" spc="-1" strike="noStrike" u="sng">
                <a:solidFill>
                  <a:srgbClr val="00b200"/>
                </a:solidFill>
                <a:uFillTx/>
                <a:latin typeface="Comic Sans MS"/>
                <a:ea typeface="楷体_GB2312"/>
                <a:hlinkClick r:id="rId1" action="ppaction://hlinksldjump"/>
              </a:rPr>
              <a:t>穿梭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有的为了行走快捷，索性赤脚奔跑起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11" descr="u=4083506010,1686363268&amp;fm=23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3"/>
          <p:cNvSpPr/>
          <p:nvPr/>
        </p:nvSpPr>
        <p:spPr>
          <a:xfrm>
            <a:off x="248436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11280" y="476280"/>
            <a:ext cx="777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官兵们肩扛沉重的沙包，在泥水中来回穿梭。有的为了行走快捷，索性赤脚奔跑起来。嶙峋的片石割破了脚趾，他们全然不顾，心中只有一个念头：“大堤，保住大堤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108000" y="2924280"/>
            <a:ext cx="8642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你从这个句子中感受到了什么？哪个词最能体现人民子弟兵的精神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308304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交流，疑惑解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250920" y="4076640"/>
            <a:ext cx="8893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然不顾”，他们不顾什么？他们又顾什么去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们不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43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感受到了战士们奋不顾身、意志坚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8760" y="292896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他们不顾片石割破脚趾、不顾肩头沉重的沙包；不顾暴风雨迷住了双眼；不顾脚下又稀又滑的泥水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他们只顾大堤安危，只有保住了大堤，才能保住人民群众的生命和财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357120" y="25002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眼看大堤快保不住了，他们怎么做了？用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253840" y="4214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跳入水中，筑起了一道人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00040" y="464328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站在洪水中的战士，随时都有被冲走的危险，他们想过这个问题吗？从哪个词可以看出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2214720" y="542916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没有。       奋然跳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0872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血肉之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064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ff5050"/>
                </a:solidFill>
                <a:latin typeface="Comic Sans MS"/>
                <a:ea typeface="楷体_GB2312"/>
              </a:rPr>
              <a:t>嶙峋的石片割破了脚趾，他们全然不顾，心中只有一个念头：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5050"/>
                </a:solidFill>
                <a:latin typeface="Comic Sans MS"/>
                <a:ea typeface="楷体_GB2312"/>
              </a:rPr>
              <a:t>大堤，保住大堤</a:t>
            </a:r>
            <a:r>
              <a:rPr b="1" lang="zh-CN" sz="4800" spc="-1" strike="noStrike">
                <a:solidFill>
                  <a:srgbClr val="ff5050"/>
                </a:solidFill>
                <a:latin typeface="Comic Sans MS"/>
                <a:ea typeface="楷体_GB2312"/>
              </a:rPr>
              <a:t>！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57160" y="2357280"/>
            <a:ext cx="7775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狂风卷着巨浪，猛烈地撕扯着堤岸，战士们高声喊道：“狂风为我们呐喊！暴雨为我们助威！巨浪为我们加油！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一个个奋然跳入水中，用自己的血肉之躯筑起了一道人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5640" y="425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此时此刻，在你的心里升腾起怎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55640" y="2492280"/>
            <a:ext cx="786924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正因为如此，所以我们说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面对肆虐的洪水，更显出了人民子弟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铮铮铁汉的本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356920" y="1268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仿宋"/>
                <a:ea typeface="仿宋"/>
              </a:rPr>
              <a:t>感动、敬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2" descr="20070423204746fu"/>
          <p:cNvPicPr/>
          <p:nvPr/>
        </p:nvPicPr>
        <p:blipFill>
          <a:blip r:embed="rId1"/>
          <a:stretch/>
        </p:blipFill>
        <p:spPr>
          <a:xfrm>
            <a:off x="4786200" y="928800"/>
            <a:ext cx="4033800" cy="54291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611280" y="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听战士们豪言壮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435600" y="620640"/>
            <a:ext cx="383796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61616"/>
                </a:solidFill>
                <a:latin typeface="Arial"/>
              </a:rPr>
              <a:t>狂风为我们呐喊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61616"/>
                </a:solidFill>
                <a:latin typeface="Arial"/>
              </a:rPr>
              <a:t>暴雨为我们助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1046880" y="3689640"/>
            <a:ext cx="10947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61616"/>
                </a:solidFill>
                <a:latin typeface="仿宋"/>
                <a:ea typeface="仿宋"/>
              </a:rPr>
              <a:t>巨浪为我们加油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">
            <a:hlinkClick r:id="rId1" action="ppaction://hlinksldjump"/>
          </p:cNvPr>
          <p:cNvSpPr/>
          <p:nvPr/>
        </p:nvSpPr>
        <p:spPr>
          <a:xfrm>
            <a:off x="468360" y="1628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191200"/>
                </a:solidFill>
                <a:latin typeface="Arial"/>
              </a:rPr>
              <a:t>正因为如此，所以我们说</a:t>
            </a:r>
            <a:r>
              <a:rPr b="1" lang="en-US" sz="3600" spc="-1" strike="noStrike">
                <a:solidFill>
                  <a:srgbClr val="1912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面对肆虐的洪水，更显出了人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子弟兵铮铮铁汉的本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68360" y="162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95280" y="1197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几个小时的鏖战，大堤保住了，官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们浑身上下却是伤痕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300720" y="3716280"/>
            <a:ext cx="144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19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4911840" y="537840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0063610327865"/>
          <p:cNvPicPr/>
          <p:nvPr/>
        </p:nvPicPr>
        <p:blipFill>
          <a:blip r:embed="rId1"/>
          <a:srcRect l="0" t="30050" r="0" b="0"/>
          <a:stretch/>
        </p:blipFill>
        <p:spPr>
          <a:xfrm>
            <a:off x="0" y="642960"/>
            <a:ext cx="4714920" cy="4932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2987640" y="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英雄壮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C:\Users\dell\AppData\Roaming\Tencent\Users\712326765\QQ\WinTemp\RichOle\%N5H5`OGJ1Q@MPCLP(G2KLQ.png"/>
          <p:cNvPicPr/>
          <p:nvPr/>
        </p:nvPicPr>
        <p:blipFill>
          <a:blip r:embed="rId2"/>
          <a:stretch/>
        </p:blipFill>
        <p:spPr>
          <a:xfrm>
            <a:off x="4929120" y="642960"/>
            <a:ext cx="3657600" cy="4562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-181440" y="549360"/>
            <a:ext cx="9145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161616"/>
                </a:solidFill>
                <a:latin typeface="Comic Sans MS"/>
                <a:ea typeface="楷体_GB2312"/>
              </a:rPr>
              <a:t>风声雨声涛声，声声震耳；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61616"/>
                </a:solidFill>
                <a:latin typeface="Comic Sans MS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161616"/>
                </a:solidFill>
                <a:latin typeface="Comic Sans MS"/>
                <a:ea typeface="楷体_GB2312"/>
              </a:rPr>
              <a:t>雨水汗水血水，水水相融。</a:t>
            </a:r>
            <a:r>
              <a:rPr b="1" lang="zh-CN" sz="5400" spc="-1" strike="noStrike">
                <a:solidFill>
                  <a:srgbClr val="161616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61616"/>
                </a:solidFill>
                <a:latin typeface="Comic Sans MS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161616"/>
                </a:solidFill>
                <a:latin typeface="Comic Sans MS"/>
                <a:ea typeface="楷体_GB2312"/>
              </a:rPr>
              <a:t>这是人民子弟兵在这场惊心动魄的大决战中的真实写照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2310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539640" y="1125360"/>
            <a:ext cx="7704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晓文大声说：“来不及了！”说着，一咬牙，猛地把铁钉一拔，一股鲜血涌了出来。黄晓文随即从身上扯下一绺布条，三下两下把脚捆了个结实，二话没说，转身扛起地上的麻包，又爬上了大堤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35120" y="3232080"/>
            <a:ext cx="80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黄晓文是怎么做的？他这样做不疼吗？那为什么？哪些词最能体现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88000" y="1500120"/>
            <a:ext cx="237312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群体人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640" y="164304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自然段通过描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场面，表现了大决战的惊心动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1013400" y="21420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91200"/>
                </a:solidFill>
                <a:latin typeface="仿宋"/>
                <a:ea typeface="仿宋"/>
              </a:rPr>
              <a:t>写法探究</a:t>
            </a:r>
            <a:r>
              <a:rPr b="1" lang="en-US" sz="4400" spc="-1" strike="noStrike">
                <a:solidFill>
                  <a:srgbClr val="191200"/>
                </a:solidFill>
                <a:latin typeface="仿宋"/>
                <a:ea typeface="仿宋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755640" y="148428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同样是大堤抢险，第二自然段和第四自然段描写的场面是一样的吗？请比较一下，说出它们之间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755640" y="357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黄晓文仅仅是代表他个人吗？他还代表哪些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1013400" y="21420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91200"/>
                </a:solidFill>
                <a:latin typeface="仿宋"/>
                <a:ea typeface="仿宋"/>
              </a:rPr>
              <a:t>写法探究</a:t>
            </a:r>
            <a:r>
              <a:rPr b="1" lang="en-US" sz="4400" spc="-1" strike="noStrike">
                <a:solidFill>
                  <a:srgbClr val="191200"/>
                </a:solidFill>
                <a:latin typeface="仿宋"/>
                <a:ea typeface="仿宋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755640" y="177336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仿宋"/>
                <a:ea typeface="仿宋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仿宋"/>
                <a:ea typeface="仿宋"/>
              </a:rPr>
              <a:t>着重描写人物群体场面的叫</a:t>
            </a: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面的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仿宋"/>
                <a:ea typeface="仿宋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仿宋"/>
                <a:ea typeface="仿宋"/>
              </a:rPr>
              <a:t>着重描写个人场面的叫</a:t>
            </a: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点的描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755640" y="386064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好处：既能全面的概括，又能具体形象的描写出人物的场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75564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哪里有洪水，哪里就有军旗飘扬；哪里有危险，哪里就有军徽闪烁。滔滔洪水中的群众，看到了红五星，看到了迷彩服，就像看到了他们的大救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江，永远铭记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9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的夏天，铭记着我英勇的人民子弟兵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1547640" y="333360"/>
            <a:ext cx="691200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61616"/>
                </a:solidFill>
                <a:latin typeface="Arial"/>
              </a:rPr>
              <a:t>、请背诵课本第五自然段，深入理解、体会人民解放军的高大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61616"/>
                </a:solidFill>
                <a:latin typeface="Arial"/>
              </a:rPr>
              <a:t>、运用学到的场面描写中点面结合的方法，写一下运动会的场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通讯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是综合运用多种表达方式，详细深入而又生动形象地报道新近发生的事实的一种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新闻题材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自己喜欢的方式读课文，整体感知课文 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准课文中的生字，读通顺课文中的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问题：大江是指哪里？为什么要保卫？怎么保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1116000" y="260280"/>
            <a:ext cx="30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任务一：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泥     冲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舟     脚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崩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塌      撕扯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日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兼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程     惊心动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劈波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斩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铮铮铁汉     血肉之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84360" y="549360"/>
            <a:ext cx="295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5"/>
          <p:cNvGrpSpPr/>
          <p:nvPr/>
        </p:nvGrpSpPr>
        <p:grpSpPr>
          <a:xfrm>
            <a:off x="4140360" y="1557000"/>
            <a:ext cx="2952720" cy="3142080"/>
            <a:chOff x="4140360" y="1557000"/>
            <a:chExt cx="2952720" cy="3142080"/>
          </a:xfrm>
        </p:grpSpPr>
        <p:sp>
          <p:nvSpPr>
            <p:cNvPr id="246" name="Rectangle 6"/>
            <p:cNvSpPr/>
            <p:nvPr/>
          </p:nvSpPr>
          <p:spPr>
            <a:xfrm>
              <a:off x="4140360" y="1571760"/>
              <a:ext cx="2952720" cy="312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>
              <a:off x="4140360" y="3141720"/>
              <a:ext cx="2923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 flipV="1">
              <a:off x="5634360" y="1557000"/>
              <a:ext cx="0" cy="3097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9"/>
          <p:cNvSpPr/>
          <p:nvPr/>
        </p:nvSpPr>
        <p:spPr>
          <a:xfrm>
            <a:off x="4211640" y="1341360"/>
            <a:ext cx="3168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兼 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14"/>
          <p:cNvSpPr txBox="1"/>
          <p:nvPr/>
        </p:nvSpPr>
        <p:spPr>
          <a:xfrm>
            <a:off x="1692360" y="333360"/>
            <a:ext cx="25304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47280" y="549000"/>
            <a:ext cx="849636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霎时    弹指间    一刹那    一瞬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顷刻间    一眨眼    转眼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千钧一发     迫在眉睫     危在旦夕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十万火急     火烧眉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赴汤蹈火    奋不顾身     勇往直前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临危不惧     挺身而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同舟共济     风雨同舟     万众一心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齐心协力     众志成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3"/>
          <p:cNvSpPr/>
          <p:nvPr/>
        </p:nvSpPr>
        <p:spPr>
          <a:xfrm>
            <a:off x="1116000" y="189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词语积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35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是一篇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课文浓墨重彩描述人民解放军官兵在大江保卫战中的动人事迹。课文着重展现了三个动人场面，分别是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赞扬了人民子弟兵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_________________________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精神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3780000" y="907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8360" y="3284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保大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556000" y="3284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战洪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429080" y="321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救灾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195640" y="40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心系人民、同心协力、英勇无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971640" y="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文内容我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9"/>
          <p:cNvSpPr/>
          <p:nvPr/>
        </p:nvSpPr>
        <p:spPr>
          <a:xfrm>
            <a:off x="1000080" y="1214280"/>
            <a:ext cx="70722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江保卫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篇课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描述人民解放军官兵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江保卫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面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英雄本色和感人事迹，表现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民子弟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（                  ）的献身精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195640" y="335772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692360" y="2492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惊心动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5724360" y="2492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铮铮铁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411280" y="3789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同心协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43564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英勇无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2:48:16Z</dcterms:created>
  <dc:creator>hx</dc:creator>
  <dc:description/>
  <dc:language>en-US</dc:language>
  <cp:lastModifiedBy>dell</cp:lastModifiedBy>
  <dcterms:modified xsi:type="dcterms:W3CDTF">2016-03-25T03:26:27Z</dcterms:modified>
  <cp:revision>139</cp:revision>
  <dc:subject/>
  <dc:title>幻灯片 1</dc:title>
</cp:coreProperties>
</file>