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084-A66F-4482-B448-092EA33A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676-9C6E-4EEF-A4D2-795B07FF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120-C030-4A22-B070-E486232E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F23-49B3-4653-8201-3878032F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3317-3344-4C43-A6DA-2C7B3F3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ABC-2632-48AF-B3F9-4149438C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DA7A-8615-46EE-BD65-D49C689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B700-3A99-4FA7-84FB-B740F31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AD4-FB35-4CF4-BA8C-7C7A3FA8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5650-AFAB-44C1-A1F7-B4DB719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B96-E290-4B8F-A637-40E06EA9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D4B-6922-4399-AFE7-829BF349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C33F-C2A1-4AD2-B422-6591156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773-788B-425C-80A2-74DCA4C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CA5-984D-486B-A07D-3B1996D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DFD-106A-470C-B413-853EADE1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5DC2-65AA-458C-9B68-01579527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1816-09D7-46FC-BECE-D8B784FB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F382-FFA5-45DD-8F51-A8F6C3B3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232B-1FEB-4DAB-9C19-4855E43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11D3-F688-41FB-BBA5-8A966F7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6D2A-6EF5-427A-AB14-A3602AD5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E66-1E9D-4015-805C-63BA8A52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C116-5FFA-477D-B72B-880DF540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3F49-173B-459F-A236-86F06864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C286-E1AD-42A7-B398-0EB0D92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2CE7-55B6-4461-9189-DCBB644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179A-DDAE-4DB2-8AA0-3EA15B68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2981-7E53-419A-B1B7-AFCAE0AD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8598-B36F-486D-A529-BB38F06E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707-34FA-4C7C-B82C-A4CAD5D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C1D-A468-43E7-A2F9-E292A76F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D81-EC14-42A1-8301-A6D82B59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028-6689-4092-B537-EF78501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F86-7330-4D63-972A-A378B45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808-710E-41A1-BC3A-FFAFDFA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BEE5-72C1-4717-9CEB-3DA17FDCD4A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967A-0DE6-472B-BDE1-CEA6C6706EA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976-FFD6-4EE9-A7DE-C14C1D580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75248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大漠升起蘑菇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89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46320" y="203040"/>
            <a:ext cx="6381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自主学习本课的生字、新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能正确、流利、有感情的朗读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理解课文内容，了解我国第一颗原子弹爆炸的情景，体会第一颗原子弹成功爆炸对中国的重要意义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自学指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82916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、结合文前提示自由读课文，理解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、结合工具书和上下文理解文中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、合作学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）、同桌互查字词的掌握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）、交流对课文内容的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Times New Roman"/>
              </a:rPr>
              <a:t>（结合问前提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27360" y="6248520"/>
            <a:ext cx="9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钟后，相信聪明的你一定会有精彩的表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一、必做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28276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补充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失色      天  地      边  际        雀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看拼音写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pī lì     é zhà     lǒngduàn     qīng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(     )   (      )     (          )    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</a:rPr>
              <a:t>二、选做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363040"/>
            <a:ext cx="769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补充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裹夹着沙石热浪的冲击波，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像    ————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中国第一次核试验发生在    年   月   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写出下列词语的同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矗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装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批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洪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-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752480"/>
            <a:ext cx="769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三、思维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读完课文后把你的感受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tpDown</cp:lastModifiedBy>
  <dcterms:modified xsi:type="dcterms:W3CDTF">2012-02-02T05:15:31Z</dcterms:modified>
  <cp:revision>3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