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A49-DA68-4489-93FD-390BB58E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796-97B4-47B7-9C7C-FBCD93B8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5FE-1420-46E8-A332-63B14B63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B27-3318-4140-8A65-3EBE40DB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B9E-609D-419F-AD5C-A258604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C3F-DA7D-4009-BD12-331F62EA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D47-7B1D-4FA2-9197-9E66F7F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2CC-1D31-44D3-8A4F-6AE38B6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96E-2848-41CC-BE40-C3D9D79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215-13FC-4D94-9608-BC40F3F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EBA-E4C3-46E0-BE8D-FCDBAE2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131-F5A1-494E-91DE-3FD26E9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2F14-6688-4CFB-9D5E-B75F28DE5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9,7,&#24187;&#28783;&#29255; 7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59,7,&#24187;&#28783;&#29255; 7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59,7,&#24187;&#28783;&#29255; 7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5,8,&#24187;&#28783;&#29255; 8" TargetMode="External"/><Relationship Id="rId2" Type="http://schemas.openxmlformats.org/officeDocument/2006/relationships/hyperlink" Target="267,10,&#24187;&#28783;&#29255; 10" TargetMode="External"/><Relationship Id="rId3" Type="http://schemas.openxmlformats.org/officeDocument/2006/relationships/hyperlink" Target="268,12,&#24187;&#28783;&#29255; 12" TargetMode="External"/><Relationship Id="rId4" Type="http://schemas.openxmlformats.org/officeDocument/2006/relationships/hyperlink" Target="269,13,&#24187;&#28783;&#29255; 13" TargetMode="External"/><Relationship Id="rId5" Type="http://schemas.openxmlformats.org/officeDocument/2006/relationships/hyperlink" Target="270,14,&#24187;&#28783;&#29255; 14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59,7,&#24187;&#28783;&#29255; 7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360" y="1197000"/>
            <a:ext cx="675648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大人们这样说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爷爷是怎么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奶奶是怎么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是怎么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妈妈是怎么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老师是怎么说的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280880"/>
            <a:ext cx="82296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龙象征正在腾飞崛起的伟大祖</a:t>
            </a:r>
            <a:r>
              <a:rPr b="0" lang="zh-CN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长城好像在崇山峻岭中飞舞，它是民族历史的见证，它是巨龙留下的身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长江从三峡大巴上喷涌而下，那是龙在轰鸣；列车在京九线上呼啸而过，那是龙的身影；西昌基地火箭直冲云霄，那是龙在飞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妈说龙并没有消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嫦娥一号登上月球探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是龙在飞腾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车在青藏高原上呼啸而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是龙的身影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河从壶口瀑布上喷涌而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是龙的呼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13260" r="2735" b="0"/>
          <a:stretch/>
        </p:blipFill>
        <p:spPr>
          <a:xfrm>
            <a:off x="108000" y="549360"/>
            <a:ext cx="889308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3113" b="10465"/>
          <a:stretch/>
        </p:blipFill>
        <p:spPr>
          <a:xfrm>
            <a:off x="108000" y="189000"/>
            <a:ext cx="885996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学完课文，你一定感受很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最想说些什么，你作为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传人有什么梦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用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看拼音写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án    yǐ    fān    jiǎo    jī    dì    jiā  yù gu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) (                ) (           )   (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à   bà    hū   xiào    xù   rì    chóng   shān   jùn  lí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) (             )  (         ) (                   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识别汉字双胞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壁（            ）崇（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俊（           ）霄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璧（            ）祟（          ）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） 宵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词语对对碰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近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魄（            ）    见证（           ）震惊（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伸展（          ）   显露（         ）   消失（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688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蚕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124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翻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2960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基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7320" y="220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嘉峪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6880" y="29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7396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6924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旭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62480" y="306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崇山峻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8040" y="357336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石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氏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24880" y="36450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鬼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02120" y="35733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俊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崇山峻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69600" y="37162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云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今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1440" y="505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0720" y="505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证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01440" y="5051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震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9800" y="5772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收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4560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隐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8520" y="584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7360"/>
            <a:ext cx="2881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测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根据课文内容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首富有激情的（                ）。文章以（  ）为喻，把中国比作（                 ）。本诗以（      ）为主线，用（         ）（     ）（           ）（          ）（          ）这些大人的口吻，讲述了各个时代（      ）的含义，突出了新时代人们赋予龙的新（       ），抒发了作者对祖国的（      ）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按原文填空并作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说龙并没有消失，长江从三峡大坝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车在京九线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昌基地火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妈妈把从三峡大坝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长江比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在京九线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列车比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火箭比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请试着再仿写两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61960" y="112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散文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34840" y="1123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7480" y="1486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东方巨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8840" y="148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876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97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奶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7640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8948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妈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784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10840" y="20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76400" y="23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6512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赞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赛龙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3540" t="0" r="0" b="25038"/>
          <a:stretch/>
        </p:blipFill>
        <p:spPr>
          <a:xfrm>
            <a:off x="108000" y="404640"/>
            <a:ext cx="8820000" cy="5142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7734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舞龙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5964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476280"/>
            <a:ext cx="559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u="sng">
                <a:solidFill>
                  <a:srgbClr val="ff0000"/>
                </a:solidFill>
                <a:uFillTx/>
                <a:latin typeface="Arial"/>
              </a:rPr>
              <a:t>目标走过来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13372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仔细读文，认识“嘉”“峪”等生字：理解“腾云驾雾、气魄、喷涌、呼啸”等词语在课文中得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了解诗歌的主要内容，体会龙的文化，感受今天中华巨龙腾飞的气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579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ff0000"/>
                </a:solidFill>
                <a:uFillTx/>
                <a:latin typeface="Arial"/>
              </a:rPr>
              <a:t>方法伴你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9400" y="2276640"/>
            <a:ext cx="77533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默读课文，多种方法解决生字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同桌互读课文，说说你都读懂了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的疑惑有哪些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00"/>
            <a:ext cx="57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solidFill>
                  <a:srgbClr val="ff0000"/>
                </a:solidFill>
                <a:uFillTx/>
                <a:latin typeface="Arial"/>
              </a:rPr>
              <a:t>合作伴你行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341360"/>
            <a:ext cx="7848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同桌互读词语，并说说词语的意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组内交流：对于“龙”大家是怎么说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的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想现在人们赋予龙什么新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中的比喻句有哪些？你能找出来说说对它的的理解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能用自己知道的事实，在第五小节的后面写几句话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读全文，你认为哪一段，哪一句最能体现作者强烈感情，请找出来读一读说说自己的体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362800" cy="64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赛龙舟   显露    气魄    嘉峪关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真真切切    腾云驾雾    呼风唤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威力无边    崇山峻岭     喷涌而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旭日东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68280"/>
            <a:ext cx="96854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真真切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清楚确实，一点不模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腾云驾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传说中只利用法术乘云雾飞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崇山峻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高而险峻的山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威力无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指强大的使人畏惧的力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31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ff0000"/>
                </a:solidFill>
                <a:uFillTx/>
                <a:latin typeface="Arial"/>
              </a:rPr>
              <a:t>释词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5:00:41Z</dcterms:created>
  <dc:creator>Administrator</dc:creator>
  <dc:description/>
  <dc:language>en-US</dc:language>
  <cp:lastModifiedBy/>
  <dcterms:modified xsi:type="dcterms:W3CDTF">2015-07-28T02:36:07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