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86A2-80F8-46FD-B8FE-9EC79DEFC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60" y="384084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9D4B-DBDB-4903-A9C7-C47374F09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40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66A2-7350-4DAF-8216-8CF11EEF5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36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5080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324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1867-7945-41B0-85BF-290E1667D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42472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5F01-7B07-4257-9A68-8F814AA33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40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84084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40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80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3240" y="3840840"/>
            <a:ext cx="264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4C47-3D17-4D3D-871E-1FA02B9E2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3C60-5692-45F1-BFF4-659240B2A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DA1F-0439-480D-86EF-2FED3481F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8424720" cy="24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96B6-322B-4F6D-8F9C-CBCE59696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A174-C3F8-4601-B865-FB7B1A99B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400" y="384084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DCA7-8B37-4779-B41E-2320B74B7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4084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878C-7E2A-4A64-A418-6B7FAD0A8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60" y="81000"/>
            <a:ext cx="9077400" cy="1595520"/>
          </a:xfrm>
          <a:custGeom>
            <a:avLst/>
            <a:gdLst/>
            <a:ahLst/>
            <a:rect l="l" t="t" r="r" b="b"/>
            <a:pathLst>
              <a:path w="5718" h="1005">
                <a:moveTo>
                  <a:pt x="0" y="756"/>
                </a:moveTo>
                <a:cubicBezTo>
                  <a:pt x="96" y="724"/>
                  <a:pt x="297" y="635"/>
                  <a:pt x="576" y="560"/>
                </a:cubicBezTo>
                <a:cubicBezTo>
                  <a:pt x="855" y="485"/>
                  <a:pt x="1037" y="442"/>
                  <a:pt x="1403" y="390"/>
                </a:cubicBezTo>
                <a:cubicBezTo>
                  <a:pt x="1769" y="337"/>
                  <a:pt x="2154" y="320"/>
                  <a:pt x="2452" y="314"/>
                </a:cubicBezTo>
                <a:lnTo>
                  <a:pt x="3102" y="326"/>
                </a:lnTo>
                <a:cubicBezTo>
                  <a:pt x="3367" y="346"/>
                  <a:pt x="3736" y="377"/>
                  <a:pt x="4043" y="434"/>
                </a:cubicBezTo>
                <a:cubicBezTo>
                  <a:pt x="4350" y="490"/>
                  <a:pt x="4669" y="578"/>
                  <a:pt x="4944" y="668"/>
                </a:cubicBezTo>
                <a:cubicBezTo>
                  <a:pt x="5219" y="757"/>
                  <a:pt x="5679" y="1005"/>
                  <a:pt x="5691" y="971"/>
                </a:cubicBezTo>
                <a:cubicBezTo>
                  <a:pt x="5695" y="964"/>
                  <a:pt x="5718" y="25"/>
                  <a:pt x="5718" y="19"/>
                </a:cubicBezTo>
                <a:cubicBezTo>
                  <a:pt x="5718" y="7"/>
                  <a:pt x="1198" y="4"/>
                  <a:pt x="9" y="0"/>
                </a:cubicBez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58a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-31680"/>
            <a:ext cx="9144000" cy="6885000"/>
            <a:chOff x="0" y="-31680"/>
            <a:chExt cx="9144000" cy="6885000"/>
          </a:xfrm>
        </p:grpSpPr>
        <p:sp>
          <p:nvSpPr>
            <p:cNvPr id="2" name=""/>
            <p:cNvSpPr/>
            <p:nvPr/>
          </p:nvSpPr>
          <p:spPr>
            <a:xfrm>
              <a:off x="0" y="6381720"/>
              <a:ext cx="355680" cy="47160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742240" y="6381720"/>
              <a:ext cx="401760" cy="45576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1680" y="36360"/>
              <a:ext cx="9072720" cy="67708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31680"/>
              <a:ext cx="45720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91480" y="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72ec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72ec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6084720" y="6453360"/>
            <a:ext cx="289584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  <a:ea typeface="Gulim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323640" y="647712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67E7-7D77-48D8-AA71-2BAA3A497D22}" type="slidenum">
              <a:rPr b="1" lang="ko-KR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020000" y="836640"/>
            <a:ext cx="360360" cy="358920"/>
          </a:xfrm>
          <a:prstGeom prst="ellipse">
            <a:avLst/>
          </a:prstGeom>
          <a:gradFill rotWithShape="0">
            <a:gsLst>
              <a:gs pos="0">
                <a:srgbClr val="5a7cc0"/>
              </a:gs>
              <a:gs pos="100000">
                <a:srgbClr val="29395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667640" y="981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58a252"/>
              </a:gs>
              <a:gs pos="100000">
                <a:srgbClr val="284a2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15280" y="1197000"/>
            <a:ext cx="504720" cy="50328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0" y="44280"/>
            <a:ext cx="9145440" cy="4032360"/>
          </a:xfrm>
          <a:custGeom>
            <a:avLst/>
            <a:gdLst/>
            <a:ahLst/>
            <a:rect l="l" t="t" r="r" b="b"/>
            <a:pathLst>
              <a:path w="5761" h="2540">
                <a:moveTo>
                  <a:pt x="1552" y="644"/>
                </a:moveTo>
                <a:cubicBezTo>
                  <a:pt x="2544" y="580"/>
                  <a:pt x="3075" y="689"/>
                  <a:pt x="3600" y="817"/>
                </a:cubicBezTo>
                <a:cubicBezTo>
                  <a:pt x="4125" y="945"/>
                  <a:pt x="4363" y="1083"/>
                  <a:pt x="4669" y="1271"/>
                </a:cubicBezTo>
                <a:cubicBezTo>
                  <a:pt x="4975" y="1459"/>
                  <a:pt x="5258" y="1745"/>
                  <a:pt x="5435" y="1944"/>
                </a:cubicBezTo>
                <a:cubicBezTo>
                  <a:pt x="5612" y="2143"/>
                  <a:pt x="5652" y="2204"/>
                  <a:pt x="5703" y="2282"/>
                </a:cubicBezTo>
                <a:cubicBezTo>
                  <a:pt x="5754" y="2360"/>
                  <a:pt x="5736" y="2369"/>
                  <a:pt x="5738" y="2410"/>
                </a:cubicBezTo>
                <a:cubicBezTo>
                  <a:pt x="5761" y="2445"/>
                  <a:pt x="5719" y="2512"/>
                  <a:pt x="5715" y="2526"/>
                </a:cubicBezTo>
                <a:cubicBezTo>
                  <a:pt x="5711" y="2540"/>
                  <a:pt x="5716" y="2505"/>
                  <a:pt x="5715" y="2497"/>
                </a:cubicBezTo>
                <a:lnTo>
                  <a:pt x="5709" y="2480"/>
                </a:lnTo>
                <a:lnTo>
                  <a:pt x="5716" y="0"/>
                </a:lnTo>
                <a:lnTo>
                  <a:pt x="0" y="0"/>
                </a:lnTo>
                <a:lnTo>
                  <a:pt x="0" y="1043"/>
                </a:lnTo>
                <a:cubicBezTo>
                  <a:pt x="0" y="1043"/>
                  <a:pt x="455" y="861"/>
                  <a:pt x="682" y="798"/>
                </a:cubicBezTo>
                <a:cubicBezTo>
                  <a:pt x="906" y="736"/>
                  <a:pt x="1251" y="682"/>
                  <a:pt x="1360" y="663"/>
                </a:cubicBezTo>
              </a:path>
            </a:pathLst>
          </a:custGeom>
          <a:gradFill rotWithShape="0">
            <a:gsLst>
              <a:gs pos="0">
                <a:srgbClr val="58a252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6480" y="0"/>
            <a:ext cx="9150480" cy="6859440"/>
            <a:chOff x="-6480" y="0"/>
            <a:chExt cx="9150480" cy="6859440"/>
          </a:xfrm>
        </p:grpSpPr>
        <p:sp>
          <p:nvSpPr>
            <p:cNvPr id="52" name=""/>
            <p:cNvSpPr/>
            <p:nvPr/>
          </p:nvSpPr>
          <p:spPr>
            <a:xfrm>
              <a:off x="3636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224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8032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606400"/>
            <a:ext cx="734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2349360"/>
            <a:ext cx="1224000" cy="1295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1125360"/>
            <a:ext cx="792000" cy="790920"/>
          </a:xfrm>
          <a:prstGeom prst="ellipse">
            <a:avLst/>
          </a:prstGeom>
          <a:gradFill rotWithShape="0">
            <a:gsLst>
              <a:gs pos="0">
                <a:srgbClr val="2c95a0"/>
              </a:gs>
              <a:gs pos="100000">
                <a:srgbClr val="14444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836640"/>
            <a:ext cx="504720" cy="504720"/>
          </a:xfrm>
          <a:prstGeom prst="ellipse">
            <a:avLst/>
          </a:prstGeom>
          <a:gradFill rotWithShape="0">
            <a:gsLst>
              <a:gs pos="0">
                <a:srgbClr val="58a252"/>
              </a:gs>
              <a:gs pos="100000">
                <a:srgbClr val="284a2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1197000"/>
            <a:ext cx="360360" cy="358920"/>
          </a:xfrm>
          <a:prstGeom prst="ellipse">
            <a:avLst/>
          </a:prstGeom>
          <a:gradFill rotWithShape="0">
            <a:gsLst>
              <a:gs pos="0">
                <a:srgbClr val="5a7cc0"/>
              </a:gs>
              <a:gs pos="100000">
                <a:srgbClr val="29395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72eca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72eca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登泰山观日出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7201080" cy="3571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16200" y="352440"/>
            <a:ext cx="47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沪教版五年级语文下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8101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137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351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791352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09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42472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2000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</a:rPr>
              <a:t>我目不转睛地望着天边。一会儿，那淡红色加深了，范围越来越大，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Verdana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</a:rPr>
              <a:t>。这时，东方的天空发红了，在重重叠叠的峰峦的最东端，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</a:rPr>
              <a:t>。就在这一刹那间，那红绸帷幕似的天边拉开了一角，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Verdana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</a:rPr>
              <a:t>，并且努力地上升着，变成一个半圆形，而且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</a:rPr>
              <a:t>。我的眼睛被这强光刺激着，微微感到疼痛，可我仍然盯住它，就像怕它跑掉似的。那半圆形不断上升，越来越圆，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8000"/>
                </a:solidFill>
                <a:latin typeface="Verdana"/>
              </a:rPr>
              <a:t>读了短文，我感受到泰山十分</a:t>
            </a:r>
            <a:r>
              <a:rPr b="0" i="1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     </a:t>
            </a:r>
            <a:r>
              <a:rPr b="0" i="1" lang="zh-CN" sz="2800" spc="-1" strike="noStrike">
                <a:solidFill>
                  <a:srgbClr val="008000"/>
                </a:solidFill>
                <a:latin typeface="Verdana"/>
              </a:rPr>
              <a:t>，作者登泰山虽然很</a:t>
            </a:r>
            <a:r>
              <a:rPr b="0" i="1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  </a:t>
            </a:r>
            <a:r>
              <a:rPr b="0" i="1" lang="zh-CN" sz="2800" spc="-1" strike="noStrike">
                <a:solidFill>
                  <a:srgbClr val="008000"/>
                </a:solidFill>
                <a:latin typeface="Verdana"/>
              </a:rPr>
              <a:t>，但很</a:t>
            </a:r>
            <a:r>
              <a:rPr b="0" i="1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         </a:t>
            </a:r>
            <a:r>
              <a:rPr b="0" i="1" lang="zh-CN" sz="2800" spc="-1" strike="noStrike">
                <a:solidFill>
                  <a:srgbClr val="008000"/>
                </a:solidFill>
                <a:latin typeface="Verdana"/>
              </a:rPr>
              <a:t> ；作者观日出时很</a:t>
            </a:r>
            <a:r>
              <a:rPr b="0" i="1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      </a:t>
            </a:r>
            <a:r>
              <a:rPr b="0" i="1" lang="zh-CN" sz="2800" spc="-1" strike="noStrike">
                <a:solidFill>
                  <a:srgbClr val="008000"/>
                </a:solidFill>
                <a:latin typeface="Verdana"/>
              </a:rPr>
              <a:t> ，看到的日出很</a:t>
            </a:r>
            <a:r>
              <a:rPr b="0" i="1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        </a:t>
            </a:r>
            <a:r>
              <a:rPr b="0" i="1" lang="zh-CN" sz="2800" spc="-1" strike="noStrike">
                <a:solidFill>
                  <a:srgbClr val="008000"/>
                </a:solidFill>
                <a:latin typeface="Verdana"/>
              </a:rPr>
              <a:t>，也很</a:t>
            </a:r>
            <a:r>
              <a:rPr b="0" i="1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            </a:t>
            </a:r>
            <a:r>
              <a:rPr b="0" i="1" lang="zh-CN" sz="2800" spc="-1" strike="noStrike">
                <a:solidFill>
                  <a:srgbClr val="008000"/>
                </a:solidFill>
                <a:latin typeface="Verdana"/>
              </a:rPr>
              <a:t> 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1207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整体感知课文、理清课文脉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50440" y="1654200"/>
            <a:ext cx="777708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作者按时间、地点的变化写出自己的所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、所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。文中表示时间变化的词语是：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、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、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；表示地点转移的词语有：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、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、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、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Verdana"/>
              </a:rPr>
              <a:t>     </a:t>
            </a: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Verdana"/>
              </a:rPr>
              <a:t>1.</a:t>
            </a:r>
            <a:r>
              <a:rPr b="0" lang="zh-CN" sz="4000" spc="-1" strike="noStrike">
                <a:solidFill>
                  <a:srgbClr val="008000"/>
                </a:solidFill>
                <a:latin typeface="Verdana"/>
              </a:rPr>
              <a:t>依据课题，把课文分成两个部分。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Verdana"/>
              </a:rPr>
              <a:t>2.</a:t>
            </a:r>
            <a:r>
              <a:rPr b="0" lang="zh-CN" sz="3200" spc="-1" strike="noStrike">
                <a:solidFill>
                  <a:srgbClr val="ff0066"/>
                </a:solidFill>
                <a:latin typeface="Verdana"/>
              </a:rPr>
              <a:t>请分别用一个词语概括你读了“登泰山”和“观日出”这两部分内容之后的感受。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我站在亭前向下俯视，虽有浓浓的云雾笼罩着，但山势依稀可辨，有的如马鞍俯卧，有的如驼峰耸立。云雾不断地扩展着，飘动着，升腾着，有的像雪白的棉絮层层叠叠地飘落在山峰中间，有的像长长的绸带悬在空中，有的撞碎在山崖上，像涨潮时的海水在岸边溅起无数朵白色的浪花。这时，我才发现自己的四周竟是一片云海。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016000" y="3933720"/>
            <a:ext cx="7128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229600" cy="2765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996633"/>
                </a:solidFill>
                <a:latin typeface="Verdana"/>
              </a:rPr>
              <a:t>我站在亭前向下俯视，虽有浓浓的云雾笼罩着，但山势依稀可辨，有的如</a:t>
            </a:r>
            <a:r>
              <a:rPr b="0" i="1" lang="zh-CN" sz="2800" spc="-1" strike="noStrike" u="sng">
                <a:solidFill>
                  <a:srgbClr val="996633"/>
                </a:solidFill>
                <a:uFillTx/>
                <a:latin typeface="Verdana"/>
              </a:rPr>
              <a:t>     </a:t>
            </a:r>
            <a:r>
              <a:rPr b="0" i="1" lang="zh-CN" sz="2800" spc="-1" strike="noStrike">
                <a:solidFill>
                  <a:srgbClr val="996633"/>
                </a:solidFill>
                <a:latin typeface="Verdana"/>
              </a:rPr>
              <a:t>，有的如</a:t>
            </a:r>
            <a:r>
              <a:rPr b="0" i="1" lang="zh-CN" sz="2800" spc="-1" strike="noStrike" u="sng">
                <a:solidFill>
                  <a:srgbClr val="996633"/>
                </a:solidFill>
                <a:uFillTx/>
                <a:latin typeface="Verdana"/>
              </a:rPr>
              <a:t>     </a:t>
            </a:r>
            <a:r>
              <a:rPr b="0" i="1" lang="zh-CN" sz="2800" spc="-1" strike="noStrike">
                <a:solidFill>
                  <a:srgbClr val="996633"/>
                </a:solidFill>
                <a:latin typeface="Verdana"/>
              </a:rPr>
              <a:t>。云雾不断地扩展着，飘动着，升腾着，有的像</a:t>
            </a:r>
            <a:r>
              <a:rPr b="0" i="1" lang="zh-CN" sz="2800" spc="-1" strike="noStrike" u="sng">
                <a:solidFill>
                  <a:srgbClr val="996633"/>
                </a:solidFill>
                <a:uFillTx/>
                <a:latin typeface="Verdana"/>
              </a:rPr>
              <a:t>        </a:t>
            </a:r>
            <a:r>
              <a:rPr b="0" i="1" lang="zh-CN" sz="2800" spc="-1" strike="noStrike">
                <a:solidFill>
                  <a:srgbClr val="996633"/>
                </a:solidFill>
                <a:latin typeface="Verdana"/>
              </a:rPr>
              <a:t>，有的像</a:t>
            </a:r>
            <a:r>
              <a:rPr b="0" i="1" lang="zh-CN" sz="2800" spc="-1" strike="noStrike" u="sng">
                <a:solidFill>
                  <a:srgbClr val="996633"/>
                </a:solidFill>
                <a:uFillTx/>
                <a:latin typeface="Verdana"/>
              </a:rPr>
              <a:t>     </a:t>
            </a:r>
            <a:r>
              <a:rPr b="0" i="1" lang="zh-CN" sz="2800" spc="-1" strike="noStrike">
                <a:solidFill>
                  <a:srgbClr val="996633"/>
                </a:solidFill>
                <a:latin typeface="Verdana"/>
              </a:rPr>
              <a:t> ，有的撞碎在山崖上，</a:t>
            </a:r>
            <a:r>
              <a:rPr b="0" i="1" lang="zh-CN" sz="2800" spc="-1" strike="noStrike" u="sng">
                <a:solidFill>
                  <a:srgbClr val="996633"/>
                </a:solidFill>
                <a:uFillTx/>
                <a:latin typeface="Verdana"/>
              </a:rPr>
              <a:t>                   </a:t>
            </a:r>
            <a:r>
              <a:rPr b="0" i="1" lang="zh-CN" sz="2800" spc="-1" strike="noStrike">
                <a:solidFill>
                  <a:srgbClr val="996633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492360" y="3933720"/>
            <a:ext cx="38577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8229600" cy="25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Verdana"/>
              </a:rPr>
              <a:t>猛抬头一看，南天门正在头顶上，路面宽一丈，像一张瀑布从峭壁上直落而下。我扶住路边的铁栏杆，沿着窄窄的石板砌成的台阶，艰难地向上攀登着。爬了几十级台阶，我实在累得不行，就坐下来休息。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67154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590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Verdana"/>
              </a:rPr>
              <a:t>           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</a:rPr>
              <a:t>我目不转睛地望着这一切。一会儿，那淡红色加深了，范围越来越大，把邻近的云也照得发亮。这时，东方的天空发红了，在重重叠叠的峰峦的最东端，红得最浓、最艳，好像正燃烧着大火，而且在蔓延扩大。就在这一刹那间，那红绸帷幕似的天边拉开了一角，出现了太阳的一条弧形的边，并且努力地上升着，变成一个半圆形，而且放着强烈的光，把周围的红绸帷幕撕得粉碎。我的眼睛被这强光刺激着，微微感到疼痛，可我仍然盯住它，就像怕它跑掉似的。那半圆形不断上升，越来越圆，像一个火球在天边跳动着，最后终于挣脱了地面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7:04:22Z</dcterms:created>
  <dc:creator/>
  <dc:description/>
  <dc:language>en-US</dc:language>
  <cp:lastModifiedBy>雨林木风</cp:lastModifiedBy>
  <dcterms:modified xsi:type="dcterms:W3CDTF">2014-02-21T18:40:52Z</dcterms:modified>
  <cp:revision>0</cp:revision>
  <dc:subject/>
  <dc:title/>
</cp:coreProperties>
</file>