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4.jpeg" ContentType="image/jpeg"/>
  <Override PartName="/ppt/media/image9.jpeg" ContentType="image/jpeg"/>
  <Override PartName="/ppt/media/image13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chimes.wav" ContentType="audio/x-wav"/>
  <Override PartName="/ppt/media/image16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689-9ADA-4D31-B56E-196C4FCF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728-67E5-4AA7-A633-02297302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462-D42C-4153-8C6E-10575B7A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0DA-6164-4062-A3DC-D82FCFDD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B37D-B45E-43FD-9083-9AF99F13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7BFC-255B-40B8-A50A-029A32EA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14D5-DA3B-4C8D-A29B-1317CD8F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8D2F-E9AE-4715-AC50-899DB7B3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77A2-1807-4225-BD1C-BEC7E947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DF88-0EAE-4BE9-B3D5-B82C92C2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214E-0668-41D7-B0AE-3E889449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629-6E5D-4467-ADB9-D7CBE67C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1B71-BC70-42AA-A359-F3A5A959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0FCB-DC0A-44A7-9B92-4D09906A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2921-FEDB-4B4F-8774-5D37A725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8216-C432-4B29-B7F2-46363E9C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2D98-1073-4713-AC67-624DF674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ABE78-9D62-4800-83B9-1CD3CA65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D4A52-1175-4801-995F-45CF9AFF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E5520-CA69-47FA-8232-6F8544AD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E13EF-0707-4A0E-A4BB-91F2B8A0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BC77A-1843-4F2B-B494-F6AB27C5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30B-3C56-4056-A5E8-D0C59586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48481-7B4E-43AF-ADAF-C6B003B2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4B9D8-2133-4C8F-BD07-A292EF90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88E93-58F6-4A34-95C4-17B0655C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4518E-34A7-4F38-8C9E-8E1105EE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3E8E8-E1A5-4333-A420-AC68C517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76808-AAC2-462A-9377-47B3A5EA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D770D-94CF-4D5E-834E-CA335C28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73DE7-E57E-4AB1-A0D6-7DF7B2B7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C729F-3920-41BD-B21E-4572987F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2752-0FF6-41C8-B4C0-85BF32E1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797-F388-44A8-B0D5-4B5A1230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980EA-75A1-4C87-8FAD-8F3DD0DF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C665B-8ECD-4786-922B-B15E63CD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407B-AE4B-4C7E-AC60-6CE35386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95F0-D140-4312-9A1A-8580F10E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5B0CC-4F44-40F0-887A-D156B43E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1C06-C345-4526-8484-62CD20C0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44CC6-B567-41E7-B88C-DEB16070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CF83-4CEE-4C85-BF10-779294DA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297D-3A44-4C3A-BD73-B0821729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1FF-C20C-4AB2-ACA7-8CF8DFC3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629-DB26-434D-9CB9-2B33E7C3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AAB-42CD-4F24-A661-D621E976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03C-68DD-493A-B4DF-A179426F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FFC-36AF-4970-821E-722185FD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360D-1187-4855-A80A-495AD6E38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569A-690E-46D5-9FA4-50829568E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88EE-3E37-4A04-99CC-7068017CD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5B2D-7019-4A9D-A55B-05021D70E7D8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20070921_77ce8e880a6fbf888e96mza5vhS5t59l_jpg_thumb"/>
          <p:cNvPicPr/>
          <p:nvPr/>
        </p:nvPicPr>
        <p:blipFill>
          <a:blip r:embed="rId1"/>
          <a:srcRect l="758" t="0" r="1909" b="0"/>
          <a:stretch/>
        </p:blipFill>
        <p:spPr>
          <a:xfrm>
            <a:off x="-3240" y="0"/>
            <a:ext cx="9147240" cy="69105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5"/>
          <p:cNvSpPr txBox="1"/>
          <p:nvPr/>
        </p:nvSpPr>
        <p:spPr>
          <a:xfrm>
            <a:off x="468360" y="1628640"/>
            <a:ext cx="7924680" cy="27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泉映月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24000" y="4581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二泉映月：指二泉与月光相互映照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1f03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771f03"/>
                </a:solidFill>
                <a:latin typeface="Arial"/>
              </a:rPr>
              <a:t>文中有不少地方在写“二泉映月”这一道美景，请大家快速浏览课文，找出其中的语句或词语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6012000" y="1197000"/>
            <a:ext cx="272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无锡的惠山，树木葱茏，藤萝摇曳。山脚下有一泓清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称“天下第二泉”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2004329163216544"/>
          <p:cNvPicPr/>
          <p:nvPr/>
        </p:nvPicPr>
        <p:blipFill>
          <a:blip r:embed="rId1"/>
          <a:stretch/>
        </p:blipFill>
        <p:spPr>
          <a:xfrm>
            <a:off x="395280" y="476280"/>
            <a:ext cx="525636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11" descr="HD[TVBR3FNH)22DA~KA26U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C:\Users\dell\AppData\Roaming\Tencent\Users\712326765\QQ\WinTemp\RichOle\BEHJ{VQQ]K}{EPAAG1VG_2N.png"/>
          <p:cNvPicPr/>
          <p:nvPr/>
        </p:nvPicPr>
        <p:blipFill>
          <a:blip r:embed="rId1"/>
          <a:stretch/>
        </p:blipFill>
        <p:spPr>
          <a:xfrm>
            <a:off x="357120" y="642960"/>
            <a:ext cx="3828960" cy="5896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C:\Users\dell\AppData\Roaming\Tencent\Users\712326765\QQ\WinTemp\RichOle\7X{J`N@3L647$LY7{YOFUWD.png"/>
          <p:cNvPicPr/>
          <p:nvPr/>
        </p:nvPicPr>
        <p:blipFill>
          <a:blip r:embed="rId2"/>
          <a:stretch/>
        </p:blipFill>
        <p:spPr>
          <a:xfrm>
            <a:off x="4786200" y="3786120"/>
            <a:ext cx="4105440" cy="2590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C:\Users\dell\AppData\Roaming\Tencent\Users\712326765\QQ\WinTemp\RichOle\%LX4TMN4_NWCDI@[[HQWY9R.png"/>
          <p:cNvPicPr/>
          <p:nvPr/>
        </p:nvPicPr>
        <p:blipFill>
          <a:blip r:embed="rId3"/>
          <a:stretch/>
        </p:blipFill>
        <p:spPr>
          <a:xfrm>
            <a:off x="4643280" y="785880"/>
            <a:ext cx="403884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20070921_77ce8e880a6fbf888e96mza5vhS5t59l_jpg_thumb"/>
          <p:cNvPicPr/>
          <p:nvPr/>
        </p:nvPicPr>
        <p:blipFill>
          <a:blip r:embed="rId1">
            <a:lum bright="-30000"/>
          </a:blip>
          <a:srcRect l="758" t="0" r="1909" b="0"/>
          <a:stretch/>
        </p:blipFill>
        <p:spPr>
          <a:xfrm>
            <a:off x="-3240" y="0"/>
            <a:ext cx="9147240" cy="69105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395280" y="548640"/>
            <a:ext cx="802800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树木葱茏        藤萝摇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泓清泉        蜿蜒而来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淙淙流水       缓缓流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茫茫月夜        月光如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光似水        静影沉璧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光照水        水波映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405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学习目标二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771f03"/>
                </a:solidFill>
                <a:latin typeface="Arial"/>
              </a:rPr>
              <a:t>认真默读课文第二、四自然段，说说你从这两段话中能读出“一样的”是什么？“不一样”的是什么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771f03"/>
                </a:solidFill>
                <a:latin typeface="Arial"/>
              </a:rPr>
              <a:t>如今阿炳听着这淙淙的流水声，他想到了什么？似乎又听到了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1042920" y="719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c0c"/>
                </a:solidFill>
                <a:latin typeface="Tahoma"/>
              </a:rPr>
              <a:t>他想起了师父说过的话，想到自己坎坷的经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6"/>
          <p:cNvSpPr/>
          <p:nvPr/>
        </p:nvSpPr>
        <p:spPr>
          <a:xfrm>
            <a:off x="900000" y="1052640"/>
            <a:ext cx="43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971640" y="1125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755640" y="1268280"/>
            <a:ext cx="4176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d3c"/>
                </a:solidFill>
                <a:latin typeface="Tahoma"/>
              </a:rPr>
              <a:t>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003d3c"/>
                </a:solidFill>
                <a:latin typeface="Tahoma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光似水，静影沉璧，但阿炳再也看不见了。只有那淙淙的流水声萦绕在他的耳畔。他想起了师父说过的话，想到了自己坎坷的经历。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6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1833840" y="2133720"/>
            <a:ext cx="548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师父离世   双目失明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卖艺度日 生活穷困  疾病折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听完这首曲子你的感受是什么？跟我们交流一下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光似水，静影沉璧，但阿炳再也看不见了。只有那淙淙的流水声萦绕在他的耳畔。他想起了师父说过的话，想到了自己坎坷的经历。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9" name="Picture 3" descr="图片1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468360" y="1855800"/>
            <a:ext cx="8281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十多年过去了，师父早已离开人世，阿炳也因患眼疾而双目失明。他整天戴着墨镜，操着胡琴，卖艺度日。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324000" y="549360"/>
            <a:ext cx="109360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那是一个雪花飘飞的午后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阿炳为一帮酒足饭饱的商贩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曲子，得到的两个铜板却丢在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了破碗外，阿炳赶紧伸出瘦骨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嶙峋的手，颤抖地摸着，最终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一无所获！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摘自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阿炳曲集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光似水，静影沉璧，但阿炳再也看不见了。只有那淙淙的流水声萦绕在他的耳畔。他想起了师父说过的话，想到了自己坎坷的经历。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6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是一个烈日炎炎的夏天</a:t>
            </a:r>
            <a:r>
              <a:rPr b="1" lang="en-US" sz="4800" spc="-1" strike="noStrike">
                <a:solidFill>
                  <a:srgbClr val="ffff00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是一个大雨如注的黄昏</a:t>
            </a:r>
            <a:r>
              <a:rPr b="1" lang="en-US" sz="4800" spc="-1" strike="noStrike">
                <a:solidFill>
                  <a:srgbClr val="ffff00"/>
                </a:solidFill>
                <a:latin typeface="宋体"/>
              </a:rPr>
              <a:t>……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 </a:t>
            </a:r>
            <a:br>
              <a:rPr sz="2800"/>
            </a:b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是一次身患重病的时候</a:t>
            </a:r>
            <a:r>
              <a:rPr b="1" lang="en-US" sz="4800" spc="-1" strike="noStrike">
                <a:solidFill>
                  <a:srgbClr val="ffff00"/>
                </a:solidFill>
                <a:latin typeface="宋体"/>
              </a:rPr>
              <a:t>……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是</a:t>
            </a:r>
            <a:r>
              <a:rPr b="1" lang="en-US" sz="4800" spc="-1" strike="noStrike">
                <a:solidFill>
                  <a:srgbClr val="ffff00"/>
                </a:solidFill>
                <a:latin typeface="宋体"/>
              </a:rPr>
              <a:t>……</a:t>
            </a:r>
            <a:r>
              <a:rPr b="0" lang="en-US" sz="4400" spc="-1" strike="noStrike">
                <a:solidFill>
                  <a:srgbClr val="007a77"/>
                </a:solidFill>
                <a:latin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619280" y="112536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阿炳的四季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4000" y="514080"/>
            <a:ext cx="83628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8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春天，春暖花开，小草在风中哀伤地摇动着，坐在小道旁的阿炳操着胡琴，演奏出流水似的美妙音乐，乐声从指尖静静地倾泻出来，略带着一丝淡淡的忧愁。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一件灰色的破棉衣仍然穿在身上，不知有多少个春夏秋冬了，鞋子早已磨破，只剩下了两个棉花团。衣服虽然破烂，但是却还是干净的，阿炳的眼睛是瞎了，可是心里却也向往光明，向往着过幸福的生活。听他曲子的人不多，二三个人听完以后，便把一二个铜子往地上一丢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叮当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难道这就是对阿炳那高尚事业的回报？也许是吧！那时一个卖艺的是社会底层的人啊！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夏天，炎热的天气让人烦躁，听曲子的人也会对阿炳冷嘲热讽。阿炳衣服里的棉花被妻子拉了出来，成了一件夏装。此时他正不骄不躁地拉着二胡，突然一个大汉走到他面前，喊到：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喂，老头儿，给爷拉两段。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随手把一个铜板丢到地上，阿炳拉了起来，大汉瞄了一眼：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哦，原来是阿炳啊！你怎么还没死掉啊！哈哈！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阿炳默默地忍受着这一切，几天来常常发生这种事。</a:t>
            </a:r>
            <a:br>
              <a:rPr sz="2400"/>
            </a:b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秋天阿炳同样反复地拉着琴，只是街上的落叶多了，冷风把落叶吹得来回飘荡，卷到了阿炳身上。</a:t>
            </a:r>
            <a:br>
              <a:rPr sz="4800"/>
            </a:b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冬天，阿炳的生活格外艰难，冷风呼呼地吹着，身上的衣服根本不足以挡住寒冷。阿炳的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双手被冻得发紫，但他好像不知道依旧拉着。街上的冷风把人们赶回家中，这里的人少多了，人们更不愿意在街上站半天，去听二胡曲子。这就意味着阿炳和妻子又吃不饱饭了，冬天对于阿炳夫妇来说是没法想像的苦境。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　　阿炳重复着那样的艰苦生活，他在拼命支撑着，坚持着他喜爱的音乐。</a:t>
            </a:r>
            <a:r>
              <a:rPr b="0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2" name="Picture 3" descr="0bb33adc51a5a9fd8d1029c8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2057400" y="426600"/>
            <a:ext cx="658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痛丧师父   孤苦无依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降横祸   双目失明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卖艺度日   生活穷困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疾病折磨   苦苦凄凄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光似水，静影沉璧，但阿炳再也看不见了。只有那淙淙的流水声萦绕在他的耳畔。他想起了师父说过的话，想到了自己坎坷的经历。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6" name="Picture 3" descr="图片1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250920" y="2666160"/>
            <a:ext cx="8569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但是生活的穷困和疾病的折磨，泯灭不了阿炳对音乐的热爱和对光明的向往。他多么希望有一天能过上安定幸福的生活啊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395280" y="333360"/>
            <a:ext cx="8748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渐渐地，渐渐地，他似乎听到了深沉的叹息，伤心的哭泣，激愤的倾诉，倔强的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呐喊</a:t>
            </a:r>
            <a:r>
              <a:rPr b="1" lang="en-US" sz="5400" spc="-1" strike="noStrike">
                <a:solidFill>
                  <a:srgbClr val="ffffff"/>
                </a:solidFill>
                <a:latin typeface="宋体"/>
                <a:ea typeface="楷体_GB2312"/>
              </a:rPr>
              <a:t>…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395280" y="115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当时的阿炳是怎么做的呢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24000" y="765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听着，听着，阿炳的心颤抖起来。他禁不住拿起二胡，他要通过琴声把积淀已久的情怀，倾吐给这茫茫月夜。他的手指在琴弦上不停地滑动着，流水、月光都变成了一个个动人的音符，从琴弦上流泻出来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95280" y="1628640"/>
            <a:ext cx="83059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由朗读课文第五自然段，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黑体"/>
              </a:rPr>
              <a:t>“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黑体"/>
              </a:rPr>
              <a:t>——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画出表现琴声特点的句子，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～～～～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画出表现琴声所抒发的丰富内涵的语句，并通过朗读体会其中的意境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2"/>
          <p:cNvGraphicFramePr/>
          <p:nvPr/>
        </p:nvGraphicFramePr>
        <p:xfrm>
          <a:off x="457200" y="0"/>
          <a:ext cx="8147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147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阿炳 - 二泉映月.mp3" descr=""/>
          <p:cNvPicPr/>
          <p:nvPr/>
        </p:nvPicPr>
        <p:blipFill>
          <a:blip r:embed="rId3"/>
          <a:stretch/>
        </p:blipFill>
        <p:spPr>
          <a:xfrm>
            <a:off x="529272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379983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光似水，静影沉璧，但阿炳再也看不见了。只有那淙淙的流水声萦绕在他的耳畔。他想起了师父说过的话，想到了自己坎坷的经历。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9" name="Picture 3" descr="图片1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4"/>
          <p:cNvSpPr/>
          <p:nvPr/>
        </p:nvSpPr>
        <p:spPr>
          <a:xfrm>
            <a:off x="1332000" y="2194560"/>
            <a:ext cx="80661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起初，琴声委婉连绵，有如山泉从山谷中蜿蜒而来，缓缓流淌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随着旋律的升腾跌宕，步步高昂，乐曲进入了高潮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月光照水，水波映月，乐曲久久地在二泉池畔回响，舒缓而又起伏，恬静而又激荡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79280" y="907920"/>
            <a:ext cx="129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250920" y="227664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高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250920" y="3789360"/>
            <a:ext cx="115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尾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20070921_77ce8e880a6fbf888e96mza5vhS5t59l_jpg_thumb"/>
          <p:cNvPicPr/>
          <p:nvPr/>
        </p:nvPicPr>
        <p:blipFill>
          <a:blip r:embed="rId1">
            <a:lum bright="-6000"/>
          </a:blip>
          <a:srcRect l="758" t="0" r="1909" b="0"/>
          <a:stretch/>
        </p:blipFill>
        <p:spPr>
          <a:xfrm>
            <a:off x="-3240" y="0"/>
            <a:ext cx="9147240" cy="6910560"/>
          </a:xfrm>
          <a:prstGeom prst="rect">
            <a:avLst/>
          </a:prstGeom>
          <a:ln w="0">
            <a:noFill/>
          </a:ln>
        </p:spPr>
      </p:pic>
      <p:pic>
        <p:nvPicPr>
          <p:cNvPr id="265" name="二泉映月2.mp3" descr=""/>
          <p:cNvPicPr/>
          <p:nvPr/>
        </p:nvPicPr>
        <p:blipFill>
          <a:blip r:embed="rId2"/>
          <a:stretch/>
        </p:blipFill>
        <p:spPr>
          <a:xfrm>
            <a:off x="90000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图片1"/>
          <p:cNvPicPr/>
          <p:nvPr/>
        </p:nvPicPr>
        <p:blipFill>
          <a:blip r:embed="rId3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79280" y="260280"/>
            <a:ext cx="129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50920" y="2060640"/>
            <a:ext cx="1224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高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50920" y="3789360"/>
            <a:ext cx="1152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尾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773720" y="26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委婉连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2153160" y="1871640"/>
            <a:ext cx="26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升腾跌宕  步步高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2894760" y="3860640"/>
            <a:ext cx="38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舒缓而又起伏   恬静而又激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20070921_77ce8e880a6fbf888e96mza5vhS5t59l_jpg_thumb"/>
          <p:cNvPicPr/>
          <p:nvPr/>
        </p:nvPicPr>
        <p:blipFill>
          <a:blip r:embed="rId1">
            <a:lum bright="-6000"/>
          </a:blip>
          <a:srcRect l="758" t="0" r="1909" b="0"/>
          <a:stretch/>
        </p:blipFill>
        <p:spPr>
          <a:xfrm>
            <a:off x="-3240" y="0"/>
            <a:ext cx="9147240" cy="6910560"/>
          </a:xfrm>
          <a:prstGeom prst="rect">
            <a:avLst/>
          </a:prstGeom>
          <a:ln w="0">
            <a:noFill/>
          </a:ln>
        </p:spPr>
      </p:pic>
      <p:pic>
        <p:nvPicPr>
          <p:cNvPr id="274" name="二泉映月2.mp3" descr=""/>
          <p:cNvPicPr/>
          <p:nvPr/>
        </p:nvPicPr>
        <p:blipFill>
          <a:blip r:embed="rId2"/>
          <a:stretch/>
        </p:blipFill>
        <p:spPr>
          <a:xfrm>
            <a:off x="90000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图片1"/>
          <p:cNvPicPr/>
          <p:nvPr/>
        </p:nvPicPr>
        <p:blipFill>
          <a:blip r:embed="rId3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179280" y="260280"/>
            <a:ext cx="129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250920" y="2060640"/>
            <a:ext cx="1224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高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50920" y="3789360"/>
            <a:ext cx="1152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尾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1773720" y="26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委婉连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2153160" y="1871640"/>
            <a:ext cx="26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升腾跌宕  步步高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2894760" y="3860640"/>
            <a:ext cx="38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舒缓而又起伏   恬静而又激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250920" y="260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这似乎是阿炳在赞叹惠山二泉的优美景色，在怀念对他恩重如山的师父，在思索自己走过的人生道路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25092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它以势不可当的力量，表达出对命运的抗争，抒发了对美好未来的无限向往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0" y="4724280"/>
            <a:ext cx="94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阿炳用这动人心弦的琴声告诉人们，他爱那支撑他度过苦难一生的音乐，他爱那美丽富饶的家乡，他爱那惠山的清泉，他爱那照耀清泉的月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20070921_77ce8e880a6fbf888e96mza5vhS5t59l_jpg_thumb"/>
          <p:cNvPicPr/>
          <p:nvPr/>
        </p:nvPicPr>
        <p:blipFill>
          <a:blip r:embed="rId1">
            <a:lum bright="-6000"/>
          </a:blip>
          <a:srcRect l="758" t="0" r="1909" b="0"/>
          <a:stretch/>
        </p:blipFill>
        <p:spPr>
          <a:xfrm>
            <a:off x="-3240" y="0"/>
            <a:ext cx="9147240" cy="69105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"/>
          <p:cNvSpPr/>
          <p:nvPr/>
        </p:nvSpPr>
        <p:spPr>
          <a:xfrm>
            <a:off x="609480" y="1976760"/>
            <a:ext cx="75438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似乎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优美的景色、慈祥的师父、苦难的记忆都随着这琴声流淌出来，这就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爱、恨、情、仇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20070921_77ce8e880a6fbf888e96mza5vhS5t59l_jpg_thumb"/>
          <p:cNvPicPr/>
          <p:nvPr/>
        </p:nvPicPr>
        <p:blipFill>
          <a:blip r:embed="rId1">
            <a:lum bright="-6000"/>
          </a:blip>
          <a:srcRect l="758" t="0" r="1909" b="0"/>
          <a:stretch/>
        </p:blipFill>
        <p:spPr>
          <a:xfrm>
            <a:off x="-3240" y="0"/>
            <a:ext cx="9147240" cy="69105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609480" y="211284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它以势不可当的力量，表达出对命运的抗争，抒发了对美好未来的无限向往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阿炳敢对命运说“不”，永不放弃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611280" y="3452400"/>
            <a:ext cx="78501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表达了他对美好未来的无比渴望和无限向往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0070921_77ce8e880a6fbf888e96mza5vhS5t59l_jpg_thumb"/>
          <p:cNvPicPr/>
          <p:nvPr/>
        </p:nvPicPr>
        <p:blipFill>
          <a:blip r:embed="rId1">
            <a:lum bright="-6000"/>
          </a:blip>
          <a:srcRect l="758" t="0" r="1909" b="0"/>
          <a:stretch/>
        </p:blipFill>
        <p:spPr>
          <a:xfrm>
            <a:off x="-3240" y="0"/>
            <a:ext cx="9147240" cy="6910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611280" y="2081160"/>
            <a:ext cx="799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阿炳用这动人心弦的琴声告诉人们，他爱那支撑他度过苦难一生的音乐，他爱那美丽富饶的家乡，他爱那惠山的清泉，他爱那照耀清泉的月光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468360" y="3716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表达了阿炳热爱生活，热爱家乡，热爱大自然的感情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94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>
            <a:off x="-1440" y="189000"/>
            <a:ext cx="914544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起初，琴声委婉连绵，有如山泉从幽谷中蜿蜒而来，缓缓流淌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这似乎是阿炳在赞叹惠山二泉的优美景色，在怀念对他恩重如山的师父，在思索自己走过的人生道路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随着旋律的升腾跌宕，步步高昂，乐曲进入了高潮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它以势不可当的力量，表达出对命运的抗争，抒发了对美好未来的无限向往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月光照水，水波映月，乐曲久久地在二泉池畔回响，舒缓而又起伏，恬静而又激荡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阿炳用这动人心弦的琴声告诉人们，他爱那支撑他度过苦难一生的音乐，他爱那美丽富饶的家乡，他爱那惠山的清泉，他爱那照耀清泉的月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20070921_77ce8e880a6fbf888e96mza5vhS5t59l_jpg_thumb"/>
          <p:cNvPicPr/>
          <p:nvPr/>
        </p:nvPicPr>
        <p:blipFill>
          <a:blip r:embed="rId1">
            <a:lum bright="-30000"/>
          </a:blip>
          <a:srcRect l="758" t="0" r="1909" b="0"/>
          <a:stretch/>
        </p:blipFill>
        <p:spPr>
          <a:xfrm>
            <a:off x="-3240" y="0"/>
            <a:ext cx="9147240" cy="69105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457200" y="2394720"/>
            <a:ext cx="8381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就这样，一首不朽的乐曲诞生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这就是经后人整理并定名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二泉映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二胡曲。几十年来，这首曲子深受我国人民的喜爱，在国际乐坛上享有盛誉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4800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因为曲子美，感情真，所以深受我国人民的喜爱，在国际乐坛上享有盛誉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2666880" y="5410080"/>
            <a:ext cx="33530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光似水，静影沉璧，但阿炳再也看不见了。只有那淙淙的流水声萦绕在他的耳畔。他想起了师父说过的话，想到了自己坎坷的经历。渐渐地，渐渐地，他似乎听到了深沉的叹息，伤心的哭泣，激愤的倾诉，倔强的呐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2" name="Picture 3" descr="图片1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4"/>
          <p:cNvSpPr/>
          <p:nvPr/>
        </p:nvSpPr>
        <p:spPr>
          <a:xfrm>
            <a:off x="539640" y="2102760"/>
            <a:ext cx="8785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78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年，小泽征尔应邀担任中央乐团的首席指挥，席间他指挥演奏了弦乐合奏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二泉映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》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他感动得热泪盈眶，呢喃地说：“这种音乐只应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跪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下来听。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71280" y="2602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永远的二泉映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看不见黑暗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是因为穿行在黑暗之中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听不见苦难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是因为置身于苦难之中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一把二胡，道尽人世的沧桑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两根细弦，诉尽命运的悲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阿炳啊 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你那把血泪斑斑的胡琴 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凄凉而不绝望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忧愤而不疯狂 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空荡荡的夜色中 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我听到了不屈的抗争 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   触摸到了一颗坚强的灵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习任务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用自己喜欢的方式读课文，整体感知课文内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读准课文中的生字，读通顺课文中的句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从这篇文章中，你“看”到了什么，听出了什么，想到了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9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5"/>
          <p:cNvSpPr/>
          <p:nvPr/>
        </p:nvSpPr>
        <p:spPr>
          <a:xfrm>
            <a:off x="324000" y="260280"/>
            <a:ext cx="842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作业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经典收藏：朗读课文，背诵第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第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自然段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阿炳的一生不仅留下了二胡曲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二泉映月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还留下了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听松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寒春风曲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和亲传的琵琶曲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大浪淘沙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昭君出塞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龙船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课下用心聆听其中的一首，并仿照第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自然段写出自己的感受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2757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我会读：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57360"/>
            <a:ext cx="884232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锡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山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倾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诉         泯灭      发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愤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搀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倔强     呐喊     积淀        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饶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萦绕    乐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静影沉璧   饱经风霜    委婉连绵   升腾跌宕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恩重如山   势不可当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享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有盛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0" name="Picture 3" descr="图片2"/>
            <p:cNvPicPr/>
            <p:nvPr/>
          </p:nvPicPr>
          <p:blipFill>
            <a:blip r:embed="rId1"/>
            <a:stretch/>
          </p:blipFill>
          <p:spPr>
            <a:xfrm>
              <a:off x="0" y="1825560"/>
              <a:ext cx="9144000" cy="50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4" descr="图片1"/>
            <p:cNvPicPr/>
            <p:nvPr/>
          </p:nvPicPr>
          <p:blipFill>
            <a:blip r:embed="rId2"/>
            <a:srcRect l="0" t="0" r="0" b="56999"/>
            <a:stretch/>
          </p:blipFill>
          <p:spPr>
            <a:xfrm>
              <a:off x="0" y="0"/>
              <a:ext cx="9144000" cy="29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Text Box 5"/>
          <p:cNvSpPr/>
          <p:nvPr/>
        </p:nvSpPr>
        <p:spPr>
          <a:xfrm>
            <a:off x="1116000" y="1628640"/>
            <a:ext cx="67690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月光如银　　双目失明　　委婉连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月光似水　   卖艺度日　　 升腾跌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静影沉璧　   经历坎坷        步步高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月光照水　　热爱音乐       舒缓起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水波映月　　向往光明　　恬静激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941760" y="586800"/>
            <a:ext cx="1748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发现词语规律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506600" y="5568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月光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3615480" y="558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阿炳的生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6141240" y="5516640"/>
            <a:ext cx="165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二泉映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旋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1680" y="1557360"/>
            <a:ext cx="884232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锡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山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倾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诉         泯灭      发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愤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搀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倔强     呐喊     积淀        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饶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萦绕    乐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静影沉璧   饱经风霜    委婉连绵   升腾跌宕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恩重如山   势不可当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享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有盛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826920" y="685800"/>
            <a:ext cx="763272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  <a:ea typeface="楷体_GB2312"/>
              </a:rPr>
              <a:t>人称阿炳三不穷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  <a:ea typeface="楷体_GB2312"/>
              </a:rPr>
              <a:t>人穷志不穷（不怕权势），人穷嘴不穷（不吃白食），人穷名不穷（刚直顽强）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文内容我知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734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二泉映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篇课文浓缩了民间音乐家（                     ）的一生，记叙了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                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首名曲的形成过程，再现了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二泉映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丰富内涵，表现了阿炳（                ）、    （                 ）、（                   ）、      （                          ）的精神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578920" y="3357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热爱生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54512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热爱音乐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786560" y="386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追求理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758240" y="4365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敢于同命运抗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1615680" y="234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阿炳艰辛苦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7139520" y="249228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二泉映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0:19:17Z</dcterms:created>
  <dc:creator>user</dc:creator>
  <dc:description/>
  <dc:language>en-US</dc:language>
  <cp:lastModifiedBy>dell</cp:lastModifiedBy>
  <dcterms:modified xsi:type="dcterms:W3CDTF">2016-03-25T03:34:18Z</dcterms:modified>
  <cp:revision>19</cp:revision>
  <dc:subject/>
  <dc:title>幻灯片 1</dc:title>
</cp:coreProperties>
</file>