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type.wav" ContentType="audio/x-wav"/>
  <Override PartName="/ppt/media/image9.png" ContentType="image/png"/>
  <Override PartName="/ppt/media/chimes.wav" ContentType="audio/x-wav"/>
  <Override PartName="/ppt/media/voltage.wav" ContentType="audio/x-wav"/>
  <Override PartName="/ppt/media/image4.png" ContentType="image/png"/>
  <Override PartName="/ppt/media/image8.jpeg" ContentType="image/jpeg"/>
  <Override PartName="/ppt/media/suction.wav" ContentType="audio/x-wav"/>
  <Override PartName="/ppt/media/image11.jpeg" ContentType="image/jpeg"/>
  <Override PartName="/ppt/media/coin.wav" ContentType="audio/x-wav"/>
  <Override PartName="/ppt/media/arrow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click.wav" ContentType="audio/x-wav"/>
  <Override PartName="/ppt/media/image7.png" ContentType="image/png"/>
  <Override PartName="/ppt/media/image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CA5-B664-4127-8F15-CBADCC0E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226-831E-455C-9CF9-31AA5755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F51-F206-4F39-BD66-36D55B75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DD1-87C1-4C10-BDA7-44C4656B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F845-DFA5-4E94-82F5-E169F044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1980-25A0-4EA9-ABDC-F697560A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E05C-D646-40C7-BAE4-885D55BA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BBFD-6802-4BB5-A7DE-8E799681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D350-DE72-40BD-A4FB-4617320D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C990-1D0B-4A5D-B19B-C2299CEE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A6FB-C8F8-4367-8EAD-E08D6CD1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A9A-EE99-4A51-BC4F-17D15C78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9418-5688-41CD-9061-2BF4EDF6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35C4-EC78-4DF8-A4EA-667D825E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5EBA-075B-4A22-993C-7F0B5A5E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89EE-0066-45C8-9606-3F4B6317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E7E4-4E58-4F38-9AC4-3816A8A5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249F8-E5A3-4F68-8588-18CFCD8A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726C-6771-49FD-96DB-58F4B7F0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21CDF-27C2-4BB7-8FC6-AD4602E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50A5A-B303-47D6-89E9-D75DA8F0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7B78-B03C-43E3-98EF-5F1583D6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644-E254-4BD8-B005-5CD04058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EFD8-9764-4255-A94D-05088318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3A49-92EB-4CE6-A655-48B19803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73DC-D103-45F7-96FF-CD969DE0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EC86-7B07-4288-A2EB-902C75E7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61468-7D33-47AA-8C9C-0CA8451E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C9EB-6203-481E-88B8-F271D920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7ECB-B5A3-4D32-A726-8EA329AC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2165E-D466-48EC-9F11-380ED9E1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6FB5-577C-470E-B033-9EB8DB0C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75B5A-4BB6-4E10-8770-9CDCE7FF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280-FCE1-432A-9EF7-E8F04470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90D89-2704-41FD-A5FA-F09A1A83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C949A-C561-436C-A4F5-00CE5AF0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A6956-4E86-4E93-984D-44E35125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37FE0-EA1A-4982-9B5F-F3388F38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B79D-3E2B-4153-81FA-CE713CB9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FDC5-A4CA-4F90-85DD-CBF4E9D4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CCBB2-451A-47A5-829C-ABB2A975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0725E-D8D2-489F-82D8-B91B65C4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DA7F5-DFF0-4140-8FA9-CE7FD9DB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E8D95-383F-4B07-A8E3-61E7F631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03A-CC73-437C-9948-D61C4048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885FD-274C-4269-9A98-E0E92EA8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43CA7-58A3-4E87-A3BA-E0E1310E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F9B88-D793-496B-B8E5-4E9F0707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64F16-9230-4FC2-A146-26E28D70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C36CD-0072-4DE7-9D72-B3D3F7A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594C0-215E-449B-956D-D847F31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70E5-3105-4A94-8CFB-3F0046F5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E1231-2430-43E5-A908-20AD99FF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C1504-26C7-4A66-AF95-E99B18BD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1D229-0B12-49A8-90A5-7FC7BA5E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A53-5D71-404F-8780-9590E614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3E513-7797-4076-9EA2-B6C95423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9D1E1-02AC-40E1-B657-B73AC6EF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F54B2-D232-47B3-8D84-9FB4CC1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5B9F-5F18-40A4-AA3B-172EC16C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DE02-5B78-4FD0-ABF0-2D40CBAB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FC3B7-88E7-4163-9E4C-F44A7FD5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B6BF4-0215-43B0-BAA2-446FADAA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6C4FC-3134-49D1-A25E-E6F6DC12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3EBFE-857B-4D16-8768-8904047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508F1-A319-4A4D-814B-D2EA049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1002-D819-4E08-BED5-BB959114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4649C-BFDA-420C-8F16-99A30EA6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990C1-23E0-4BEE-84E3-25FEB4BE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3CC93-9499-4397-9308-A5B6E5B7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BAD-E6CD-4703-86EB-ABF4E8B7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72A-70AB-4F74-8C38-74ED3954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4F91-0B4B-43DA-AFDA-9283CA91C3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0F66-08BB-4741-9892-735D8B171A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704-0D3F-4D19-A62E-13D2E178C9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813D-ED78-433B-BC9A-ECCF096413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2F8A-2614-453E-93AB-4AF05D44BE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83C8-4ED6-40DC-935D-90E32AA936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29351"/>
          <p:cNvPicPr/>
          <p:nvPr/>
        </p:nvPicPr>
        <p:blipFill>
          <a:blip r:embed="rId1"/>
          <a:stretch/>
        </p:blipFill>
        <p:spPr>
          <a:xfrm>
            <a:off x="539640" y="404640"/>
            <a:ext cx="4103640" cy="5832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6215040" y="549360"/>
            <a:ext cx="23749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海伦</a:t>
            </a:r>
            <a:r>
              <a:rPr b="1" lang="en-US" sz="7200" spc="-1" strike="noStrike">
                <a:solidFill>
                  <a:srgbClr val="ffcc00"/>
                </a:solidFill>
                <a:latin typeface="Arial"/>
                <a:ea typeface="楷体_GB2312"/>
              </a:rPr>
              <a:t>·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凯勒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  <p:sndAc>
      <p:stSnd>
        <p:snd r:embed="rId2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755640" y="191628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伦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凯勒一生的事迹不枚胜举。本课主要写了（       ）（         ）这两件感人的故事。这些故事中她          和            的精神深深地鼓舞和震撼着我们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"/>
          <p:cNvSpPr/>
          <p:nvPr/>
        </p:nvSpPr>
        <p:spPr>
          <a:xfrm>
            <a:off x="5580000" y="4581360"/>
            <a:ext cx="273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1403280" y="522936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1187280" y="189000"/>
            <a:ext cx="3672000" cy="158436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粗活意简体"/>
              </a:rPr>
              <a:t>课文内容我知道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6408720" y="249228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学盲文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1619280" y="321300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学说话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5580000" y="378936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不屈不挠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763640" y="4508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热爱生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学习任务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作者是怎样描写海伦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凯勒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读课文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边读边画出描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海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凯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句子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想想你从中感受到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21304"/>
                </a:solidFill>
                <a:latin typeface="Times New Roman"/>
              </a:rPr>
              <a:t>自读课文第一自然段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5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体会失明失聪后的海伦凯勒的心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哪些词语、句子能看出来小海伦当时的心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971280" y="549000"/>
            <a:ext cx="7777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幸的小海伦，在生了一场重病之后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双目失明，双耳失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天哪，谁能想到，当时她才是一个一岁半的娃娃呀！从此，小海伦与有声有色的世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隔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了。她面对着的是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无边无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黑暗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死一般的沉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她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不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喊一声“妈妈”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也不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倾诉心中的希望和要求。她变得暴躁起来，脾气越来越坏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971640" y="1988640"/>
            <a:ext cx="76197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哪，谁能想到，当时她才是一个一岁半的娃娃呀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此，小海伦与有声有色的世界隔绝了。她面对着的是无边无际的黑暗和死一般的沉寂。她不能喊一声“妈妈”，也不能倾诉心中的希望和要求。她变得暴躁起来，脾气越来越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凯勒这种不屈不挠的奋斗精神，永远留在诗人的心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1332000" y="69228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谁来读一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怎样写一个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42560" y="1341360"/>
            <a:ext cx="762012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抓住人物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过几件具体的事例来表现人物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篇文章中人物的特点是怎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通过那几件事来表现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最少的文字来说应该怎么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258920" y="4797360"/>
            <a:ext cx="669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屈不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练习阅读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 练习说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过渡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</a:t>
            </a: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庭教师安妮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利文来到了海伦身边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她不分昼夜，像一块干燥的海绵吮吸着知识的甘霖。她拼命摸读盲文，不停地书写单词和句子。她是这样地如饥似渴，以至小小的手指头都摸出了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0" y="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学盲文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她不分昼夜，像一块干燥的海绵吮吸着知识的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甘霖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她拼命摸读盲文，不停地书写单词和句子。她是这样地如饥似渴，以至小小的手指头都摸出了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她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不分昼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，像一块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干燥的海绵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吮吸着知识的甘霖。她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拼命摸读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盲文，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不停地书写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单词和句子。她是这样地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如饥似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，以至小小的手指头都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摸出了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H3]LCRS597S0LQZ6D]VR8ZM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就这样，海伦学会了阅读、书写和算术，学会了用手指“说话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808200" y="1844640"/>
            <a:ext cx="779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她心中充满了前所未有的喜悦，感到生命有了新的开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971640" y="2276640"/>
            <a:ext cx="73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识打开了海伦的眼界，增强了海伦生活的勇气和信心。她有时在林中漫步，有时和朋友们在湖上泛舟。她在想象中感受着这个世界。“我常常感觉到一阵微风吹过，花瓣散落在我身上。于是我把落日想象为一座很大的玫瑰园，园中的花瓣从空中纷纷扬扬地落下来。”她用这样动人的笔调描绘着她心中“看”到的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08200" y="1844640"/>
            <a:ext cx="77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使我的伙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即使是最亲密的伙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能听懂我的话，我夜以继日地努力，反复高声朗读某些词语或句子，有时甚至要读几个小时，直到自己觉得读对了为止。我每天坚持着练习，练习，练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808200" y="2060640"/>
            <a:ext cx="779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0" y="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学说话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使我的伙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即使是最亲密的伙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能听懂我的话，我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夜以继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地努力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反复高声朗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某些词语或句子，有时甚至要读几个小时，直到自己觉得读对了为止。我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每天坚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着练习，练习，练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…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08200" y="2060640"/>
            <a:ext cx="779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伦回到家里，大声喊道：“爸爸，妈妈，我回来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刹那间，爸爸和妈妈紧紧地抱住了海岸，留下了兴奋的泪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海伦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凯勒这种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不屈不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奋斗精神，永远留在诗人的心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455840" y="1989000"/>
            <a:ext cx="71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3"/>
          <p:cNvPicPr/>
          <p:nvPr/>
        </p:nvPicPr>
        <p:blipFill>
          <a:blip r:embed="rId1"/>
          <a:stretch/>
        </p:blipFill>
        <p:spPr>
          <a:xfrm>
            <a:off x="1476360" y="0"/>
            <a:ext cx="62704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1835280" y="13413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是人们把活着的每一天都看成是生命的最后一天该有多好啊！这就可能显出生命的价值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  <p:sndAc>
      <p:stSnd>
        <p:snd r:embed="rId1" name="type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042920" y="1341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403280" y="1557360"/>
            <a:ext cx="691380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只要朝着阳光，便不会看见阴影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冲出黑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  <p:sndAc>
      <p:stSnd>
        <p:snd r:embed="rId1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elen-keller"/>
          <p:cNvPicPr/>
          <p:nvPr/>
        </p:nvPicPr>
        <p:blipFill>
          <a:blip r:embed="rId1"/>
          <a:stretch/>
        </p:blipFill>
        <p:spPr>
          <a:xfrm>
            <a:off x="1116000" y="1197000"/>
            <a:ext cx="3311640" cy="4896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3"/>
          <p:cNvSpPr/>
          <p:nvPr/>
        </p:nvSpPr>
        <p:spPr>
          <a:xfrm>
            <a:off x="4643280" y="33336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海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凯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1880--1968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427640" y="4653000"/>
            <a:ext cx="432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岁半时因病成了一个盲聋哑人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家庭教师沙利文热情关怀、精心辅导下，她凭着自己顽强的毅力，学习了数学、自然、法语、德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500720" y="1628640"/>
            <a:ext cx="43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4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以优异的成绩哈佛大学女子学院毕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荣获总统自由勋章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被授予美国公民最高荣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总统自由勋章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6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又被推选为世界十名杰出妇女之一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她在一生中完成了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部著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714920" y="785880"/>
            <a:ext cx="35272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美国著名女作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079640" y="83664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在我四周的一切也许沉默黑暗，但在我心中，我的灵性里却有音乐和光明，我的一切思想都闪耀着色彩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敞开的门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  <p:sndAc>
      <p:stSnd>
        <p:snd r:embed="rId1" name="arrow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1332000" y="1197000"/>
            <a:ext cx="7343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记住一种精神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不屈不挠 、  战胜命运的精神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请记住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海伦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﹒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凯勒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  <p:sndAc>
      <p:stSnd>
        <p:snd r:embed="rId1" name="coin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1476360" y="1484280"/>
            <a:ext cx="719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记住一种品格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热爱生命、  忘我付出的品格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请记住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海伦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﹒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凯勒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  <p:sndAc>
      <p:stSnd>
        <p:snd r:embed="rId1" name="suction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971640" y="90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记住一个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个值得永远怀念的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一个永远激励我们不断向前的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请记住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海伦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﹒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凯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r"/>
    <p:sndAc>
      <p:stSnd>
        <p:snd r:embed="rId1" name="voltag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AutoShape 5"/>
          <p:cNvSpPr/>
          <p:nvPr/>
        </p:nvSpPr>
        <p:spPr>
          <a:xfrm>
            <a:off x="971640" y="404640"/>
            <a:ext cx="3887640" cy="1152720"/>
          </a:xfrm>
          <a:prstGeom prst="horizontalScroll">
            <a:avLst>
              <a:gd name="adj" fmla="val 125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258920" y="549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一比，组词语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1116000" y="1916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燥（     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1042920" y="292428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躁（     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1042920" y="4005360"/>
            <a:ext cx="32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噪（     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10"/>
          <p:cNvSpPr/>
          <p:nvPr/>
        </p:nvSpPr>
        <p:spPr>
          <a:xfrm>
            <a:off x="4932360" y="191628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挠（       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5076720" y="2924280"/>
            <a:ext cx="32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绕（     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5076720" y="3789360"/>
            <a:ext cx="32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饶（     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2411280" y="2997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暴躁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4"/>
          <p:cNvSpPr/>
          <p:nvPr/>
        </p:nvSpPr>
        <p:spPr>
          <a:xfrm>
            <a:off x="2484360" y="1989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燥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5"/>
          <p:cNvSpPr/>
          <p:nvPr/>
        </p:nvSpPr>
        <p:spPr>
          <a:xfrm>
            <a:off x="2340000" y="4005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噪音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6084720" y="191628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屈不挠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6372360" y="285264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缠绕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6443640" y="378936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富饶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19"/>
          <p:cNvSpPr/>
          <p:nvPr/>
        </p:nvSpPr>
        <p:spPr>
          <a:xfrm>
            <a:off x="826920" y="2349360"/>
            <a:ext cx="360360" cy="2016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20"/>
          <p:cNvSpPr/>
          <p:nvPr/>
        </p:nvSpPr>
        <p:spPr>
          <a:xfrm>
            <a:off x="4859280" y="2349360"/>
            <a:ext cx="217440" cy="1943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5"/>
          <p:cNvSpPr/>
          <p:nvPr/>
        </p:nvSpPr>
        <p:spPr>
          <a:xfrm>
            <a:off x="755640" y="191628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伦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凯勒一生的事迹不枚胜举。本课主要写了（       ）（         ）这两件感人的故事。这些故事中她          和            的精神深深地鼓舞和震撼着我们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5580000" y="4581360"/>
            <a:ext cx="273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1403280" y="522936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8"/>
          <p:cNvSpPr/>
          <p:nvPr/>
        </p:nvSpPr>
        <p:spPr>
          <a:xfrm>
            <a:off x="1187280" y="189000"/>
            <a:ext cx="3672000" cy="1584360"/>
          </a:xfrm>
          <a:prstGeom prst="irregularSeal2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粗活意简体"/>
              </a:rPr>
              <a:t>我能行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408720" y="249228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学盲文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1"/>
          <p:cNvSpPr/>
          <p:nvPr/>
        </p:nvSpPr>
        <p:spPr>
          <a:xfrm>
            <a:off x="1619280" y="321300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学说话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2"/>
          <p:cNvSpPr/>
          <p:nvPr/>
        </p:nvSpPr>
        <p:spPr>
          <a:xfrm>
            <a:off x="5580000" y="378936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不屈不挠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3"/>
          <p:cNvSpPr/>
          <p:nvPr/>
        </p:nvSpPr>
        <p:spPr>
          <a:xfrm>
            <a:off x="1763640" y="4508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热爱生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971640" y="83664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课外延伸及作业：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11280" y="1989000"/>
            <a:ext cx="82436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以“海伦，我想对你说”写写自己的感受。                 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阅读海伦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凯勒的作品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假如给我三天光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冲出黑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等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53272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不能改变天气，但是可以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改变心情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不能改变容貌，但是可以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展现笑容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不能决定他人，但是可以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把握自己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不能预知明天，但是可以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利用今天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我们不能样样顺利，但是可以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事事尽心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WordArt 3"/>
          <p:cNvSpPr txBox="1"/>
          <p:nvPr/>
        </p:nvSpPr>
        <p:spPr>
          <a:xfrm>
            <a:off x="2124000" y="549360"/>
            <a:ext cx="3240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老师的话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newsflash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扫描"/>
          <p:cNvPicPr/>
          <p:nvPr/>
        </p:nvPicPr>
        <p:blipFill>
          <a:blip r:embed="rId1"/>
          <a:stretch/>
        </p:blipFill>
        <p:spPr>
          <a:xfrm>
            <a:off x="1979640" y="26028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1258920" y="404640"/>
            <a:ext cx="72072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116000" y="333360"/>
            <a:ext cx="549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445400" y="-52200"/>
            <a:ext cx="789840" cy="70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少年时期的海伦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﹒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凯勒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Object 4"/>
          <p:cNvGraphicFramePr/>
          <p:nvPr/>
        </p:nvGraphicFramePr>
        <p:xfrm>
          <a:off x="2484360" y="260280"/>
          <a:ext cx="511200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60280"/>
                    <a:ext cx="51120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8"/>
          <p:cNvSpPr/>
          <p:nvPr/>
        </p:nvSpPr>
        <p:spPr>
          <a:xfrm>
            <a:off x="919800" y="981000"/>
            <a:ext cx="11552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年时期的海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﹒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凯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2133720" y="16002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057400" y="198108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7" descr="3"/>
          <p:cNvPicPr/>
          <p:nvPr/>
        </p:nvPicPr>
        <p:blipFill>
          <a:blip r:embed="rId1"/>
          <a:stretch/>
        </p:blipFill>
        <p:spPr>
          <a:xfrm>
            <a:off x="1763640" y="260280"/>
            <a:ext cx="6050160" cy="61912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9"/>
          <p:cNvSpPr/>
          <p:nvPr/>
        </p:nvSpPr>
        <p:spPr>
          <a:xfrm>
            <a:off x="7888680" y="260280"/>
            <a:ext cx="6678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老年时期的海伦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﹒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凯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71640" y="47592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朗读课文，要求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准字音，读顺句子，把全文读通，生字词语的地方多读几遍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课文写了海伦的哪些感人事迹？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187280" y="198900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边框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755640" y="620640"/>
            <a:ext cx="860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隔绝    沉寂    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脾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 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吮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    甘霖    泛舟    描绘    盲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哑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暴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躁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干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燥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倾注    倾诉   包扎    散落    笔调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玫瑰园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刹那间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type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1116000" y="1413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猛然醒悟  前所未有     不分昼夜  如饥似渴     夜以继日  不屈不</a:t>
            </a:r>
            <a:r>
              <a:rPr b="1" lang="zh-CN" sz="6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挠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6-03-25T03:36:10Z</dcterms:modified>
  <cp:revision>102</cp:revision>
  <dc:subject/>
  <dc:title>PowerPoint Presentation</dc:title>
</cp:coreProperties>
</file>